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962-759D-4485-BB48-A52F7AB2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E85-F22D-4B71-8C13-C53A4406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EAD-8631-40C8-85C8-4B18DE1E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87D-C911-4CF8-931D-9D1E0941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661-F31F-4B0F-A72B-AAD7D54F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A0D-556D-4F0D-965C-0B88D4B5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A4C-8978-436F-B0B0-97645893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611-B188-481D-BC63-CC5C6EF8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A0F-2C41-4F4E-A5C3-342602BA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7F2-33DD-4FCC-8B54-E23BF6C4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7F2-86A2-4856-8902-5325631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D2D-DA62-4045-AB15-CAABA49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E9B8-AB4A-49E9-9DAA-F3B72B1131F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香港市民遊戲機玩樂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行為及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9568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0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50960" y="2057400"/>
          <a:ext cx="787860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2057400"/>
                    <a:ext cx="78786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709560"/>
            <a:ext cx="813564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(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每日打機者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每日打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機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時間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638680" y="2438280"/>
          <a:ext cx="2300400" cy="1460520"/>
        </p:xfrm>
        <a:graphic>
          <a:graphicData uri="http://schemas.openxmlformats.org/drawingml/2006/table">
            <a:tbl>
              <a:tblPr/>
              <a:tblGrid>
                <a:gridCol w="1150920"/>
                <a:gridCol w="1149480"/>
              </a:tblGrid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.8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3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.0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8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101920" y="63752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小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意見認為玩遊戲機可以達到以下功能，請問你是否同意以下功能呢？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1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829480"/>
            <a:ext cx="20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消閒娛樂／打發時間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09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8000" y="5829480"/>
            <a:ext cx="165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聯誼／結識朋友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5850000"/>
            <a:ext cx="165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減壓／調劑心情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824120"/>
          <a:ext cx="839304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4120"/>
                    <a:ext cx="839304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意見認為玩遊戲機可以達到以下功能，請問你是否同意以下功能呢？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2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972040"/>
            <a:ext cx="201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訓練思維／邏輯思考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943600"/>
            <a:ext cx="144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學習新知識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950080"/>
            <a:ext cx="244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增強溝通技巧／團隊精神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: 510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676520"/>
          <a:ext cx="8107200" cy="44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1072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1413000"/>
          <a:ext cx="8382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13000"/>
                    <a:ext cx="8382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5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有沒有試過因為玩遊戲機而出現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下負面影響？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57720"/>
            <a:ext cx="100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當企圖減少或停止玩遊戲機時，會覺得不安及暴躁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515772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玩遊戲機是為逃避問題或緩和情緒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5157720"/>
            <a:ext cx="100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多次努力想控制或停止玩遊戲機，但總失敗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02480" y="51814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以上皆無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5181480"/>
            <a:ext cx="10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際關係差／經常向其他人講大話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45080" y="5181480"/>
            <a:ext cx="100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除食飯或洗澡外，其餘時間都用於玩遊戲機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518148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成功感較低／欠缺人生目標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61720" y="23623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6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6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在通常在哪裡玩遊戲機？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58920" y="1752480"/>
          <a:ext cx="848016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1752480"/>
                    <a:ext cx="8480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601992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網吧／遊戲機中心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60199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乘搭或等候交通工具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47080" y="19890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29040" y="1704960"/>
            <a:ext cx="5904000" cy="3449880"/>
            <a:chOff x="3029040" y="1704960"/>
            <a:chExt cx="5904000" cy="3449880"/>
          </a:xfrm>
        </p:grpSpPr>
        <p:graphicFrame>
          <p:nvGraphicFramePr>
            <p:cNvPr id="125" name=""/>
            <p:cNvGraphicFramePr/>
            <p:nvPr/>
          </p:nvGraphicFramePr>
          <p:xfrm>
            <a:off x="3029040" y="1704960"/>
            <a:ext cx="5904000" cy="3157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9040" y="1704960"/>
                      <a:ext cx="5904000" cy="315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>
              <a:off x="5529600" y="4878360"/>
              <a:ext cx="146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** </a:t>
              </a:r>
              <a:r>
                <a:rPr b="0" lang="zh-TW" sz="12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結果在 </a:t>
              </a:r>
              <a:r>
                <a:rPr b="0" lang="zh-TW" sz="12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p &lt; 0.01 </a:t>
              </a:r>
              <a:r>
                <a:rPr b="0" lang="zh-TW" sz="12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置信水平之內變化顯著。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7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最鍾意玩哪一款遊戲機種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363680"/>
          <a:ext cx="91584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63680"/>
                    <a:ext cx="91584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04920" y="22096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80360" y="57801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沒有最鍾意玩的機種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0560" y="5780160"/>
            <a:ext cx="90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PDA, </a:t>
            </a:r>
            <a:r>
              <a:rPr b="0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手提電話等內置遊戲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57801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Xbox </a:t>
            </a:r>
            <a:r>
              <a:rPr b="0" lang="zh-CN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Xbox 360</a:t>
            </a:r>
            <a:r>
              <a:rPr b="1" lang="en-US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60400" y="1944720"/>
            <a:ext cx="749772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7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最鍾意玩哪一款遊戲機種？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610080"/>
            <a:ext cx="15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PDA,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手提電話等內置遊戲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8800" y="6172200"/>
            <a:ext cx="16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595440" y="1484280"/>
          <a:ext cx="809928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84280"/>
                    <a:ext cx="80992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8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以遊戲既開發地區分類，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最喜歡玩哪個地區的遊戲軟件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47720" y="2666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9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請問你總共買了多少隻</a:t>
            </a:r>
            <a:br>
              <a:rPr sz="3200"/>
            </a:br>
            <a:r>
              <a:rPr b="1" lang="zh-TW" sz="32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正版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軟件？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4600" y="1857240"/>
          <a:ext cx="857736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57240"/>
                    <a:ext cx="857736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495680" y="2514600"/>
          <a:ext cx="3889440" cy="109548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</a:tblGrid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9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1 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0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62080" y="1981080"/>
          <a:ext cx="857700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981080"/>
                    <a:ext cx="85770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你總共下載了（即透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BT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任何途徑），或者用錢買了多少隻</a:t>
            </a:r>
            <a:r>
              <a:rPr b="1" lang="zh-TW" sz="28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翻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軟件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105520" y="2438280"/>
          <a:ext cx="3047400" cy="1523880"/>
        </p:xfrm>
        <a:graphic>
          <a:graphicData uri="http://schemas.openxmlformats.org/drawingml/2006/table">
            <a:tbl>
              <a:tblPr/>
              <a:tblGrid>
                <a:gridCol w="1525680"/>
                <a:gridCol w="1521720"/>
              </a:tblGrid>
              <a:tr h="5076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5 </a:t>
                      </a: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 </a:t>
                      </a: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0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086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及調查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0" algn="just">
              <a:lnSpc>
                <a:spcPct val="12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的娛樂消費模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玩遊戲機的經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最受歡迎遊戲機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購買及下載遊戲軟件的習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受訪者對新遊戲機的興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簡單總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你總共下載了（即透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BT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任何途徑），或者用錢買了多少隻</a:t>
            </a:r>
            <a:r>
              <a:rPr b="1" lang="zh-TW" sz="28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翻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軟件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17600" y="1352520"/>
          <a:ext cx="852336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352520"/>
                    <a:ext cx="8523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224040" y="6197760"/>
            <a:ext cx="15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5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724280" y="1943280"/>
          <a:ext cx="4191120" cy="1638000"/>
        </p:xfrm>
        <a:graphic>
          <a:graphicData uri="http://schemas.openxmlformats.org/drawingml/2006/table">
            <a:tbl>
              <a:tblPr/>
              <a:tblGrid>
                <a:gridCol w="911520"/>
                <a:gridCol w="865080"/>
                <a:gridCol w="820800"/>
                <a:gridCol w="819000"/>
                <a:gridCol w="774720"/>
              </a:tblGrid>
              <a:tr h="39960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整體答案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5-2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1-3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1-4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5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7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9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1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3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3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0.2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隻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0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9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6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1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玩的遊戲主機是否已經改裝，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例如將操作系統版本降級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2560" y="2057400"/>
          <a:ext cx="7866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57400"/>
                    <a:ext cx="7866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680880" y="2438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一年內，你總共花多少錢在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網絡遊戲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online games)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31840" y="1844640"/>
          <a:ext cx="84042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844640"/>
                    <a:ext cx="84042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284720" y="2362320"/>
          <a:ext cx="3744720" cy="1330200"/>
        </p:xfrm>
        <a:graphic>
          <a:graphicData uri="http://schemas.openxmlformats.org/drawingml/2006/table">
            <a:tbl>
              <a:tblPr/>
              <a:tblGrid>
                <a:gridCol w="1873080"/>
                <a:gridCol w="1871640"/>
              </a:tblGrid>
              <a:tr h="434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4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0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04920" y="1828800"/>
          <a:ext cx="865980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6598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3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當玩網絡遊戲時，你會較喜歡用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下哪一種付款方法呢？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28600" y="2438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4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最喜歡玩哪一款遊戲類別？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27040" y="1814400"/>
          <a:ext cx="816120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814400"/>
                    <a:ext cx="816120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680880" y="20574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14.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現時最喜歡玩哪一款遊戲類別？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79520" y="2009880"/>
          <a:ext cx="819612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2009880"/>
                    <a:ext cx="819612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787440" y="2060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69360"/>
            <a:ext cx="838224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5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果今年底市場推出一個提供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Online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網上遊戲平台）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播放高清影像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High Definition)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，例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Blu-ray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藍光光碟）的全新功能電視遊戲機，你會有興趣購買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?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0600" y="1844640"/>
          <a:ext cx="82850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844640"/>
                    <a:ext cx="82850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00160" y="20606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調查明確顯示，電子戲機已經成為</a:t>
            </a:r>
            <a:r>
              <a:rPr b="1" lang="zh-TW" sz="2200" spc="-1" strike="noStrike">
                <a:solidFill>
                  <a:srgbClr val="ffff00"/>
                </a:solidFill>
                <a:latin typeface="標楷體"/>
                <a:ea typeface="標楷體"/>
              </a:rPr>
              <a:t>年青人的時尚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。在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歲的被訪巿民當中，超過四成都是每星期甚至每天「打機」數次，值得正視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不過，以消費而論，巿民用在電子戲機方面的支出並不太多，只佔大概</a:t>
            </a:r>
            <a:r>
              <a:rPr b="1" lang="zh-TW" sz="2200" spc="-1" strike="noStrike">
                <a:solidFill>
                  <a:srgbClr val="ffff00"/>
                </a:solidFill>
                <a:latin typeface="標楷體"/>
                <a:ea typeface="標楷體"/>
              </a:rPr>
              <a:t>整體消閒娛樂花費的六分一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左右。箇中原因，可能涉及盜版問題。當然，電腦網絡迅速普及，和網上版權開放的發展，亦可能是重要原因。</a:t>
            </a:r>
            <a:r>
              <a:rPr b="0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由於調查要求被訪者自我匯報曾否下載翻版，和自我評價電子遊戲的正反影響，被訪者可能傾向提供比較正面的答案。因此，下載翻版遊戲的</a:t>
            </a:r>
            <a:r>
              <a:rPr b="1" lang="zh-TW" sz="2200" spc="-1" strike="noStrike">
                <a:solidFill>
                  <a:srgbClr val="ffff00"/>
                </a:solidFill>
                <a:latin typeface="標楷體"/>
                <a:ea typeface="標楷體"/>
              </a:rPr>
              <a:t>實際情況可能比是次調查所得的結果較為嚴重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r>
              <a:rPr b="0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但無論如何，大部份巿民都認為電子遊戲可以</a:t>
            </a:r>
            <a:r>
              <a:rPr b="1" lang="zh-TW" sz="2200" spc="-1" strike="noStrike">
                <a:solidFill>
                  <a:srgbClr val="ffff00"/>
                </a:solidFill>
                <a:latin typeface="標楷體"/>
                <a:ea typeface="標楷體"/>
              </a:rPr>
              <a:t>消閑減壓和訓練思考</a:t>
            </a:r>
            <a:r>
              <a:rPr b="1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，其他因素只屬次要。如果遊戲設計者和教育工作者都能抓緊巿民這方面的訴求，好好發展電子遊戲的優勢，和教導巿民如何避免沉迷遊戲，整個社會都會有所得著。</a:t>
            </a:r>
            <a:r>
              <a:rPr b="0" lang="zh-TW" sz="2200" spc="-1" strike="noStrike">
                <a:solidFill>
                  <a:srgbClr val="ccecff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21932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一般市民玩遊戲機的行為及有關意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新力電腦娛樂公司後獨立設計，所有操作、數據收集及分析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由民研計劃獨立進行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方法和結果全面公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002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4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5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40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操粵語的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香港居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：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訪問員直接進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電話訪問，訪問員在成功接觸目標住戶後，再從住戶內符合條件的成員中以出生日期抽取一人接受訪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510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效回應比率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70.1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%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少於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+/- 2.2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一般來說，你每個月大約花多少錢在消閒娛樂方面？例如運動、看戲、唱卡拉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OK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、打機等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1880" y="1774800"/>
          <a:ext cx="7721640" cy="48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74800"/>
                    <a:ext cx="772164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791320" y="2362320"/>
          <a:ext cx="2050920" cy="135576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698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3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每個月大約花多少錢在玩遊戲機方面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包括電腦遊戲、電視遊戲、手提遊戲、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機中心打機、相關書刊及精品等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1880" y="1774800"/>
          <a:ext cx="773604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74800"/>
                    <a:ext cx="773604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410080" y="2286000"/>
          <a:ext cx="2051280" cy="135576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27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每個月大約花多少錢在玩遊戲機方面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包括電腦遊戲、電視遊戲、手提遊戲、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機中心打機、相關書刊及精品等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4080" y="1089000"/>
          <a:ext cx="8761320" cy="52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089000"/>
                    <a:ext cx="87613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79160" y="6237360"/>
            <a:ext cx="16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1828800"/>
          <a:ext cx="4190760" cy="1599840"/>
        </p:xfrm>
        <a:graphic>
          <a:graphicData uri="http://schemas.openxmlformats.org/drawingml/2006/table">
            <a:tbl>
              <a:tblPr/>
              <a:tblGrid>
                <a:gridCol w="911160"/>
                <a:gridCol w="865080"/>
                <a:gridCol w="820080"/>
                <a:gridCol w="819720"/>
                <a:gridCol w="774720"/>
              </a:tblGrid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整體答案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5-2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1-3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1-40</a:t>
                      </a: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歲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2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5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6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9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0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0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22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一直以來有沒有玩過任何遊戲機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包括玩電腦遊戲、電視遊戲、手提電子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及往遊戲機中心打機等。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2144880"/>
          <a:ext cx="8196120" cy="448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44880"/>
                    <a:ext cx="819612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6668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755640"/>
          <a:ext cx="8547120" cy="56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55640"/>
                    <a:ext cx="854712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一直以來有沒有玩過任何遊戲機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包括玩電腦遊戲、電視遊戲、手提電子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遊戲及往遊戲機中心打機等。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22280" y="6286680"/>
            <a:ext cx="16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11-06T07:25:04Z</dcterms:modified>
  <cp:revision>1058</cp:revision>
  <dc:subject/>
  <dc:title>無投影片標題</dc:title>
</cp:coreProperties>
</file>