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8024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948024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D283CE-952F-423F-9BB1-8F971C6573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520AD4-DD41-4815-8E7C-8D52ADB89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4E6103-7BEF-4A2F-B7BE-C5E63B997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18F99E-0019-40A4-BF3F-844C376DA38D}" type="slidenum"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231EBF-97B2-4E06-9FB6-668944F9E6D3}" type="slidenum"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066D60-566E-4CCE-8017-481D68563A55}" type="slidenum"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224755-6F78-47A5-87C4-A1D0BFBAA3B2}" type="slidenum"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B79F0C-4D03-4F14-8C45-92FE527445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0E85A8-DFE1-4D7D-97F6-16D0943DE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1E7BED-1E88-4586-AF73-0CCE5A6AD6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4FD101-C04A-4843-9998-86B8DD9FA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109FC0-533A-4B3E-B12C-B18BA17A39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EECBDA-AED3-4BD6-BB7C-B94A293323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DE1A2D-38DE-4107-8E42-97C8E0F458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0493DB-B53B-4843-BACE-5C8ED890CB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A58EBF-E663-43CC-8D88-93F309C527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948060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C1F205-8577-494B-9A34-CA85FA54DB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254-A04D-4126-8831-CA8A4D75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3CC-88D5-407A-B177-63A13325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84D-0C24-4632-B1A6-9380292B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EC9-B6D3-4322-917F-364B68BF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0847-5E10-4B9B-A6A1-119B0508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8BAE-C848-4A75-9665-80933670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A3B2-FE75-4778-8EF9-BB3FA8CE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7C10-18A3-47CA-8749-76DB65E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44BC-784D-400A-A8CE-D9956D9A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E4C7-E273-4BBB-A97E-0BC2BC9E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4768-453E-4A61-871E-6A46DDCB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D8B-79D2-4AAD-BBFD-6163C043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34BC-BAE2-4A0A-AD52-8D44C7F3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5132-153F-459C-B8C5-F78E9F0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565A-8BFB-4443-95D9-E238BD45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00F5-A862-4A25-8FC6-E86DF075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0780-D2A9-4057-BF60-D601321C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B1B-40BE-4594-AF12-631C00AB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CD1-719A-4FCD-BF2D-E42467B4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093-B8C5-404D-B157-6839965D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A2A-25E8-45F3-9125-828162E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F57-CEB0-4A39-917A-0B550734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421-E7E6-46F4-9F0D-D1BEA5F0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078-4D5F-4CB1-B650-8E17C58E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8F23-03BA-4501-8754-C914C971352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E8B8-0CA1-4C1B-9211-6F660C8D4FE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052"/>
          <p:cNvSpPr/>
          <p:nvPr/>
        </p:nvSpPr>
        <p:spPr>
          <a:xfrm>
            <a:off x="3809880" y="8380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香港大學民意研究計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versity of Hong Ko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Opinion Program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053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免費電視牌照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意見調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鍾庭耀博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香港大學 民意研究計劃 總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2969-ABA3-4A55-A331-3569A2FC145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hart 19" descr=""/>
          <p:cNvPicPr/>
          <p:nvPr/>
        </p:nvPicPr>
        <p:blipFill>
          <a:blip r:embed="rId1"/>
          <a:stretch/>
        </p:blipFill>
        <p:spPr>
          <a:xfrm>
            <a:off x="249120" y="2225520"/>
            <a:ext cx="8418600" cy="4089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B911-4663-4684-8AD7-C98D2528C680}" type="slidenum">
              <a:rPr b="1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9680" y="533160"/>
            <a:ext cx="79930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有影視界人士抗議政府延遲發出免費電視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牌照，咁你有幾支持或反對佢地既行動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4284720" y="3806640"/>
            <a:ext cx="1820520" cy="380880"/>
            <a:chOff x="4284720" y="3806640"/>
            <a:chExt cx="1820520" cy="380880"/>
          </a:xfrm>
        </p:grpSpPr>
        <p:sp>
          <p:nvSpPr>
            <p:cNvPr id="228" name="Line 9"/>
            <p:cNvSpPr/>
            <p:nvPr/>
          </p:nvSpPr>
          <p:spPr>
            <a:xfrm flipV="1">
              <a:off x="4284720" y="3958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4284720" y="395928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 flipV="1">
              <a:off x="5147280" y="3806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 flipV="1">
              <a:off x="6105240" y="3958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981000" y="2288880"/>
            <a:ext cx="1820520" cy="380880"/>
            <a:chOff x="981000" y="2288880"/>
            <a:chExt cx="1820520" cy="380880"/>
          </a:xfrm>
        </p:grpSpPr>
        <p:sp>
          <p:nvSpPr>
            <p:cNvPr id="233" name="Line 9"/>
            <p:cNvSpPr/>
            <p:nvPr/>
          </p:nvSpPr>
          <p:spPr>
            <a:xfrm flipV="1">
              <a:off x="981000" y="2441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981000" y="244152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V="1">
              <a:off x="1843560" y="2288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2"/>
            <p:cNvSpPr/>
            <p:nvPr/>
          </p:nvSpPr>
          <p:spPr>
            <a:xfrm flipV="1">
              <a:off x="2801520" y="2441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Rectangle 13"/>
          <p:cNvSpPr/>
          <p:nvPr/>
        </p:nvSpPr>
        <p:spPr>
          <a:xfrm>
            <a:off x="4427640" y="3429000"/>
            <a:ext cx="1444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反對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16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08560" y="2108160"/>
          <a:ext cx="3200400" cy="669960"/>
        </p:xfrm>
        <a:graphic>
          <a:graphicData uri="http://schemas.openxmlformats.org/drawingml/2006/table">
            <a:tbl>
              <a:tblPr/>
              <a:tblGrid>
                <a:gridCol w="1447920"/>
                <a:gridCol w="761760"/>
                <a:gridCol w="990720"/>
              </a:tblGrid>
              <a:tr h="3351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回答人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量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.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+/-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13"/>
          <p:cNvSpPr/>
          <p:nvPr/>
        </p:nvSpPr>
        <p:spPr>
          <a:xfrm>
            <a:off x="1187280" y="191628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1400" spc="-1" strike="noStrike">
                <a:solidFill>
                  <a:srgbClr val="000000"/>
                </a:solidFill>
                <a:latin typeface="Times New Roman"/>
              </a:rPr>
              <a:t>支持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55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1176480" y="62262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圖表 5"/>
          <p:cNvGraphicFramePr/>
          <p:nvPr/>
        </p:nvGraphicFramePr>
        <p:xfrm>
          <a:off x="547560" y="1628640"/>
          <a:ext cx="81918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圖表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628640"/>
                    <a:ext cx="81918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D455-AB85-4DCB-A1E4-6D675E4B9143}" type="slidenum">
              <a:rPr b="1" lang="zh-TW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訪者性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字方塊 4"/>
          <p:cNvSpPr/>
          <p:nvPr/>
        </p:nvSpPr>
        <p:spPr>
          <a:xfrm>
            <a:off x="1214280" y="592920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5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直線接點 5"/>
          <p:cNvSpPr/>
          <p:nvPr/>
        </p:nvSpPr>
        <p:spPr>
          <a:xfrm>
            <a:off x="826920" y="1413000"/>
            <a:ext cx="7632720" cy="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圖表 4" descr=""/>
          <p:cNvPicPr/>
          <p:nvPr/>
        </p:nvPicPr>
        <p:blipFill>
          <a:blip r:embed="rId1"/>
          <a:stretch/>
        </p:blipFill>
        <p:spPr>
          <a:xfrm>
            <a:off x="1065240" y="1647720"/>
            <a:ext cx="7326360" cy="42768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E0F8-C30B-45B5-88BA-69DB59D075B2}" type="slidenum">
              <a:rPr b="1" lang="zh-TW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訪者年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字方塊 4"/>
          <p:cNvSpPr/>
          <p:nvPr/>
        </p:nvSpPr>
        <p:spPr>
          <a:xfrm>
            <a:off x="1214280" y="592920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0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直線接點 5"/>
          <p:cNvSpPr/>
          <p:nvPr/>
        </p:nvSpPr>
        <p:spPr>
          <a:xfrm>
            <a:off x="826920" y="1413000"/>
            <a:ext cx="7632720" cy="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52B7-6518-4263-A539-55AC0D486ADA}" type="slidenum">
              <a:rPr b="1" lang="zh-TW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訪者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程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圖表 4" descr=""/>
          <p:cNvPicPr/>
          <p:nvPr/>
        </p:nvPicPr>
        <p:blipFill>
          <a:blip r:embed="rId1"/>
          <a:stretch/>
        </p:blipFill>
        <p:spPr>
          <a:xfrm>
            <a:off x="826920" y="1563840"/>
            <a:ext cx="7612200" cy="4890960"/>
          </a:xfrm>
          <a:prstGeom prst="rect">
            <a:avLst/>
          </a:prstGeom>
          <a:ln w="0">
            <a:noFill/>
          </a:ln>
        </p:spPr>
      </p:pic>
      <p:sp>
        <p:nvSpPr>
          <p:cNvPr id="256" name="文字方塊 4"/>
          <p:cNvSpPr/>
          <p:nvPr/>
        </p:nvSpPr>
        <p:spPr>
          <a:xfrm>
            <a:off x="971640" y="6273720"/>
            <a:ext cx="2214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19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直線接點 5"/>
          <p:cNvSpPr/>
          <p:nvPr/>
        </p:nvSpPr>
        <p:spPr>
          <a:xfrm>
            <a:off x="826920" y="1413000"/>
            <a:ext cx="7632720" cy="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99A8-4159-49AB-BFDE-3368B480190A}" type="slidenum">
              <a:rPr b="1" lang="zh-TW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訪者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圖表 4" descr=""/>
          <p:cNvPicPr/>
          <p:nvPr/>
        </p:nvPicPr>
        <p:blipFill>
          <a:blip r:embed="rId1"/>
          <a:stretch/>
        </p:blipFill>
        <p:spPr>
          <a:xfrm>
            <a:off x="633240" y="1552680"/>
            <a:ext cx="7612200" cy="4540320"/>
          </a:xfrm>
          <a:prstGeom prst="rect">
            <a:avLst/>
          </a:prstGeom>
          <a:ln w="0">
            <a:noFill/>
          </a:ln>
        </p:spPr>
      </p:pic>
      <p:sp>
        <p:nvSpPr>
          <p:cNvPr id="261" name="文字方塊 4"/>
          <p:cNvSpPr/>
          <p:nvPr/>
        </p:nvSpPr>
        <p:spPr>
          <a:xfrm>
            <a:off x="1214280" y="604188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11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直線接點 5"/>
          <p:cNvSpPr/>
          <p:nvPr/>
        </p:nvSpPr>
        <p:spPr>
          <a:xfrm>
            <a:off x="826920" y="1413000"/>
            <a:ext cx="7632720" cy="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總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55640" y="1628280"/>
            <a:ext cx="76010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7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市民滿意現時兩間免費電視台播放的節目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不滿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有意發出新免費電視牌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5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支持，只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對</a:t>
            </a:r>
            <a:r>
              <a:rPr b="0" lang="zh-HK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於政府至今仍未對三個免費電視牌照的申請作出決定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1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不滿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約三分一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4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沒有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人要為此負上政治責任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認為</a:t>
            </a:r>
            <a:r>
              <a:rPr b="1" lang="zh-HK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蘇錦樑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曾蔭權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或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梁振英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應負上政治責任的比率，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別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9%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約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成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8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無法估計政府為何至今仍未發出第三間免費電視牌照</a:t>
            </a:r>
            <a:r>
              <a:rPr b="0" lang="zh-HK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為是基於「政治考慮」、「商業考慮」和「技術問題」分別有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1%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%</a:t>
            </a:r>
            <a:r>
              <a:rPr b="0" lang="zh-HK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若有影視界人士抗議政府延遲發出免費電視牌照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5%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支持有關行動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6%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表示反對</a:t>
            </a:r>
            <a:r>
              <a:rPr b="0" lang="zh-HK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755640" y="12682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1A17-2638-410D-9FFC-4966D00AC56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4760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DE75-A02B-4897-966D-CF523BC9B77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000" y="2357280"/>
            <a:ext cx="7769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調查目的：探討市民對對政府有意發出新免費電視牌照的意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調查問卷由港大民研計劃諮詢社區發展動力培育</a:t>
            </a:r>
            <a:r>
              <a:rPr b="1" lang="en-US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(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CDI</a:t>
            </a:r>
            <a:r>
              <a:rPr b="1" lang="en-US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800" spc="-1" strike="noStrike" u="sng">
                <a:solidFill>
                  <a:srgbClr val="1f497d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800" spc="-1" strike="noStrike">
                <a:solidFill>
                  <a:srgbClr val="1f497d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EA70-0526-4DF1-8B61-0926378CEA4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資料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1720" indent="-170172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12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年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11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8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至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11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18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歲或以上操粵語的香港居民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由訪員直接進行電話訪問，訪員在成功接觸目標住戶後，再從住戶內找出符合條件的人接受訪問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7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525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成功個案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回應比率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62.2%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01720" indent="-170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701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在</a:t>
            </a:r>
            <a:r>
              <a:rPr b="1" lang="en-US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95%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700" spc="-1" strike="noStrike" u="sng">
                <a:solidFill>
                  <a:srgbClr val="1f497d"/>
                </a:solidFill>
                <a:uFillTx/>
                <a:latin typeface="Times New Roman"/>
                <a:ea typeface="標楷體"/>
              </a:rPr>
              <a:t>+/- 4.4</a:t>
            </a:r>
            <a:r>
              <a:rPr b="1" lang="zh-TW" sz="27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百分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762120" y="198108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1709-BBFB-44E8-B486-D9BF4C6E341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hart 19" descr=""/>
          <p:cNvPicPr/>
          <p:nvPr/>
        </p:nvPicPr>
        <p:blipFill>
          <a:blip r:embed="rId1"/>
          <a:stretch/>
        </p:blipFill>
        <p:spPr>
          <a:xfrm>
            <a:off x="463680" y="2535120"/>
            <a:ext cx="7931160" cy="3969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09B0-0EB4-4CF3-9B6A-1DE80076CA8D}" type="slidenum">
              <a:rPr b="1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533160"/>
            <a:ext cx="79930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滿意或者不滿兩間免費電視台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無線電視及亞洲電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現時播放既節目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5029200" y="3768480"/>
            <a:ext cx="1820520" cy="380880"/>
            <a:chOff x="5029200" y="3768480"/>
            <a:chExt cx="1820520" cy="380880"/>
          </a:xfrm>
        </p:grpSpPr>
        <p:sp>
          <p:nvSpPr>
            <p:cNvPr id="109" name="Line 9"/>
            <p:cNvSpPr/>
            <p:nvPr/>
          </p:nvSpPr>
          <p:spPr>
            <a:xfrm flipV="1">
              <a:off x="5029200" y="392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5029200" y="392112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 flipV="1">
              <a:off x="5891760" y="376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 flipV="1">
              <a:off x="6849720" y="392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1274760" y="2255400"/>
            <a:ext cx="1820520" cy="380880"/>
            <a:chOff x="1274760" y="2255400"/>
            <a:chExt cx="1820520" cy="380880"/>
          </a:xfrm>
        </p:grpSpPr>
        <p:sp>
          <p:nvSpPr>
            <p:cNvPr id="114" name="Line 9"/>
            <p:cNvSpPr/>
            <p:nvPr/>
          </p:nvSpPr>
          <p:spPr>
            <a:xfrm flipV="1">
              <a:off x="1274760" y="240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>
              <a:off x="1274760" y="240804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 flipV="1">
              <a:off x="2137320" y="2255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3095280" y="240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13"/>
          <p:cNvSpPr/>
          <p:nvPr/>
        </p:nvSpPr>
        <p:spPr>
          <a:xfrm>
            <a:off x="5207040" y="344952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不滿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26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594400" y="2108160"/>
          <a:ext cx="3200400" cy="669960"/>
        </p:xfrm>
        <a:graphic>
          <a:graphicData uri="http://schemas.openxmlformats.org/drawingml/2006/table">
            <a:tbl>
              <a:tblPr/>
              <a:tblGrid>
                <a:gridCol w="1447920"/>
                <a:gridCol w="761760"/>
                <a:gridCol w="990720"/>
              </a:tblGrid>
              <a:tr h="3351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回答人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量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+/-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13"/>
          <p:cNvSpPr/>
          <p:nvPr/>
        </p:nvSpPr>
        <p:spPr>
          <a:xfrm>
            <a:off x="1403280" y="191628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1400" spc="-1" strike="noStrike">
                <a:solidFill>
                  <a:srgbClr val="000000"/>
                </a:solidFill>
                <a:latin typeface="Times New Roman"/>
              </a:rPr>
              <a:t>滿意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7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1463760" y="644040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hart 19" descr=""/>
          <p:cNvPicPr/>
          <p:nvPr/>
        </p:nvPicPr>
        <p:blipFill>
          <a:blip r:embed="rId1"/>
          <a:stretch/>
        </p:blipFill>
        <p:spPr>
          <a:xfrm>
            <a:off x="762120" y="2000160"/>
            <a:ext cx="7791480" cy="4400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66A2-9727-46B9-829E-AD8AC73B5ECA}" type="slidenum">
              <a:rPr b="1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9680" y="533160"/>
            <a:ext cx="79930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有意發出新既免費電視牌照，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幾支持或反對呢個做法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5219640" y="4941360"/>
            <a:ext cx="1820520" cy="380880"/>
            <a:chOff x="5219640" y="4941360"/>
            <a:chExt cx="1820520" cy="380880"/>
          </a:xfrm>
        </p:grpSpPr>
        <p:sp>
          <p:nvSpPr>
            <p:cNvPr id="127" name="Line 9"/>
            <p:cNvSpPr/>
            <p:nvPr/>
          </p:nvSpPr>
          <p:spPr>
            <a:xfrm flipV="1">
              <a:off x="5219640" y="5093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5219640" y="509400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V="1">
              <a:off x="6082200" y="4941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 flipV="1">
              <a:off x="7040160" y="5093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1724040" y="2193480"/>
            <a:ext cx="1820520" cy="380880"/>
            <a:chOff x="1724040" y="2193480"/>
            <a:chExt cx="1820520" cy="380880"/>
          </a:xfrm>
        </p:grpSpPr>
        <p:sp>
          <p:nvSpPr>
            <p:cNvPr id="132" name="Line 9"/>
            <p:cNvSpPr/>
            <p:nvPr/>
          </p:nvSpPr>
          <p:spPr>
            <a:xfrm flipV="1">
              <a:off x="1724040" y="2345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1724040" y="234612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 flipV="1">
              <a:off x="2586600" y="2193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 flipV="1">
              <a:off x="3544560" y="2345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5397480" y="457524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反對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05520" y="1989000"/>
          <a:ext cx="3200400" cy="669960"/>
        </p:xfrm>
        <a:graphic>
          <a:graphicData uri="http://schemas.openxmlformats.org/drawingml/2006/table">
            <a:tbl>
              <a:tblPr/>
              <a:tblGrid>
                <a:gridCol w="1447560"/>
                <a:gridCol w="762120"/>
                <a:gridCol w="990720"/>
              </a:tblGrid>
              <a:tr h="3351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回答人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量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.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+/-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3"/>
          <p:cNvSpPr/>
          <p:nvPr/>
        </p:nvSpPr>
        <p:spPr>
          <a:xfrm>
            <a:off x="1908000" y="184464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1400" spc="-1" strike="noStrike">
                <a:solidFill>
                  <a:srgbClr val="000000"/>
                </a:solidFill>
                <a:latin typeface="Times New Roman"/>
              </a:rPr>
              <a:t>支持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85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719360" y="6470640"/>
            <a:ext cx="64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hart 19" descr=""/>
          <p:cNvPicPr/>
          <p:nvPr/>
        </p:nvPicPr>
        <p:blipFill>
          <a:blip r:embed="rId1"/>
          <a:stretch/>
        </p:blipFill>
        <p:spPr>
          <a:xfrm>
            <a:off x="768240" y="2073240"/>
            <a:ext cx="7785360" cy="4522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9EE6-F727-43D4-AC27-0B6711F4969C}" type="slidenum">
              <a:rPr b="1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533160"/>
            <a:ext cx="815184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.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過三年既時間，現時政府仍然未對三個免費電視牌照既申請作出決定。你有幾滿意或者不滿呢個做法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5219640" y="2060280"/>
            <a:ext cx="1820520" cy="380880"/>
            <a:chOff x="5219640" y="2060280"/>
            <a:chExt cx="1820520" cy="380880"/>
          </a:xfrm>
        </p:grpSpPr>
        <p:sp>
          <p:nvSpPr>
            <p:cNvPr id="145" name="Line 9"/>
            <p:cNvSpPr/>
            <p:nvPr/>
          </p:nvSpPr>
          <p:spPr>
            <a:xfrm flipV="1">
              <a:off x="5219640" y="2212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5219640" y="2212920"/>
              <a:ext cx="18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 flipV="1">
              <a:off x="6082200" y="2060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V="1">
              <a:off x="7040160" y="2212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1617840" y="4830480"/>
            <a:ext cx="1820160" cy="380880"/>
            <a:chOff x="1617840" y="4830480"/>
            <a:chExt cx="1820160" cy="380880"/>
          </a:xfrm>
        </p:grpSpPr>
        <p:sp>
          <p:nvSpPr>
            <p:cNvPr id="150" name="Line 9"/>
            <p:cNvSpPr/>
            <p:nvPr/>
          </p:nvSpPr>
          <p:spPr>
            <a:xfrm flipV="1">
              <a:off x="1617840" y="498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1617840" y="4983120"/>
              <a:ext cx="182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 flipV="1">
              <a:off x="2480040" y="4830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 flipV="1">
              <a:off x="3438000" y="498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Rectangle 13"/>
          <p:cNvSpPr/>
          <p:nvPr/>
        </p:nvSpPr>
        <p:spPr>
          <a:xfrm>
            <a:off x="5435640" y="170028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不滿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71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44480" y="2197080"/>
          <a:ext cx="3200400" cy="669960"/>
        </p:xfrm>
        <a:graphic>
          <a:graphicData uri="http://schemas.openxmlformats.org/drawingml/2006/table">
            <a:tbl>
              <a:tblPr/>
              <a:tblGrid>
                <a:gridCol w="1447920"/>
                <a:gridCol w="762120"/>
                <a:gridCol w="990360"/>
              </a:tblGrid>
              <a:tr h="3351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回答人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量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+/-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13"/>
          <p:cNvSpPr/>
          <p:nvPr/>
        </p:nvSpPr>
        <p:spPr>
          <a:xfrm>
            <a:off x="1763640" y="4437000"/>
            <a:ext cx="137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1400" spc="-1" strike="noStrike">
                <a:solidFill>
                  <a:srgbClr val="000000"/>
                </a:solidFill>
                <a:latin typeface="Times New Roman"/>
              </a:rPr>
              <a:t>滿意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9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042920" y="6477120"/>
            <a:ext cx="647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                         (1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826920" y="162864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.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認為有冇人要為延遲發牌負上政治責任？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有，係邊個？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4899-7330-48DD-9B8D-7CB6D49BA35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Chart 7" descr=""/>
          <p:cNvPicPr/>
          <p:nvPr/>
        </p:nvPicPr>
        <p:blipFill>
          <a:blip r:embed="rId1"/>
          <a:stretch/>
        </p:blipFill>
        <p:spPr>
          <a:xfrm>
            <a:off x="171360" y="1816200"/>
            <a:ext cx="8728200" cy="39751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684360" y="5661000"/>
            <a:ext cx="71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蘇錦樑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403280" y="5661000"/>
            <a:ext cx="72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曾蔭權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2124000" y="5661000"/>
            <a:ext cx="719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梁振英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2843280" y="5661000"/>
            <a:ext cx="72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政府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3564000" y="5661000"/>
            <a:ext cx="7920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廣管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電訊局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4356000" y="5680080"/>
            <a:ext cx="720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行政會議成員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8"/>
          <p:cNvSpPr/>
          <p:nvPr/>
        </p:nvSpPr>
        <p:spPr>
          <a:xfrm>
            <a:off x="5076720" y="5661000"/>
            <a:ext cx="719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立法會議員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5796000" y="5661000"/>
            <a:ext cx="720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但不清楚是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443640" y="5661000"/>
            <a:ext cx="936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冇人需要負上政治責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7308720" y="5661000"/>
            <a:ext cx="719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22"/>
          <p:cNvSpPr/>
          <p:nvPr/>
        </p:nvSpPr>
        <p:spPr>
          <a:xfrm>
            <a:off x="8028000" y="5661000"/>
            <a:ext cx="72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唔知／難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字方塊 4"/>
          <p:cNvSpPr/>
          <p:nvPr/>
        </p:nvSpPr>
        <p:spPr>
          <a:xfrm>
            <a:off x="539640" y="624672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4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估計政府仍未發出第三間免費電視牌照既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主要理由係乜野？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095C-5439-41E6-9970-42421CD0A42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492360" y="5589720"/>
            <a:ext cx="936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保障兩間免費電視台既得利益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755640" y="5589720"/>
            <a:ext cx="57456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政治考慮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5148360" y="5589720"/>
            <a:ext cx="7189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發牌過程需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1403280" y="5589720"/>
            <a:ext cx="720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中央政府干預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2195640" y="5589720"/>
            <a:ext cx="720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政府懼怕有更多批評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2916360" y="5589720"/>
            <a:ext cx="720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特區政府干預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5867280" y="5589720"/>
            <a:ext cx="71928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政府效率問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4284720" y="5661000"/>
            <a:ext cx="934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商業考慮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6588000" y="5661000"/>
            <a:ext cx="936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沒有原因／不認為有問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7380360" y="5661000"/>
            <a:ext cx="72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8101080" y="5661000"/>
            <a:ext cx="71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唔知／難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字方塊 4"/>
          <p:cNvSpPr/>
          <p:nvPr/>
        </p:nvSpPr>
        <p:spPr>
          <a:xfrm>
            <a:off x="324000" y="6237360"/>
            <a:ext cx="2214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5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18"/>
          <p:cNvGraphicFramePr/>
          <p:nvPr/>
        </p:nvGraphicFramePr>
        <p:xfrm>
          <a:off x="250920" y="1844640"/>
          <a:ext cx="870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870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Group 41"/>
          <p:cNvGrpSpPr/>
          <p:nvPr/>
        </p:nvGrpSpPr>
        <p:grpSpPr>
          <a:xfrm>
            <a:off x="5148360" y="3789360"/>
            <a:ext cx="1512720" cy="647280"/>
            <a:chOff x="5148360" y="3789360"/>
            <a:chExt cx="1512720" cy="647280"/>
          </a:xfrm>
        </p:grpSpPr>
        <p:grpSp>
          <p:nvGrpSpPr>
            <p:cNvPr id="193" name="Group 8"/>
            <p:cNvGrpSpPr/>
            <p:nvPr/>
          </p:nvGrpSpPr>
          <p:grpSpPr>
            <a:xfrm>
              <a:off x="5259240" y="4071600"/>
              <a:ext cx="1328760" cy="365040"/>
              <a:chOff x="5259240" y="4071600"/>
              <a:chExt cx="1328760" cy="365040"/>
            </a:xfrm>
          </p:grpSpPr>
          <p:sp>
            <p:nvSpPr>
              <p:cNvPr id="194" name="Line 9"/>
              <p:cNvSpPr/>
              <p:nvPr/>
            </p:nvSpPr>
            <p:spPr>
              <a:xfrm flipV="1">
                <a:off x="5259240" y="421776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0"/>
              <p:cNvSpPr/>
              <p:nvPr/>
            </p:nvSpPr>
            <p:spPr>
              <a:xfrm>
                <a:off x="5259240" y="421776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1"/>
              <p:cNvSpPr/>
              <p:nvPr/>
            </p:nvSpPr>
            <p:spPr>
              <a:xfrm flipV="1">
                <a:off x="5888520" y="4071600"/>
                <a:ext cx="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2"/>
              <p:cNvSpPr/>
              <p:nvPr/>
            </p:nvSpPr>
            <p:spPr>
              <a:xfrm flipV="1">
                <a:off x="6588000" y="421776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Rectangle 13"/>
            <p:cNvSpPr/>
            <p:nvPr/>
          </p:nvSpPr>
          <p:spPr>
            <a:xfrm>
              <a:off x="5148360" y="3789360"/>
              <a:ext cx="1512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buClr>
                  <a:srgbClr val="ff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技術問題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0"/>
          <p:cNvGrpSpPr/>
          <p:nvPr/>
        </p:nvGrpSpPr>
        <p:grpSpPr>
          <a:xfrm>
            <a:off x="3747960" y="2565360"/>
            <a:ext cx="1328760" cy="1006200"/>
            <a:chOff x="3747960" y="2565360"/>
            <a:chExt cx="1328760" cy="1006200"/>
          </a:xfrm>
        </p:grpSpPr>
        <p:grpSp>
          <p:nvGrpSpPr>
            <p:cNvPr id="200" name="Group 8"/>
            <p:cNvGrpSpPr/>
            <p:nvPr/>
          </p:nvGrpSpPr>
          <p:grpSpPr>
            <a:xfrm>
              <a:off x="3747960" y="3206520"/>
              <a:ext cx="1328760" cy="365040"/>
              <a:chOff x="3747960" y="3206520"/>
              <a:chExt cx="1328760" cy="365040"/>
            </a:xfrm>
          </p:grpSpPr>
          <p:sp>
            <p:nvSpPr>
              <p:cNvPr id="201" name="Line 9"/>
              <p:cNvSpPr/>
              <p:nvPr/>
            </p:nvSpPr>
            <p:spPr>
              <a:xfrm flipV="1">
                <a:off x="3747960" y="335268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0"/>
              <p:cNvSpPr/>
              <p:nvPr/>
            </p:nvSpPr>
            <p:spPr>
              <a:xfrm>
                <a:off x="3747960" y="335268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1"/>
              <p:cNvSpPr/>
              <p:nvPr/>
            </p:nvSpPr>
            <p:spPr>
              <a:xfrm flipV="1">
                <a:off x="4377240" y="3206520"/>
                <a:ext cx="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2"/>
              <p:cNvSpPr/>
              <p:nvPr/>
            </p:nvSpPr>
            <p:spPr>
              <a:xfrm flipV="1">
                <a:off x="5076720" y="335268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TextBox 8"/>
            <p:cNvSpPr/>
            <p:nvPr/>
          </p:nvSpPr>
          <p:spPr>
            <a:xfrm>
              <a:off x="3851280" y="2565360"/>
              <a:ext cx="115236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HK" sz="1400" spc="-1" strike="noStrike">
                  <a:solidFill>
                    <a:srgbClr val="000000"/>
                  </a:solidFill>
                  <a:latin typeface="Times New Roman"/>
                </a:rPr>
                <a:t>商業考慮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整體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 21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39"/>
          <p:cNvGrpSpPr/>
          <p:nvPr/>
        </p:nvGrpSpPr>
        <p:grpSpPr>
          <a:xfrm>
            <a:off x="971640" y="2852640"/>
            <a:ext cx="2663280" cy="1006200"/>
            <a:chOff x="971640" y="2852640"/>
            <a:chExt cx="2663280" cy="1006200"/>
          </a:xfrm>
        </p:grpSpPr>
        <p:grpSp>
          <p:nvGrpSpPr>
            <p:cNvPr id="207" name="Group 8"/>
            <p:cNvGrpSpPr/>
            <p:nvPr/>
          </p:nvGrpSpPr>
          <p:grpSpPr>
            <a:xfrm>
              <a:off x="971640" y="3493800"/>
              <a:ext cx="2663280" cy="365040"/>
              <a:chOff x="971640" y="3493800"/>
              <a:chExt cx="2663280" cy="365040"/>
            </a:xfrm>
          </p:grpSpPr>
          <p:sp>
            <p:nvSpPr>
              <p:cNvPr id="208" name="Line 9"/>
              <p:cNvSpPr/>
              <p:nvPr/>
            </p:nvSpPr>
            <p:spPr>
              <a:xfrm flipV="1">
                <a:off x="971640" y="363996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10"/>
              <p:cNvSpPr/>
              <p:nvPr/>
            </p:nvSpPr>
            <p:spPr>
              <a:xfrm>
                <a:off x="971640" y="3639960"/>
                <a:ext cx="26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11"/>
              <p:cNvSpPr/>
              <p:nvPr/>
            </p:nvSpPr>
            <p:spPr>
              <a:xfrm flipV="1">
                <a:off x="2233080" y="3493800"/>
                <a:ext cx="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 flipV="1">
                <a:off x="3634920" y="363996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TextBox 7"/>
            <p:cNvSpPr/>
            <p:nvPr/>
          </p:nvSpPr>
          <p:spPr>
            <a:xfrm>
              <a:off x="1692360" y="2852640"/>
              <a:ext cx="122400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政治考慮</a:t>
              </a:r>
              <a:r>
                <a:rPr b="1" lang="zh-HK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整體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 24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. 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估計政府仍未發出第三間免費電視牌照既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主要理由係乜野？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綜合數據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826920" y="1706400"/>
            <a:ext cx="771696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519-2AEB-4B71-88DD-2CF81A18803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Chart 6" descr=""/>
          <p:cNvPicPr/>
          <p:nvPr/>
        </p:nvPicPr>
        <p:blipFill>
          <a:blip r:embed="rId1"/>
          <a:stretch/>
        </p:blipFill>
        <p:spPr>
          <a:xfrm>
            <a:off x="463680" y="1805040"/>
            <a:ext cx="8089920" cy="41878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971640" y="5826240"/>
            <a:ext cx="10555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政治考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整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2322360" y="5826240"/>
            <a:ext cx="10256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Times New Roman"/>
              </a:rPr>
              <a:t>商業考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整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3492360" y="5826240"/>
            <a:ext cx="1008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技術問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702320" y="5773680"/>
            <a:ext cx="10080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沒有原因／不認為有問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6012000" y="5856120"/>
            <a:ext cx="1008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7164360" y="5873760"/>
            <a:ext cx="1079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唔知／難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文字方塊 4"/>
          <p:cNvSpPr/>
          <p:nvPr/>
        </p:nvSpPr>
        <p:spPr>
          <a:xfrm>
            <a:off x="539640" y="6380280"/>
            <a:ext cx="2214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25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12-08-10T02:15:18Z</cp:lastPrinted>
  <dcterms:modified xsi:type="dcterms:W3CDTF">2012-11-18T08:17:06Z</dcterms:modified>
  <cp:revision>1532</cp:revision>
  <dc:subject/>
  <dc:title>無投影片標題</dc:title>
</cp:coreProperties>
</file>