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7E67B0-76D2-421F-B62C-CE12FE819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B95CA6-9C43-406C-831D-AFD4AABD2B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84E98-E6D2-401A-B68A-57F42934E7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560F3-7612-48D9-BB87-144A5438B0C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6D63A-4F10-4E4D-8D41-B4FBBA767D3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CE4609-787E-47D9-A094-71AF587C8CB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227FDE-EF06-450D-9638-EAFD12D1977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BC4607-3FB0-479E-BBCB-6EE86D59951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4F1584-6145-4CAA-946A-7EC9069EBF4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C95DA1-0AD6-428D-9684-E51A584A1E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097279-8CD5-4FEB-8CE1-576E82D845B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E5E62-C849-40AC-BAB7-0421F58FDD7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EC622A-411A-497C-948D-EF5104DF0A8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4F47B-567F-4C6B-9637-342166FBC1D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6BA3E7-74F0-49F2-A1EE-4A83241441A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F4801-B363-43AA-9049-D91F3E730E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A705C5-B981-407A-8202-0E4270FA0DB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ECBB8B-31E1-4E01-8C5E-E2601E500FE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BC72E2-1F56-4AAC-903E-F9344F457F9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418D7-488D-421E-BA10-31B59A6982A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B28130-C9E8-4398-9915-001ADD6C108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1AD393-7F5D-4809-9BCF-BD5B70D173D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4633E-CFFE-4B0F-9BC5-DC715F6AEF1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ADC-7117-424E-93AF-75C80472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318-97C2-4930-9531-04F47FF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B57-AE5B-4D05-940E-57709EBE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3CB-4AA3-40F0-96A0-A6B0C025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72C-E251-4733-8899-4F8D272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74D-C1E3-4812-8A85-8D14A51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0CA-901B-4439-B3C0-EA17641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A51-639D-439C-BC53-0B643C5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58B-BDC5-430F-86EA-A8DD9B8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FA6-BCCC-43E3-8144-2B9036E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402-2C21-4329-A29B-1BFFC8C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A4B-7DC4-4648-B8CC-AF25DEE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B6D2-759E-433C-B54D-FE252FB1962B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446D-C811-4D62-87AC-FABB66FFCB5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《工作與生活─實施能源效益》公眾調查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" name="Picture 16" descr="schneider"/>
          <p:cNvPicPr/>
          <p:nvPr/>
        </p:nvPicPr>
        <p:blipFill>
          <a:blip r:embed="rId2"/>
          <a:stretch/>
        </p:blipFill>
        <p:spPr>
          <a:xfrm>
            <a:off x="8001000" y="6324480"/>
            <a:ext cx="93672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052"/>
          <p:cNvSpPr/>
          <p:nvPr/>
        </p:nvSpPr>
        <p:spPr>
          <a:xfrm>
            <a:off x="1295280" y="18288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r>
              <a:rPr b="1" lang="zh-TW" sz="16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5" name="Object 2053"/>
          <p:cNvGraphicFramePr/>
          <p:nvPr/>
        </p:nvGraphicFramePr>
        <p:xfrm>
          <a:off x="1828800" y="609480"/>
          <a:ext cx="1171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1171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2057"/>
          <p:cNvSpPr/>
          <p:nvPr/>
        </p:nvSpPr>
        <p:spPr>
          <a:xfrm>
            <a:off x="762120" y="4419720"/>
            <a:ext cx="7848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總監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Line 2058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Line 2059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343400" y="181296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施耐德電氣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限公司</a:t>
            </a:r>
            <a:r>
              <a:rPr b="1" lang="zh-TW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" name="Picture 12" descr="schneider"/>
          <p:cNvPicPr/>
          <p:nvPr/>
        </p:nvPicPr>
        <p:blipFill>
          <a:blip r:embed="rId3"/>
          <a:stretch/>
        </p:blipFill>
        <p:spPr>
          <a:xfrm>
            <a:off x="4952880" y="581040"/>
            <a:ext cx="2819520" cy="1192320"/>
          </a:xfrm>
          <a:prstGeom prst="rect">
            <a:avLst/>
          </a:prstGeom>
          <a:ln w="0">
            <a:noFill/>
          </a:ln>
        </p:spPr>
      </p:pic>
      <p:pic>
        <p:nvPicPr>
          <p:cNvPr id="62" name="WordArt 13" descr=""/>
          <p:cNvPicPr/>
          <p:nvPr/>
        </p:nvPicPr>
        <p:blipFill>
          <a:blip r:embed="rId4"/>
          <a:stretch/>
        </p:blipFill>
        <p:spPr>
          <a:xfrm>
            <a:off x="1347840" y="3114720"/>
            <a:ext cx="6473880" cy="50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C328-351A-45B8-A6D7-E1CBA859D39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0080" y="9000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最吸引的「能源效益」的主要目標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855720" y="1523880"/>
          <a:ext cx="829620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3880"/>
                    <a:ext cx="82962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2"/>
          <p:cNvSpPr/>
          <p:nvPr/>
        </p:nvSpPr>
        <p:spPr>
          <a:xfrm>
            <a:off x="838080" y="6386400"/>
            <a:ext cx="7086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以下四項實施「能源效益」既主要目標，請問邊一項對你最吸引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讀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，只選一項】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57160" y="621504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二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	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「能源效益」的應用及行為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903240" y="1600200"/>
          <a:ext cx="808524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600200"/>
                    <a:ext cx="80852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C16E-AC38-4AA3-A7B2-19B92C562E8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8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日常生活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中「能源效益」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實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38080" y="632448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註：不包括少於</a:t>
            </a: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486400" y="63244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5334120" y="1600200"/>
          <a:ext cx="309852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600200"/>
                    <a:ext cx="309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824040" y="6553080"/>
            <a:ext cx="778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係日常生活中有冇實施「能源效益」？如果有，係點樣實施呢？【不讀答案，可選多項】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7848720" y="3505320"/>
            <a:ext cx="761760" cy="106668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4B11-3733-4E18-84E8-DC1C18788D4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日常生活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中沒有實施「能源效益」的原因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646200" y="1468440"/>
          <a:ext cx="846756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468440"/>
                    <a:ext cx="84675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66204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8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1440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Q7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日常生活中沒有實施」的被訪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=82)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解冇實施呢？【讀出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選項，次序由電腦排列，可選多項】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181480" y="5562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節能電器／系統太貴</a:t>
            </a:r>
            <a:r>
              <a:rPr b="1" lang="zh-TW" sz="1000" spc="-1" strike="noStrike">
                <a:solidFill>
                  <a:srgbClr val="003366"/>
                </a:solidFill>
                <a:latin typeface="Times New Roman"/>
                <a:ea typeface="標楷體"/>
              </a:rPr>
              <a:t>*</a:t>
            </a:r>
            <a:r>
              <a:rPr b="1" lang="zh-TW" sz="1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191120" y="55627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可節省的資源或電力有限／不值得</a:t>
            </a:r>
            <a:r>
              <a:rPr b="1" lang="zh-TW" sz="1000" spc="-1" strike="noStrike">
                <a:solidFill>
                  <a:srgbClr val="003366"/>
                </a:solidFill>
                <a:latin typeface="Times New Roman"/>
                <a:ea typeface="標楷體"/>
              </a:rPr>
              <a:t>*</a:t>
            </a:r>
            <a:r>
              <a:rPr b="1" lang="zh-TW" sz="1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4"/>
          <p:cNvGraphicFramePr/>
          <p:nvPr/>
        </p:nvGraphicFramePr>
        <p:xfrm>
          <a:off x="900000" y="1428840"/>
          <a:ext cx="7599600" cy="541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28840"/>
                    <a:ext cx="759960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AF0-B8C2-4194-9CBF-4464636CBBD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6477120"/>
            <a:ext cx="70106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Q8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既公司或辦公室大樓有冇任何「能源效益」守則或實施相關既政策？如果有，係點樣實施呢？【不讀答案，可選多項】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79132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9" name="Object 7"/>
          <p:cNvGraphicFramePr/>
          <p:nvPr/>
        </p:nvGraphicFramePr>
        <p:xfrm>
          <a:off x="5638680" y="1546200"/>
          <a:ext cx="309888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546200"/>
                    <a:ext cx="309888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2"/>
          <p:cNvSpPr/>
          <p:nvPr/>
        </p:nvSpPr>
        <p:spPr>
          <a:xfrm>
            <a:off x="990720" y="762120"/>
            <a:ext cx="793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工作上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能源效益」的實施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6172200" y="3276720"/>
            <a:ext cx="762120" cy="9903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38080" y="62262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註：不包括少於</a:t>
            </a: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4"/>
          <p:cNvGraphicFramePr/>
          <p:nvPr/>
        </p:nvGraphicFramePr>
        <p:xfrm>
          <a:off x="847800" y="1600200"/>
          <a:ext cx="815328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600200"/>
                    <a:ext cx="81532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F10B-E1F0-4936-9CF5-CA0A013C357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640080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Q9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工作上沒有實施」的被訪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32)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解冇實施呢？【讀出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*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選項，次序由電腦排列，可選多項】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6696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43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工作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實施「能源效益」的原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FE34-BBD3-420C-A838-2D7E538C591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9520" y="785520"/>
            <a:ext cx="7653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「能源效益」對受訪者的重要程度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5"/>
          <p:cNvSpPr/>
          <p:nvPr/>
        </p:nvSpPr>
        <p:spPr>
          <a:xfrm>
            <a:off x="1042920" y="624852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1836720" y="1563840"/>
            <a:ext cx="1820520" cy="645480"/>
            <a:chOff x="1836720" y="1563840"/>
            <a:chExt cx="1820520" cy="645480"/>
          </a:xfrm>
        </p:grpSpPr>
        <p:grpSp>
          <p:nvGrpSpPr>
            <p:cNvPr id="156" name="Group 14"/>
            <p:cNvGrpSpPr/>
            <p:nvPr/>
          </p:nvGrpSpPr>
          <p:grpSpPr>
            <a:xfrm>
              <a:off x="1836720" y="1828440"/>
              <a:ext cx="1820520" cy="380880"/>
              <a:chOff x="1836720" y="1828440"/>
              <a:chExt cx="1820520" cy="380880"/>
            </a:xfrm>
          </p:grpSpPr>
          <p:sp>
            <p:nvSpPr>
              <p:cNvPr id="157" name="Line 15"/>
              <p:cNvSpPr/>
              <p:nvPr/>
            </p:nvSpPr>
            <p:spPr>
              <a:xfrm flipV="1">
                <a:off x="1836720" y="198072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1836720" y="1981080"/>
                <a:ext cx="1820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7"/>
              <p:cNvSpPr/>
              <p:nvPr/>
            </p:nvSpPr>
            <p:spPr>
              <a:xfrm flipV="1">
                <a:off x="2699280" y="1828440"/>
                <a:ext cx="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8"/>
              <p:cNvSpPr/>
              <p:nvPr/>
            </p:nvSpPr>
            <p:spPr>
              <a:xfrm flipV="1">
                <a:off x="3657240" y="198072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19"/>
            <p:cNvSpPr/>
            <p:nvPr/>
          </p:nvSpPr>
          <p:spPr>
            <a:xfrm>
              <a:off x="1989000" y="15638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重要</a:t>
              </a: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: 69%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5486400" y="4571640"/>
            <a:ext cx="1820520" cy="380880"/>
            <a:chOff x="5486400" y="4571640"/>
            <a:chExt cx="1820520" cy="380880"/>
          </a:xfrm>
        </p:grpSpPr>
        <p:sp>
          <p:nvSpPr>
            <p:cNvPr id="163" name="Line 23"/>
            <p:cNvSpPr/>
            <p:nvPr/>
          </p:nvSpPr>
          <p:spPr>
            <a:xfrm flipV="1">
              <a:off x="5486400" y="47239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5486400" y="4724280"/>
              <a:ext cx="1820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V="1">
              <a:off x="6348960" y="457164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 flipV="1">
              <a:off x="7306920" y="47239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7" name="Rectangle 27"/>
          <p:cNvSpPr/>
          <p:nvPr/>
        </p:nvSpPr>
        <p:spPr>
          <a:xfrm>
            <a:off x="5562720" y="43434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標楷體"/>
                <a:ea typeface="標楷體"/>
              </a:rPr>
              <a:t>不重要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6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066680" y="6400800"/>
            <a:ext cx="7500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來講，你認為「能源效益」對你有幾重要呢？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7F2-CB17-43D8-846F-20F836BD2CA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誰有責任推行「能源效益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847800" y="1676520"/>
          <a:ext cx="8067600" cy="44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676520"/>
                    <a:ext cx="80676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5"/>
          <p:cNvSpPr/>
          <p:nvPr/>
        </p:nvSpPr>
        <p:spPr>
          <a:xfrm>
            <a:off x="1042920" y="61722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071720" y="6386400"/>
            <a:ext cx="6929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要係本地積極推行「能源效益」，你認為邊個既責任最大？【讀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7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，只選一項】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-914400" algn="ct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對「建築物能源效益守則」</a:t>
            </a:r>
            <a:br>
              <a:rPr sz="3000"/>
            </a:b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及相關事項的認識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8822-7BA1-46E5-A112-797B4B632A7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90000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「建築物能源效益守則」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「高能效建築物標誌」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認識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1014480" y="1843200"/>
          <a:ext cx="76611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843200"/>
                    <a:ext cx="7661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1143000" y="63244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85840" y="6477120"/>
            <a:ext cx="7500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有冇聽過「建築物能源效益守則」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uilding Energy Codes)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「高能效建築物標誌」呢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195-9BD9-4F80-9228-EE74521BFF0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00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438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探討本港在職人士對能源效益的一般認識、日常生活中和工作上實施節能和能源管理的行為、以及了解他們未能實行能源效益的阻礙等意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施耐德電氣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限公司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BC2E-5FB6-47DC-BD54-463BD1EA4B1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720" y="90000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現時的居所或工作地點有沒有能源效益指引或守則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987480" y="1755720"/>
          <a:ext cx="806616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755720"/>
                    <a:ext cx="8066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5"/>
          <p:cNvSpPr/>
          <p:nvPr/>
        </p:nvSpPr>
        <p:spPr>
          <a:xfrm>
            <a:off x="89064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914400" y="6400800"/>
            <a:ext cx="731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b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現時既居所或者工作地點有冇一套能源效益指引或守則？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4F4-B50B-4C6E-AC80-80D5053507A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贊成或反對立法《建築物能源效益條例草案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855720" y="1447920"/>
          <a:ext cx="814536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447920"/>
                    <a:ext cx="81453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5"/>
          <p:cNvSpPr/>
          <p:nvPr/>
        </p:nvSpPr>
        <p:spPr>
          <a:xfrm>
            <a:off x="762120" y="60958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838080" y="6362640"/>
            <a:ext cx="7086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r>
              <a:rPr b="1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其實政府已於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向立法會提交《建築物能源效益條例草案》，建議本港建築物既裝置必須遵守最低能源效益標準及規定，包括照明、空調、電力裝置及升降機及自動梯裝置。請問你有幾贊成或反對呢個建議？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905120" y="1856880"/>
            <a:ext cx="1820520" cy="380880"/>
            <a:chOff x="1905120" y="1856880"/>
            <a:chExt cx="1820520" cy="380880"/>
          </a:xfrm>
        </p:grpSpPr>
        <p:sp>
          <p:nvSpPr>
            <p:cNvPr id="195" name="Line 9"/>
            <p:cNvSpPr/>
            <p:nvPr/>
          </p:nvSpPr>
          <p:spPr>
            <a:xfrm flipV="1">
              <a:off x="1905120" y="20091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1905120" y="2009520"/>
              <a:ext cx="1820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 flipV="1">
              <a:off x="2767680" y="185688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 flipV="1">
              <a:off x="3725640" y="20091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2133720" y="16430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標楷體"/>
                <a:ea typeface="標楷體"/>
              </a:rPr>
              <a:t>贊成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90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5494320" y="4642920"/>
            <a:ext cx="1820520" cy="380880"/>
            <a:chOff x="5494320" y="4642920"/>
            <a:chExt cx="1820520" cy="380880"/>
          </a:xfrm>
        </p:grpSpPr>
        <p:sp>
          <p:nvSpPr>
            <p:cNvPr id="201" name="Line 16"/>
            <p:cNvSpPr/>
            <p:nvPr/>
          </p:nvSpPr>
          <p:spPr>
            <a:xfrm flipV="1">
              <a:off x="5494320" y="47952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494320" y="4795560"/>
              <a:ext cx="1820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 flipV="1">
              <a:off x="6356880" y="464292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 flipV="1">
              <a:off x="7314840" y="47952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05" name="Rectangle 20"/>
          <p:cNvSpPr/>
          <p:nvPr/>
        </p:nvSpPr>
        <p:spPr>
          <a:xfrm>
            <a:off x="5646600" y="4429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標楷體"/>
                <a:ea typeface="標楷體"/>
              </a:rPr>
              <a:t>反對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1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F27-DFFF-4E81-8BF0-D50B3E710F6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855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實施「建築物能源效益守則」對工作或日常生活的影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855720" y="1295280"/>
          <a:ext cx="81532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295280"/>
                    <a:ext cx="81532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99072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,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066680" y="6400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a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實施「建築物能源效益守則」對你既工作或日常生活有冇影響呢？如果有，請問係正面、負面、定係正負兩面都有影響呢？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4"/>
          <p:cNvGraphicFramePr/>
          <p:nvPr/>
        </p:nvGraphicFramePr>
        <p:xfrm>
          <a:off x="762120" y="1441440"/>
          <a:ext cx="839628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1440"/>
                    <a:ext cx="83962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C24D-08D8-44A5-A5C7-83DCA49FD6D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「建築物能源效益守則」的正面影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952880" y="624852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41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38080" y="6400800"/>
            <a:ext cx="7500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Q14b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a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正面影響」的被訪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14)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請問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乜野正面影響呢？【不讀答案，可選多項】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857160" y="62262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註：不包括少於</a:t>
            </a: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4"/>
          <p:cNvGraphicFramePr/>
          <p:nvPr/>
        </p:nvGraphicFramePr>
        <p:xfrm>
          <a:off x="798480" y="1401840"/>
          <a:ext cx="833760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401840"/>
                    <a:ext cx="833760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B72-EC91-4738-918B-0C2B04135E7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6324120"/>
            <a:ext cx="75009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Q14c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a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負面影響」的被訪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93)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請問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乜野負面影響呢？【不讀答案，可選多項】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25780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標楷體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19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143000" y="747720"/>
            <a:ext cx="7500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建築物能源效益守則」的負面影響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857160" y="62262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註：不包括少於</a:t>
            </a: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B652-210C-46C0-A4CC-9BDCBA5E0DD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9072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 algn="just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超過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90%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聽過「能源效益」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，但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50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認為自己認識「少」，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40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「一半半」，只有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10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自稱「認識多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90%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表示曾於日常生活中實施「能源效益」，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46%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表示有在工作上實施「能源效益」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，兩者主要是把非使用中的電器關掉或設為備用狀態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在工作上沒有實施「能源效益」者（佔總樣本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43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），超過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40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解釋是因為本身「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不是公司負責人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，沒有能力執行」，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35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表示「欠缺推動力／沒有急切性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接近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70%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確認「能源效益」對他們「重要」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，但就認為政府推廣「能源效益」的責任最大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超過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70%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表示其現時的居所或工作地點沒有一套能源效益的指引或守則，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90%</a:t>
            </a:r>
            <a:r>
              <a:rPr b="1" lang="zh-TW" sz="1800" spc="-1" strike="noStrike" u="sng">
                <a:solidFill>
                  <a:srgbClr val="006666"/>
                </a:solidFill>
                <a:uFillTx/>
                <a:latin typeface="Times New Roman"/>
                <a:ea typeface="標楷體"/>
              </a:rPr>
              <a:t>贊成立法</a:t>
            </a:r>
            <a:r>
              <a:rPr b="0" lang="zh-TW" sz="1800" spc="-1" strike="noStrike">
                <a:solidFill>
                  <a:srgbClr val="006666"/>
                </a:solidFill>
                <a:latin typeface="Times New Roman"/>
                <a:ea typeface="標楷體"/>
              </a:rPr>
              <a:t>《建築物能源效益條例草案》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C82F-078F-4024-8BA6-1356DAF6B14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838080" y="1676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5228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D47-5833-481A-B853-493A27C15A9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214280" y="1905120"/>
            <a:ext cx="735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6040" indent="-161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全職人士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9.8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結果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一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.  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對「能源效益」的認識程度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C6C6-1E3C-481B-A8DC-F3406A592D4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976320"/>
            <a:ext cx="7691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「能源效益」的認識程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004760" y="1685880"/>
          <a:ext cx="7969320" cy="52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685880"/>
                    <a:ext cx="796932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7"/>
          <p:cNvSpPr/>
          <p:nvPr/>
        </p:nvSpPr>
        <p:spPr>
          <a:xfrm>
            <a:off x="1066680" y="624852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109520" y="6477120"/>
            <a:ext cx="7500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有冇聽過「能源效益」呢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8CE2-31FA-4045-8D91-5A8DF08E6CA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自稱對「能源效益」的認識程度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838080" y="1447920"/>
          <a:ext cx="8143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8143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914400" y="62676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92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] (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有」的被訪者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=930)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你自己對「能源效益」既認識屬於多定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1905120" y="4214520"/>
            <a:ext cx="1447560" cy="380880"/>
            <a:chOff x="1905120" y="4214520"/>
            <a:chExt cx="1447560" cy="380880"/>
          </a:xfrm>
        </p:grpSpPr>
        <p:sp>
          <p:nvSpPr>
            <p:cNvPr id="84" name="Line 9"/>
            <p:cNvSpPr/>
            <p:nvPr/>
          </p:nvSpPr>
          <p:spPr>
            <a:xfrm flipV="1">
              <a:off x="1905120" y="43668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1905120" y="4367160"/>
              <a:ext cx="1447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Line 12"/>
            <p:cNvSpPr/>
            <p:nvPr/>
          </p:nvSpPr>
          <p:spPr>
            <a:xfrm flipV="1">
              <a:off x="2590920" y="421452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Line 13"/>
            <p:cNvSpPr/>
            <p:nvPr/>
          </p:nvSpPr>
          <p:spPr>
            <a:xfrm flipV="1">
              <a:off x="3352680" y="43668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8" name="Rectangle 15"/>
          <p:cNvSpPr/>
          <p:nvPr/>
        </p:nvSpPr>
        <p:spPr>
          <a:xfrm>
            <a:off x="2057400" y="39290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多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0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5715000" y="1785960"/>
            <a:ext cx="1447560" cy="685080"/>
            <a:chOff x="5715000" y="1785960"/>
            <a:chExt cx="1447560" cy="685080"/>
          </a:xfrm>
        </p:grpSpPr>
        <p:grpSp>
          <p:nvGrpSpPr>
            <p:cNvPr id="90" name="Group 16"/>
            <p:cNvGrpSpPr/>
            <p:nvPr/>
          </p:nvGrpSpPr>
          <p:grpSpPr>
            <a:xfrm>
              <a:off x="5715000" y="2090160"/>
              <a:ext cx="1447560" cy="380880"/>
              <a:chOff x="5715000" y="2090160"/>
              <a:chExt cx="1447560" cy="380880"/>
            </a:xfrm>
          </p:grpSpPr>
          <p:sp>
            <p:nvSpPr>
              <p:cNvPr id="91" name="Line 17"/>
              <p:cNvSpPr/>
              <p:nvPr/>
            </p:nvSpPr>
            <p:spPr>
              <a:xfrm flipV="1">
                <a:off x="5715000" y="224244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8"/>
              <p:cNvSpPr/>
              <p:nvPr/>
            </p:nvSpPr>
            <p:spPr>
              <a:xfrm>
                <a:off x="5715000" y="2242800"/>
                <a:ext cx="14475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9"/>
              <p:cNvSpPr/>
              <p:nvPr/>
            </p:nvSpPr>
            <p:spPr>
              <a:xfrm flipV="1">
                <a:off x="6400800" y="2090160"/>
                <a:ext cx="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0"/>
              <p:cNvSpPr/>
              <p:nvPr/>
            </p:nvSpPr>
            <p:spPr>
              <a:xfrm flipV="1">
                <a:off x="7162560" y="224244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21"/>
            <p:cNvSpPr/>
            <p:nvPr/>
          </p:nvSpPr>
          <p:spPr>
            <a:xfrm>
              <a:off x="5867280" y="178596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66"/>
                  </a:solidFill>
                  <a:latin typeface="Times New Roman"/>
                  <a:ea typeface="標楷體"/>
                </a:rPr>
                <a:t>少</a:t>
              </a:r>
              <a:r>
                <a:rPr b="1" lang="zh-TW" sz="1400" spc="-1" strike="noStrike">
                  <a:solidFill>
                    <a:srgbClr val="003366"/>
                  </a:solidFill>
                  <a:latin typeface="Times New Roman"/>
                  <a:ea typeface="標楷體"/>
                </a:rPr>
                <a:t>: 49%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716040" y="1371600"/>
          <a:ext cx="839772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371600"/>
                    <a:ext cx="83977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385-EAA3-4405-AB5C-43E42491C8D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當提及「能源效益」會聯想起什麼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01992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1,00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04960" y="6400800"/>
            <a:ext cx="75009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起「能源效益」，你第一時間會諗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乜野呢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訪問員不讀答案，最多可答三項】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6226200"/>
            <a:ext cx="573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註：不包括少於</a:t>
            </a: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i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F0D0-17E1-42D8-8227-B6A7F1CDDDD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下日常生活例子算不算「提升能源效益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855720" y="1521000"/>
          <a:ext cx="8112240" cy="474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1000"/>
                    <a:ext cx="811224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2"/>
          <p:cNvSpPr/>
          <p:nvPr/>
        </p:nvSpPr>
        <p:spPr>
          <a:xfrm>
            <a:off x="838080" y="6386400"/>
            <a:ext cx="7162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認為以下既日常生活例子算唔算係「提升能源效益」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【讀出答案，可選多項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6212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1,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0-05-24T04:55:38Z</dcterms:modified>
  <cp:revision>1748</cp:revision>
  <dc:subject/>
  <dc:title>無投影片標題</dc:title>
</cp:coreProperties>
</file>