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104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6D211F-081C-4880-BCDA-4446FD6F8F4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400" y="4738680"/>
            <a:ext cx="50292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各位新聞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朋友大家好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首先十分多謝各位出席我們“簡栢家居生活質素指標”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調查結果發布會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想首先簡介一下今次調查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背景同我地煤氣公司的角色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今次嘅調查係我地煤氣公司旗下的一個爐具品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SIMPA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簡栢）委託香港大學民意調查中心進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。整個問卷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設計係由港大與我地傾過之後得出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，而有關指標同問卷的統計方法同埋數據分析，就係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Dr. Chung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eam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獨立負責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各位新聞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朋友大家好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首先十分多謝各位出席我們“簡栢家居生活質素指標”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調查結果發布會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想首先簡介一下今次調查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背景同我地煤氣公司的角色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今次嘅調查係我地煤氣公司旗下的一個爐具品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SIMPA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簡栢）委託香港大學民意調查中心進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。整個問卷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設計係由港大與我地傾過之後得出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，而有關指標同問卷的統計方法同埋數據分析，就係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Dr. Chung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既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eam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獨立負責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FF0-D618-4729-BCAB-5B7CD3E6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208-AC06-4215-85D7-CC05A9EB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4A0-8C5D-4148-8C20-D7CB7D3C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50B-6014-4715-8A0F-EA583029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147-E66D-4988-BF8D-7FE0A25B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FFB-EDAD-46AB-BA4A-B8BC0DC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609-64DE-40EB-BDAE-67E40C3A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D52-62F6-4298-A02C-746B9B8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643-FC00-447B-83F4-1063E3D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5E0-58BD-4631-A99A-CBE3690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ED1-019F-4C11-A99D-7C157F7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DA4-C98D-4B39-A586-3181FC4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22D8-C7C0-4BF3-9538-B9736BD59DC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Opinion Survey on the Public Ranking of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Universities in Hong Kong 2005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resentation of Finding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8380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685800"/>
          <a:ext cx="1609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1609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98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2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Education Attainmen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04920" y="838080"/>
          <a:ext cx="10211040" cy="585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838080"/>
                    <a:ext cx="10211040" cy="58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04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6858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Occup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1066680" y="380880"/>
          <a:ext cx="1135368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380880"/>
                    <a:ext cx="11353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48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600200"/>
            <a:ext cx="80773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Public Ratings of Universitie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nd their Head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verall Performance of Universit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914400"/>
          <a:ext cx="914400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4120" y="6248520"/>
            <a:ext cx="35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1,072 - 1,314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514600"/>
          <a:ext cx="9144000" cy="51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91440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14400" y="5867280"/>
            <a:ext cx="6934320" cy="307080"/>
          </a:xfrm>
          <a:prstGeom prst="rect">
            <a:avLst/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3160"/>
                <a:tab algn="l" pos="966960"/>
                <a:tab algn="l" pos="1833480"/>
                <a:tab algn="l" pos="2800440"/>
                <a:tab algn="l" pos="3651120"/>
                <a:tab algn="l" pos="4516560"/>
                <a:tab algn="l" pos="5369040"/>
                <a:tab algn="l" pos="6234120"/>
                <a:tab algn="l" pos="714384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7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6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0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4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80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78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71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75%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6248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Recognition rate = No. of raters/total samp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838080"/>
            <a:ext cx="85341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Cross-tabulation Analyses: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University Ratings vs Respondents’ Education Attainment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219320"/>
          <a:ext cx="9753480" cy="53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97534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800100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640080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</a:rPr>
              <a:t>Differences among sub-groups tested to be statistically </a:t>
            </a:r>
            <a:r>
              <a:rPr b="1" i="1" lang="zh-TW" sz="1200" spc="-1" strike="noStrike" u="sng">
                <a:solidFill>
                  <a:srgbClr val="ccecff"/>
                </a:solidFill>
                <a:uFillTx/>
                <a:latin typeface="Times New Roman"/>
              </a:rPr>
              <a:t>insignificant 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at 95% confidence level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-3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Cross-tabulation Analyses: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University Ratings vs Respondents’ Occupational Backgroun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219320"/>
          <a:ext cx="1013472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1013472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00100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35472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</a:rPr>
              <a:t>Differences among sub-groups tested to be statistically </a:t>
            </a:r>
            <a:r>
              <a:rPr b="1" i="1" lang="zh-TW" sz="1200" spc="-1" strike="noStrike" u="sng">
                <a:solidFill>
                  <a:srgbClr val="ccecff"/>
                </a:solidFill>
                <a:uFillTx/>
                <a:latin typeface="Times New Roman"/>
              </a:rPr>
              <a:t>insignificant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 at 95% confidence level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ublic Ratings of University Hea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457200" y="838080"/>
          <a:ext cx="982980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982980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767560" y="6400800"/>
            <a:ext cx="30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523 - 898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943600"/>
            <a:ext cx="6933960" cy="307080"/>
          </a:xfrm>
          <a:prstGeom prst="rect">
            <a:avLst/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3160"/>
                <a:tab algn="l" pos="966960"/>
                <a:tab algn="l" pos="1833480"/>
                <a:tab algn="l" pos="2800440"/>
                <a:tab algn="l" pos="3651120"/>
                <a:tab algn="l" pos="4516560"/>
                <a:tab algn="l" pos="5369040"/>
                <a:tab algn="l" pos="6234120"/>
                <a:tab algn="l" pos="714384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9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9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7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4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58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8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0%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35%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248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</a:rPr>
              <a:t>Recognition rate = No. of raters/total samp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2952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^The only change being statistically significant at 99% confidence level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imes New Roman"/>
              </a:rPr>
              <a:t>Public Perception</a:t>
            </a:r>
            <a:endParaRPr b="0" lang="en-US" sz="3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imes New Roman"/>
              </a:rPr>
              <a:t>of Graduates</a:t>
            </a:r>
            <a:endParaRPr b="0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Perceived Deficiencies of  Graduates (I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1066680" y="990720"/>
          <a:ext cx="10820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990720"/>
                    <a:ext cx="10820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638680" y="63244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1,510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981080"/>
            <a:ext cx="487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*Changes being statistically significant at 99% confidence level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0200" y="3157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Perceived Deficiencies of Graduates (II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609480" y="990720"/>
          <a:ext cx="9982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990720"/>
                    <a:ext cx="9982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638680" y="63244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1,510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640080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ecff"/>
                </a:solidFill>
                <a:latin typeface="Times New Roman"/>
              </a:rPr>
              <a:t>Note: Attributes registering less than 1% for all years are not shown here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56120" y="3048120"/>
            <a:ext cx="49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* Changes being statistically significant at 99% confidence level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838080"/>
            <a:ext cx="83818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76520" y="20570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ackground informatio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Demographic profile of respondent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atings of universities and their head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ublic perception of graduate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Opinions on Selected Education Policie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onclusion and FAQs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975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Q &amp; A sessio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4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ost Preferred University Graduates</a:t>
            </a:r>
            <a:br>
              <a:rPr sz="32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[Only for respondents involved in recruiting new staffs]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304920" y="1371600"/>
          <a:ext cx="9448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371600"/>
                    <a:ext cx="9448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038480" y="617220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Times New Roman"/>
              </a:rPr>
              <a:t>Valid samples (2005): </a:t>
            </a: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26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</a:rPr>
              <a:t>Standard error (for 2005 at 95% confidence level): +/-6.2%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09680" y="533520"/>
          <a:ext cx="579132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33520"/>
                    <a:ext cx="57913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asons for Graduate Preferences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[Only for respondents involved in recruiting new staffs]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-457200" y="1143000"/>
          <a:ext cx="96775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143000"/>
                    <a:ext cx="9677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57200" y="6431040"/>
            <a:ext cx="672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ecff"/>
                </a:solidFill>
                <a:latin typeface="Times New Roman"/>
              </a:rPr>
              <a:t>Note: Reasons registering less than 5% for all years are not shown here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8120" y="533520"/>
          <a:ext cx="579096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33520"/>
                    <a:ext cx="57909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48320" y="594360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Valid samples (2005): </a:t>
            </a: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187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Standard Error (for 2005 at 95% conf. level): +/-7.4% (not 6.2% as shown in the original slide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1337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Opinions on Select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Education Polici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685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Government Fund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to Local Universiti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600200" y="838080"/>
          <a:ext cx="1219212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838080"/>
                    <a:ext cx="1219212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82880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Number of Local Universiti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-1752480" y="914400"/>
          <a:ext cx="12573000" cy="50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914400"/>
                    <a:ext cx="125730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4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75248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Direction for Admission of Non-local Student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1371600" y="1219320"/>
          <a:ext cx="12344400" cy="47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1219320"/>
                    <a:ext cx="123444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03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685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Effect of Admitting more Non-local Studen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-1447920" y="533520"/>
          <a:ext cx="12192120" cy="54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533520"/>
                    <a:ext cx="121921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1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細明體"/>
              </a:rPr>
              <a:t>The Proposed “3+3+4” Academic Structur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-1600200" y="1066680"/>
          <a:ext cx="12725280" cy="51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066680"/>
                    <a:ext cx="127252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05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76520"/>
            <a:ext cx="83818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Between 2001 and 2005, HKU continued to be perceived by the public as the best performing university, with CUHK &amp; HKUST consistently taking the 2</a:t>
            </a:r>
            <a:r>
              <a:rPr b="1" lang="zh-TW" sz="2200" spc="-1" strike="noStrike" baseline="30000">
                <a:solidFill>
                  <a:srgbClr val="ccecff"/>
                </a:solidFill>
                <a:latin typeface="Times New Roman"/>
              </a:rPr>
              <a:t>nd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 &amp; 3</a:t>
            </a:r>
            <a:r>
              <a:rPr b="1" lang="zh-TW" sz="22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 ranks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Professor Lap-chee Tsui of HKU and Professor Paul Chu of HKUST are perceived as the best performing university heads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“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Language proficiency”, “social/work experience” and “work attitude” are perceived to be important qualities which most Hong Kong university graduates lack of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Of the 264 employers interviewed, most preferred employing HKU, CUHK &amp; PolyU graduate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275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細明體"/>
              </a:rPr>
              <a:t>Main reasons for their preference were “good knowledge of job-related areas” and “good performance of previous graduate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Background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ome Frequently Asked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2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o enhance rational and educational discussions of university ranking surveys, a list of frequently asked questions (FAQ) and answers has been prepared,  distributed, as well as uploaded onto the HKU POP Site at 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Times New Roman"/>
              </a:rPr>
              <a:t>http://hkupop.hku.hk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細明體"/>
              </a:rPr>
              <a:t>Journalists and members of the general public are welcome to contribute questions to the FAQ list, all answers to these FAQs will be open to public reference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676520"/>
            <a:ext cx="80773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2819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nd of Present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Commissioned by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Media Education Info-tech Co. Ltd. (which owns “Education18.com”)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  <a:ea typeface="細明體"/>
              </a:rPr>
              <a:t>since 2001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, this is the 5</a:t>
            </a:r>
            <a:r>
              <a:rPr b="1" lang="zh-TW" sz="2000" spc="-1" strike="noStrike" baseline="30000">
                <a:solidFill>
                  <a:srgbClr val="ccecff"/>
                </a:solidFill>
                <a:latin typeface="Times New Roman"/>
                <a:ea typeface="細明體"/>
              </a:rPr>
              <a:t>th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 survey in the row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Key objective is to gauge the general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public’s perception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of local universities and their opinions on selected education issues.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The survey questionnaire was designed by HKU POP after consulting the cli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Fieldwork and data analysis conducted independently by POP, but 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final rankings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wholly or partly based on perception figures are 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compiled independently by 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  <a:ea typeface="細明體"/>
              </a:rPr>
              <a:t>Media Education Info-tech Co. Lt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Survey reports of public opinion surveys for all years are available a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HKU POP SITE (http://hkupop.hku.hk)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for public consumptio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e of survey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23-30 March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arget population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antonese-speaking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ulation of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ong Kong of age 18 or abov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urvey method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elephone survey with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nterview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e size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,517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Response rate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60.5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ing error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Less than 1.3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2800440"/>
                <a:tab algn="l" pos="2921040"/>
                <a:tab algn="l" pos="3048120"/>
                <a:tab algn="l" pos="3174840"/>
                <a:tab algn="l" pos="3301920"/>
                <a:tab algn="l" pos="3429000"/>
                <a:tab algn="l" pos="3556080"/>
                <a:tab algn="l" pos="3683160"/>
                <a:tab algn="l" pos="3809880"/>
                <a:tab algn="l" pos="3936960"/>
                <a:tab algn="l" pos="4064040"/>
                <a:tab algn="l" pos="4191120"/>
                <a:tab algn="l" pos="4317840"/>
                <a:tab algn="l" pos="4444920"/>
                <a:tab algn="l" pos="4572000"/>
                <a:tab algn="l" pos="4699080"/>
                <a:tab algn="l" pos="4826160"/>
                <a:tab algn="l" pos="4952880"/>
                <a:tab algn="l" pos="5079960"/>
                <a:tab algn="l" pos="5207040"/>
                <a:tab algn="l" pos="533412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Weighting method: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a adjusted according to the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ender-age distribution of 2001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ulation cens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Notes of Ca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Findings only reflect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細明體"/>
              </a:rPr>
              <a:t>general public perceptio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 of local universities, but not results of objective appraisals or professional assessment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細明體"/>
              </a:rPr>
              <a:t>Absolute rating (i.e. 0-10)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according to individual attributes was used, and thus relative ranking of universities should not be over-emphasiz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ll respondents were told at the beginning of the interview that POP was an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dependent research body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equence of prompting respondents with the name of eight institutions wa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ndomly rotate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to avoid possible bi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209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emographic Profil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of Respond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Gender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-1371600" y="609480"/>
          <a:ext cx="1255536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609480"/>
                    <a:ext cx="125553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35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517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Age Distribu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-533520" y="998640"/>
          <a:ext cx="10211040" cy="58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98640"/>
                    <a:ext cx="102110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486400" y="59436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Valid samples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1" lang="en-GB" sz="1600" spc="-1" strike="noStrike">
                <a:solidFill>
                  <a:srgbClr val="ccecff"/>
                </a:solidFill>
                <a:latin typeface="Times New Roman"/>
              </a:rPr>
              <a:t>1,435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752480"/>
            <a:ext cx="80769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06-07-26T03:21:03Z</dcterms:modified>
  <cp:revision>657</cp:revision>
  <dc:subject/>
  <dc:title>無投影片標題</dc:title>
</cp:coreProperties>
</file>