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997902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243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53080" y="-360"/>
            <a:ext cx="43243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7456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8640" y="3257640"/>
            <a:ext cx="798192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5280"/>
            <a:ext cx="4324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53080" y="6515280"/>
            <a:ext cx="4324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83D9-FEAC-41AD-935E-E91516061D5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3274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98640" y="3257640"/>
            <a:ext cx="7981920" cy="30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281" name="投影片編號版面配置區 3"/>
          <p:cNvSpPr/>
          <p:nvPr/>
        </p:nvSpPr>
        <p:spPr>
          <a:xfrm>
            <a:off x="5653080" y="6513480"/>
            <a:ext cx="4324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8810-51EE-44C8-99D6-2311A6C2DB09}" type="slidenum">
              <a:rPr b="0" lang="zh-TW" sz="1200" spc="-1" strike="noStrike">
                <a:solidFill>
                  <a:srgbClr val="000000"/>
                </a:solidFill>
                <a:latin typeface="Tahoma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3274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98640" y="3257640"/>
            <a:ext cx="7981920" cy="30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284" name="投影片編號版面配置區 3"/>
          <p:cNvSpPr/>
          <p:nvPr/>
        </p:nvSpPr>
        <p:spPr>
          <a:xfrm>
            <a:off x="5653080" y="6513480"/>
            <a:ext cx="4324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B38D-2340-4430-9652-CB1258DD27A7}" type="slidenum">
              <a:rPr b="0" lang="zh-TW" sz="1200" spc="-1" strike="noStrike">
                <a:solidFill>
                  <a:srgbClr val="000000"/>
                </a:solidFill>
                <a:latin typeface="Tahoma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7C62-4407-4E43-898E-9E88C5BE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35AC-DC2E-499F-B681-ADA90134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4C22-2E97-4362-8CAE-729BAC212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1FAE-FEAD-4BB8-AAD2-69AE5B8F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47EF-3578-49B2-BB8B-C9D261BC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7FCB-A93E-40F6-A87E-0BE23214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B367-3ABF-4B84-9FE8-578F7DDD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900F-F9F7-4F88-A22D-26AFF05D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D7E5-7E61-4CBB-A7AF-38E5F772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6008-4772-4EF1-92A7-CCEE55D3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05AA-56B9-4909-9155-16223D66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C372-9AC6-4B89-ADDE-0F2BA839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1F74-0981-4E4D-B8C4-DB002E820A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3903840" y="3019320"/>
            <a:ext cx="141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663300"/>
                </a:solidFill>
                <a:latin typeface="Westwood LET"/>
                <a:ea typeface="標楷體"/>
              </a:rPr>
              <a:t>「香港家庭快樂指數調查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663300"/>
                </a:solidFill>
                <a:latin typeface="Westwood LET"/>
                <a:ea typeface="標楷體"/>
              </a:rPr>
              <a:t>發佈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bgca"/>
          <p:cNvPicPr/>
          <p:nvPr/>
        </p:nvPicPr>
        <p:blipFill>
          <a:blip r:embed="rId1"/>
          <a:stretch/>
        </p:blipFill>
        <p:spPr>
          <a:xfrm>
            <a:off x="357120" y="1714680"/>
            <a:ext cx="2990880" cy="80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2857680" y="1828800"/>
          <a:ext cx="6095880" cy="609480"/>
        </p:xfrm>
        <a:graphic>
          <a:graphicData uri="http://schemas.openxmlformats.org/drawingml/2006/table">
            <a:tbl>
              <a:tblPr/>
              <a:tblGrid>
                <a:gridCol w="3695400"/>
                <a:gridCol w="2400480"/>
              </a:tblGrid>
              <a:tr h="61020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548dd4"/>
                          </a:solidFill>
                          <a:latin typeface="MS Gothic"/>
                          <a:ea typeface="MS Gothic"/>
                        </a:rPr>
                        <a:t>香港大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548dd4"/>
                          </a:solidFill>
                          <a:latin typeface="MS Gothic"/>
                          <a:ea typeface="MS Gothic"/>
                        </a:rPr>
                        <a:t>民意研究計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48dd4"/>
                          </a:solidFill>
                          <a:latin typeface="Calibri"/>
                          <a:ea typeface="微軟正黑體"/>
                        </a:rPr>
                        <a:t>                                       </a:t>
                      </a:r>
                      <a:r>
                        <a:rPr b="0" lang="zh-TW" sz="1200" spc="-1" strike="noStrike">
                          <a:solidFill>
                            <a:srgbClr val="548dd4"/>
                          </a:solidFill>
                          <a:latin typeface="Calibri"/>
                          <a:ea typeface="SimHei"/>
                        </a:rPr>
                        <a:t>全力支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Picture 1108" descr="HKU Logo"/>
          <p:cNvPicPr/>
          <p:nvPr/>
        </p:nvPicPr>
        <p:blipFill>
          <a:blip r:embed="rId2"/>
          <a:stretch/>
        </p:blipFill>
        <p:spPr>
          <a:xfrm>
            <a:off x="3643200" y="1428840"/>
            <a:ext cx="962280" cy="1000080"/>
          </a:xfrm>
          <a:prstGeom prst="rect">
            <a:avLst/>
          </a:prstGeom>
          <a:ln w="0">
            <a:noFill/>
          </a:ln>
        </p:spPr>
      </p:pic>
      <p:sp>
        <p:nvSpPr>
          <p:cNvPr id="52" name="文字方塊 8"/>
          <p:cNvSpPr/>
          <p:nvPr/>
        </p:nvSpPr>
        <p:spPr>
          <a:xfrm>
            <a:off x="6429240" y="607212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008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9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15"/>
          <p:cNvGraphicFramePr/>
          <p:nvPr/>
        </p:nvGraphicFramePr>
        <p:xfrm>
          <a:off x="6324480" y="1523880"/>
          <a:ext cx="1905120" cy="9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1523880"/>
                    <a:ext cx="1905120" cy="9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840" y="500040"/>
            <a:ext cx="8643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0-100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評價一下你身邊既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家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/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朋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最近幾個月既開心程度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0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非常唔開心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非常開心。你會俾佢地幾多分呢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71720" y="1714680"/>
          <a:ext cx="1785960" cy="1428480"/>
        </p:xfrm>
        <a:graphic>
          <a:graphicData uri="http://schemas.openxmlformats.org/drawingml/2006/table">
            <a:tbl>
              <a:tblPr/>
              <a:tblGrid>
                <a:gridCol w="892080"/>
                <a:gridCol w="893880"/>
              </a:tblGrid>
              <a:tr h="2854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家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6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中位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誤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基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3571920" y="1714680"/>
          <a:ext cx="1712880" cy="1428480"/>
        </p:xfrm>
        <a:graphic>
          <a:graphicData uri="http://schemas.openxmlformats.org/drawingml/2006/table">
            <a:tbl>
              <a:tblPr/>
              <a:tblGrid>
                <a:gridCol w="857160"/>
                <a:gridCol w="855720"/>
              </a:tblGrid>
              <a:tr h="2854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青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中位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誤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基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6000840" y="1714680"/>
          <a:ext cx="1857240" cy="1428480"/>
        </p:xfrm>
        <a:graphic>
          <a:graphicData uri="http://schemas.openxmlformats.org/drawingml/2006/table">
            <a:tbl>
              <a:tblPr/>
              <a:tblGrid>
                <a:gridCol w="928440"/>
                <a:gridCol w="928800"/>
              </a:tblGrid>
              <a:tr h="2854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兒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中位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誤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AutoShape 4"/>
          <p:cNvSpPr/>
          <p:nvPr/>
        </p:nvSpPr>
        <p:spPr>
          <a:xfrm>
            <a:off x="1214280" y="1785960"/>
            <a:ext cx="173160" cy="190440"/>
          </a:xfrm>
          <a:custGeom>
            <a:avLst/>
            <a:gdLst>
              <a:gd name="textAreaLeft" fmla="*/ 8280 w 173160"/>
              <a:gd name="textAreaRight" fmla="*/ 164880 w 173160"/>
              <a:gd name="textAreaTop" fmla="*/ 8280 h 190440"/>
              <a:gd name="textAreaBottom" fmla="*/ 182160 h 190440"/>
            </a:gdLst>
            <a:ahLst/>
            <a:rect l="textAreaLeft" t="textAreaTop" r="textAreaRight" b="textAreaBottom"/>
            <a:pathLst>
              <a:path w="21600" h="23751">
                <a:moveTo>
                  <a:pt x="3600" y="0"/>
                </a:moveTo>
                <a:arcTo wR="3600" hR="3600" stAng="16200000" swAng="-5400000"/>
                <a:lnTo>
                  <a:pt x="0" y="20151"/>
                </a:lnTo>
                <a:arcTo wR="3600" hR="3600" stAng="10800000" swAng="-5400000"/>
                <a:lnTo>
                  <a:pt x="18000" y="237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0">
            <a:noFill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3643200" y="1785960"/>
            <a:ext cx="173160" cy="190440"/>
          </a:xfrm>
          <a:custGeom>
            <a:avLst/>
            <a:gdLst>
              <a:gd name="textAreaLeft" fmla="*/ 8280 w 173160"/>
              <a:gd name="textAreaRight" fmla="*/ 164880 w 173160"/>
              <a:gd name="textAreaTop" fmla="*/ 8280 h 190440"/>
              <a:gd name="textAreaBottom" fmla="*/ 182160 h 190440"/>
            </a:gdLst>
            <a:ahLst/>
            <a:rect l="textAreaLeft" t="textAreaTop" r="textAreaRight" b="textAreaBottom"/>
            <a:pathLst>
              <a:path w="21600" h="23751">
                <a:moveTo>
                  <a:pt x="3600" y="0"/>
                </a:moveTo>
                <a:arcTo wR="3600" hR="3600" stAng="16200000" swAng="-5400000"/>
                <a:lnTo>
                  <a:pt x="0" y="20151"/>
                </a:lnTo>
                <a:arcTo wR="3600" hR="3600" stAng="10800000" swAng="-5400000"/>
                <a:lnTo>
                  <a:pt x="18000" y="237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"/>
          <p:cNvSpPr/>
          <p:nvPr/>
        </p:nvSpPr>
        <p:spPr>
          <a:xfrm>
            <a:off x="6286680" y="1785960"/>
            <a:ext cx="172800" cy="190440"/>
          </a:xfrm>
          <a:custGeom>
            <a:avLst/>
            <a:gdLst>
              <a:gd name="textAreaLeft" fmla="*/ 8280 w 172800"/>
              <a:gd name="textAreaRight" fmla="*/ 164520 w 172800"/>
              <a:gd name="textAreaTop" fmla="*/ 8280 h 190440"/>
              <a:gd name="textAreaBottom" fmla="*/ 182160 h 190440"/>
            </a:gdLst>
            <a:ahLst/>
            <a:rect l="textAreaLeft" t="textAreaTop" r="textAreaRight" b="textAreaBottom"/>
            <a:pathLst>
              <a:path w="21600" h="23800">
                <a:moveTo>
                  <a:pt x="3600" y="0"/>
                </a:moveTo>
                <a:arcTo wR="3600" hR="3600" stAng="16200000" swAng="-5400000"/>
                <a:lnTo>
                  <a:pt x="0" y="20200"/>
                </a:lnTo>
                <a:arcTo wR="3600" hR="3600" stAng="10800000" swAng="-5400000"/>
                <a:lnTo>
                  <a:pt x="18000" y="23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cddc"/>
          </a:solidFill>
          <a:ln w="0">
            <a:noFill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投影片編號版面配置區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B25D-DE96-45C1-972B-83FAF0BFCD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字方塊 6"/>
          <p:cNvSpPr/>
          <p:nvPr/>
        </p:nvSpPr>
        <p:spPr>
          <a:xfrm>
            <a:off x="214200" y="421488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線接點 15"/>
          <p:cNvSpPr/>
          <p:nvPr/>
        </p:nvSpPr>
        <p:spPr>
          <a:xfrm>
            <a:off x="285840" y="1500120"/>
            <a:ext cx="8501040" cy="180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428760" y="3214800"/>
            <a:ext cx="822456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有幾同意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『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家庭愈快樂，人會愈開心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』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E657-6086-4377-9272-0A1E5C4517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字方塊 6"/>
          <p:cNvSpPr/>
          <p:nvPr/>
        </p:nvSpPr>
        <p:spPr>
          <a:xfrm>
            <a:off x="357120" y="378612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線接點 7"/>
          <p:cNvSpPr/>
          <p:nvPr/>
        </p:nvSpPr>
        <p:spPr>
          <a:xfrm>
            <a:off x="642960" y="1714680"/>
            <a:ext cx="8001000" cy="144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642960" y="2071800"/>
            <a:ext cx="787068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有幾同意</a:t>
            </a:r>
            <a:r>
              <a:rPr b="0" lang="en-US" sz="25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『</a:t>
            </a:r>
            <a:r>
              <a:rPr b="0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愈可以為身邊既人</a:t>
            </a:r>
            <a:br>
              <a:rPr sz="2500"/>
            </a:br>
            <a:r>
              <a:rPr b="0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帶來快樂，人會愈開心</a:t>
            </a:r>
            <a:r>
              <a:rPr b="0" lang="en-US" sz="25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』</a:t>
            </a:r>
            <a:r>
              <a:rPr b="0" lang="en-US" sz="2500" spc="-1" strike="noStrike">
                <a:solidFill>
                  <a:srgbClr val="000000"/>
                </a:solidFill>
                <a:latin typeface="新細明體"/>
                <a:ea typeface="新細明體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ECE3-0C54-481B-A47D-199C603571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字方塊 6"/>
          <p:cNvSpPr/>
          <p:nvPr/>
        </p:nvSpPr>
        <p:spPr>
          <a:xfrm>
            <a:off x="357120" y="378612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線接點 6"/>
          <p:cNvSpPr/>
          <p:nvPr/>
        </p:nvSpPr>
        <p:spPr>
          <a:xfrm>
            <a:off x="571680" y="1714680"/>
            <a:ext cx="8001000" cy="144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642960" y="2000160"/>
            <a:ext cx="780408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有幾同意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『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開心係在於我如何面對生活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』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6C30-FEBA-4B75-A8DF-9B393E8AF6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字方塊 6"/>
          <p:cNvSpPr/>
          <p:nvPr/>
        </p:nvSpPr>
        <p:spPr>
          <a:xfrm>
            <a:off x="357120" y="378612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線接點 6"/>
          <p:cNvSpPr/>
          <p:nvPr/>
        </p:nvSpPr>
        <p:spPr>
          <a:xfrm>
            <a:off x="571680" y="1714680"/>
            <a:ext cx="8001000" cy="144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714240" y="1928880"/>
            <a:ext cx="758988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有幾同意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『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愈有錢，會愈開心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』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2B4E-93F3-482A-B5DD-84DAF3B06F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字方塊 6"/>
          <p:cNvSpPr/>
          <p:nvPr/>
        </p:nvSpPr>
        <p:spPr>
          <a:xfrm>
            <a:off x="428760" y="371484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線接點 6"/>
          <p:cNvSpPr/>
          <p:nvPr/>
        </p:nvSpPr>
        <p:spPr>
          <a:xfrm>
            <a:off x="571680" y="1714680"/>
            <a:ext cx="8001000" cy="144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714240" y="1928880"/>
            <a:ext cx="787104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有幾同意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 『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是一個充滿喜悅的地方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』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B4B5-7740-40B5-8320-9F7A055E3E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線接點 6"/>
          <p:cNvSpPr/>
          <p:nvPr/>
        </p:nvSpPr>
        <p:spPr>
          <a:xfrm>
            <a:off x="571680" y="1643040"/>
            <a:ext cx="8001000" cy="144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字方塊 6"/>
          <p:cNvSpPr/>
          <p:nvPr/>
        </p:nvSpPr>
        <p:spPr>
          <a:xfrm>
            <a:off x="428760" y="371484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714240" y="1928880"/>
            <a:ext cx="787716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760" y="292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2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快樂與家庭關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17C5-85C2-4CEA-8539-96D9189A54A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《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跟誰一起最開心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》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首三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字方塊 6"/>
          <p:cNvSpPr/>
          <p:nvPr/>
        </p:nvSpPr>
        <p:spPr>
          <a:xfrm>
            <a:off x="8510760" y="5786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圓角矩形 6"/>
          <p:cNvSpPr/>
          <p:nvPr/>
        </p:nvSpPr>
        <p:spPr>
          <a:xfrm>
            <a:off x="428760" y="2357280"/>
            <a:ext cx="121428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eadff"/>
              </a:gs>
              <a:gs pos="100000">
                <a:srgbClr val="e7e6ff"/>
              </a:gs>
            </a:gsLst>
            <a:lin ang="16200000"/>
          </a:gradFill>
          <a:ln w="9360">
            <a:solidFill>
              <a:srgbClr val="8e8ce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家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圓角矩形 7"/>
          <p:cNvSpPr/>
          <p:nvPr/>
        </p:nvSpPr>
        <p:spPr>
          <a:xfrm>
            <a:off x="428760" y="3714840"/>
            <a:ext cx="121428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f2ff"/>
              </a:gs>
              <a:gs pos="100000">
                <a:srgbClr val="fbfbff"/>
              </a:gs>
            </a:gsLst>
            <a:lin ang="16200000"/>
          </a:gradFill>
          <a:ln w="9360">
            <a:solidFill>
              <a:srgbClr val="eaeaf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青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圓角矩形 8"/>
          <p:cNvSpPr/>
          <p:nvPr/>
        </p:nvSpPr>
        <p:spPr>
          <a:xfrm>
            <a:off x="428760" y="4929120"/>
            <a:ext cx="121428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7f0ff"/>
              </a:gs>
              <a:gs pos="100000">
                <a:srgbClr val="e1fbff"/>
              </a:gs>
            </a:gsLst>
            <a:lin ang="16200000"/>
          </a:gradFill>
          <a:ln w="9360">
            <a:solidFill>
              <a:srgbClr val="53bb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兒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投影片編號版面配置區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77D8-6104-45A2-A5A0-9B9859B55C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線接點 10"/>
          <p:cNvSpPr/>
          <p:nvPr/>
        </p:nvSpPr>
        <p:spPr>
          <a:xfrm>
            <a:off x="571680" y="1714680"/>
            <a:ext cx="8001000" cy="144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"/>
          <p:cNvPicPr/>
          <p:nvPr/>
        </p:nvPicPr>
        <p:blipFill>
          <a:blip r:embed="rId1"/>
          <a:stretch/>
        </p:blipFill>
        <p:spPr>
          <a:xfrm>
            <a:off x="1643040" y="1785960"/>
            <a:ext cx="6870600" cy="45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《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不開心時會找誰傾訴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》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首三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字方塊 6"/>
          <p:cNvSpPr/>
          <p:nvPr/>
        </p:nvSpPr>
        <p:spPr>
          <a:xfrm>
            <a:off x="8510760" y="5786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圓角矩形 6"/>
          <p:cNvSpPr/>
          <p:nvPr/>
        </p:nvSpPr>
        <p:spPr>
          <a:xfrm>
            <a:off x="428760" y="2286000"/>
            <a:ext cx="121428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eadff"/>
              </a:gs>
              <a:gs pos="100000">
                <a:srgbClr val="e7e6ff"/>
              </a:gs>
            </a:gsLst>
            <a:lin ang="16200000"/>
          </a:gradFill>
          <a:ln w="9360">
            <a:solidFill>
              <a:srgbClr val="8e8ce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家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4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圓角矩形 7"/>
          <p:cNvSpPr/>
          <p:nvPr/>
        </p:nvSpPr>
        <p:spPr>
          <a:xfrm>
            <a:off x="428760" y="3643200"/>
            <a:ext cx="121428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f2ff"/>
              </a:gs>
              <a:gs pos="100000">
                <a:srgbClr val="fbfbff"/>
              </a:gs>
            </a:gsLst>
            <a:lin ang="16200000"/>
          </a:gradFill>
          <a:ln w="9360">
            <a:solidFill>
              <a:srgbClr val="eaeaf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青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圓角矩形 8"/>
          <p:cNvSpPr/>
          <p:nvPr/>
        </p:nvSpPr>
        <p:spPr>
          <a:xfrm>
            <a:off x="428760" y="4929120"/>
            <a:ext cx="121428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7f0ff"/>
              </a:gs>
              <a:gs pos="100000">
                <a:srgbClr val="e1fbff"/>
              </a:gs>
            </a:gsLst>
            <a:lin ang="16200000"/>
          </a:gradFill>
          <a:ln w="9360">
            <a:solidFill>
              <a:srgbClr val="53bb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兒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投影片編號版面配置區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4028-5BC0-4CB8-8A1A-A489A33806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線接點 10"/>
          <p:cNvSpPr/>
          <p:nvPr/>
        </p:nvSpPr>
        <p:spPr>
          <a:xfrm>
            <a:off x="642960" y="1714680"/>
            <a:ext cx="8001000" cy="144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1"/>
          <a:stretch/>
        </p:blipFill>
        <p:spPr>
          <a:xfrm>
            <a:off x="1785960" y="1928880"/>
            <a:ext cx="67248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0-10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去評價你同父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/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仔女相處有幾開心，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非常唔開心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非常開心。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會俾幾多分你同父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/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仔女既相處有幾開心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字方塊 6"/>
          <p:cNvSpPr/>
          <p:nvPr/>
        </p:nvSpPr>
        <p:spPr>
          <a:xfrm>
            <a:off x="223920" y="40719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6AA8-B4F8-4127-B7E0-8A81AC8B15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214280" y="1928880"/>
          <a:ext cx="1785960" cy="1428840"/>
        </p:xfrm>
        <a:graphic>
          <a:graphicData uri="http://schemas.openxmlformats.org/drawingml/2006/table">
            <a:tbl>
              <a:tblPr/>
              <a:tblGrid>
                <a:gridCol w="892440"/>
                <a:gridCol w="893520"/>
              </a:tblGrid>
              <a:tr h="2858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家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中位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誤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基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571920" y="1928880"/>
          <a:ext cx="1712880" cy="1428840"/>
        </p:xfrm>
        <a:graphic>
          <a:graphicData uri="http://schemas.openxmlformats.org/drawingml/2006/table">
            <a:tbl>
              <a:tblPr/>
              <a:tblGrid>
                <a:gridCol w="857160"/>
                <a:gridCol w="855720"/>
              </a:tblGrid>
              <a:tr h="2858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青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中位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誤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基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000840" y="1928880"/>
          <a:ext cx="1857240" cy="1428840"/>
        </p:xfrm>
        <a:graphic>
          <a:graphicData uri="http://schemas.openxmlformats.org/drawingml/2006/table">
            <a:tbl>
              <a:tblPr/>
              <a:tblGrid>
                <a:gridCol w="928440"/>
                <a:gridCol w="928800"/>
              </a:tblGrid>
              <a:tr h="2858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兒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中位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誤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AutoShape 4"/>
          <p:cNvSpPr/>
          <p:nvPr/>
        </p:nvSpPr>
        <p:spPr>
          <a:xfrm>
            <a:off x="1357200" y="2000160"/>
            <a:ext cx="173160" cy="190440"/>
          </a:xfrm>
          <a:custGeom>
            <a:avLst/>
            <a:gdLst>
              <a:gd name="textAreaLeft" fmla="*/ 8280 w 173160"/>
              <a:gd name="textAreaRight" fmla="*/ 164880 w 173160"/>
              <a:gd name="textAreaTop" fmla="*/ 8280 h 190440"/>
              <a:gd name="textAreaBottom" fmla="*/ 182160 h 190440"/>
            </a:gdLst>
            <a:ahLst/>
            <a:rect l="textAreaLeft" t="textAreaTop" r="textAreaRight" b="textAreaBottom"/>
            <a:pathLst>
              <a:path w="21600" h="23751">
                <a:moveTo>
                  <a:pt x="3600" y="0"/>
                </a:moveTo>
                <a:arcTo wR="3600" hR="3600" stAng="16200000" swAng="-5400000"/>
                <a:lnTo>
                  <a:pt x="0" y="20151"/>
                </a:lnTo>
                <a:arcTo wR="3600" hR="3600" stAng="10800000" swAng="-5400000"/>
                <a:lnTo>
                  <a:pt x="18000" y="237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0">
            <a:noFill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2"/>
          <p:cNvSpPr/>
          <p:nvPr/>
        </p:nvSpPr>
        <p:spPr>
          <a:xfrm>
            <a:off x="3714840" y="2000160"/>
            <a:ext cx="172800" cy="190440"/>
          </a:xfrm>
          <a:custGeom>
            <a:avLst/>
            <a:gdLst>
              <a:gd name="textAreaLeft" fmla="*/ 8280 w 172800"/>
              <a:gd name="textAreaRight" fmla="*/ 164520 w 172800"/>
              <a:gd name="textAreaTop" fmla="*/ 8280 h 190440"/>
              <a:gd name="textAreaBottom" fmla="*/ 182160 h 190440"/>
            </a:gdLst>
            <a:ahLst/>
            <a:rect l="textAreaLeft" t="textAreaTop" r="textAreaRight" b="textAreaBottom"/>
            <a:pathLst>
              <a:path w="21600" h="23800">
                <a:moveTo>
                  <a:pt x="3600" y="0"/>
                </a:moveTo>
                <a:arcTo wR="3600" hR="3600" stAng="16200000" swAng="-5400000"/>
                <a:lnTo>
                  <a:pt x="0" y="20200"/>
                </a:lnTo>
                <a:arcTo wR="3600" hR="3600" stAng="10800000" swAng="-5400000"/>
                <a:lnTo>
                  <a:pt x="18000" y="23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6215040" y="2000160"/>
            <a:ext cx="173160" cy="190440"/>
          </a:xfrm>
          <a:custGeom>
            <a:avLst/>
            <a:gdLst>
              <a:gd name="textAreaLeft" fmla="*/ 8280 w 173160"/>
              <a:gd name="textAreaRight" fmla="*/ 164880 w 173160"/>
              <a:gd name="textAreaTop" fmla="*/ 8280 h 190440"/>
              <a:gd name="textAreaBottom" fmla="*/ 182160 h 190440"/>
            </a:gdLst>
            <a:ahLst/>
            <a:rect l="textAreaLeft" t="textAreaTop" r="textAreaRight" b="textAreaBottom"/>
            <a:pathLst>
              <a:path w="21600" h="23751">
                <a:moveTo>
                  <a:pt x="3600" y="0"/>
                </a:moveTo>
                <a:arcTo wR="3600" hR="3600" stAng="16200000" swAng="-5400000"/>
                <a:lnTo>
                  <a:pt x="0" y="20151"/>
                </a:lnTo>
                <a:arcTo wR="3600" hR="3600" stAng="10800000" swAng="-5400000"/>
                <a:lnTo>
                  <a:pt x="18000" y="237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cddc"/>
          </a:solidFill>
          <a:ln w="0">
            <a:noFill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線接點 13"/>
          <p:cNvSpPr/>
          <p:nvPr/>
        </p:nvSpPr>
        <p:spPr>
          <a:xfrm>
            <a:off x="642960" y="1714680"/>
            <a:ext cx="8001000" cy="144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357120" y="3500280"/>
            <a:ext cx="822960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5"/>
          <p:cNvGraphicFramePr/>
          <p:nvPr/>
        </p:nvGraphicFramePr>
        <p:xfrm>
          <a:off x="1295280" y="685800"/>
          <a:ext cx="1683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685800"/>
                    <a:ext cx="16830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Rectangle 4"/>
          <p:cNvSpPr/>
          <p:nvPr/>
        </p:nvSpPr>
        <p:spPr>
          <a:xfrm>
            <a:off x="3809880" y="8380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大學民意研究計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e University of Hong K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Opinion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家庭快樂指數調查</a:t>
            </a:r>
            <a:br>
              <a:rPr sz="2900"/>
            </a:br>
            <a:r>
              <a:rPr b="1" lang="zh-TW" sz="2900" spc="-1" strike="noStrike">
                <a:solidFill>
                  <a:srgbClr val="000000"/>
                </a:solidFill>
                <a:latin typeface="Times New Roman"/>
                <a:ea typeface="標楷體"/>
              </a:rPr>
              <a:t>結果簡報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7720" y="45720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鍾庭耀博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民意研究計劃主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0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本報告內一切內容與香港大學立場無關，內容由民意研究計劃主任鍾庭耀博士負責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>
            <a:off x="1143000" y="4114800"/>
            <a:ext cx="7086600" cy="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0"/>
          <p:cNvSpPr/>
          <p:nvPr/>
        </p:nvSpPr>
        <p:spPr>
          <a:xfrm>
            <a:off x="1143000" y="2781360"/>
            <a:ext cx="7086600" cy="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投影片編號版面配置區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F680-0366-4C95-9975-82EC0AFE8B43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《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為令父母／子女開心而做的事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》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首三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圓角矩形 6"/>
          <p:cNvSpPr/>
          <p:nvPr/>
        </p:nvSpPr>
        <p:spPr>
          <a:xfrm>
            <a:off x="428760" y="2286000"/>
            <a:ext cx="121428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eadff"/>
              </a:gs>
              <a:gs pos="100000">
                <a:srgbClr val="e7e6ff"/>
              </a:gs>
            </a:gsLst>
            <a:lin ang="16200000"/>
          </a:gradFill>
          <a:ln w="9360">
            <a:solidFill>
              <a:srgbClr val="8e8ce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家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圓角矩形 7"/>
          <p:cNvSpPr/>
          <p:nvPr/>
        </p:nvSpPr>
        <p:spPr>
          <a:xfrm>
            <a:off x="428760" y="3643200"/>
            <a:ext cx="121428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f2ff"/>
              </a:gs>
              <a:gs pos="100000">
                <a:srgbClr val="fbfbff"/>
              </a:gs>
            </a:gsLst>
            <a:lin ang="16200000"/>
          </a:gradFill>
          <a:ln w="9360">
            <a:solidFill>
              <a:srgbClr val="eaeaf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青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圓角矩形 8"/>
          <p:cNvSpPr/>
          <p:nvPr/>
        </p:nvSpPr>
        <p:spPr>
          <a:xfrm>
            <a:off x="428760" y="4929120"/>
            <a:ext cx="121428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7f0ff"/>
              </a:gs>
              <a:gs pos="100000">
                <a:srgbClr val="e1fbff"/>
              </a:gs>
            </a:gsLst>
            <a:lin ang="16200000"/>
          </a:gradFill>
          <a:ln w="9360">
            <a:solidFill>
              <a:srgbClr val="53bb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兒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字方塊 6"/>
          <p:cNvSpPr/>
          <p:nvPr/>
        </p:nvSpPr>
        <p:spPr>
          <a:xfrm>
            <a:off x="8296560" y="5786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投影片編號版面配置區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3431-B01B-476E-9EA6-FF366A39AD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線接點 10"/>
          <p:cNvSpPr/>
          <p:nvPr/>
        </p:nvSpPr>
        <p:spPr>
          <a:xfrm>
            <a:off x="571680" y="1643040"/>
            <a:ext cx="8001000" cy="144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0" descr=""/>
          <p:cNvPicPr/>
          <p:nvPr/>
        </p:nvPicPr>
        <p:blipFill>
          <a:blip r:embed="rId1"/>
          <a:stretch/>
        </p:blipFill>
        <p:spPr>
          <a:xfrm>
            <a:off x="1571760" y="1928880"/>
            <a:ext cx="715788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76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3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快樂與跟他人的關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FA4A-0BA6-48B9-80A8-26300D8D46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標楷體"/>
              </a:rPr>
              <a:t>《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最影響被訪者心情的人際關係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》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首三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圓角矩形 5"/>
          <p:cNvSpPr/>
          <p:nvPr/>
        </p:nvSpPr>
        <p:spPr>
          <a:xfrm>
            <a:off x="428760" y="2357280"/>
            <a:ext cx="121428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eadff"/>
              </a:gs>
              <a:gs pos="100000">
                <a:srgbClr val="e7e6ff"/>
              </a:gs>
            </a:gsLst>
            <a:lin ang="16200000"/>
          </a:gradFill>
          <a:ln w="9360">
            <a:solidFill>
              <a:srgbClr val="8e8ce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家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圓角矩形 6"/>
          <p:cNvSpPr/>
          <p:nvPr/>
        </p:nvSpPr>
        <p:spPr>
          <a:xfrm>
            <a:off x="428760" y="3643200"/>
            <a:ext cx="121428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f2ff"/>
              </a:gs>
              <a:gs pos="100000">
                <a:srgbClr val="fbfbff"/>
              </a:gs>
            </a:gsLst>
            <a:lin ang="16200000"/>
          </a:gradFill>
          <a:ln w="9360">
            <a:solidFill>
              <a:srgbClr val="eaeaf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青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圓角矩形 7"/>
          <p:cNvSpPr/>
          <p:nvPr/>
        </p:nvSpPr>
        <p:spPr>
          <a:xfrm>
            <a:off x="428760" y="4929120"/>
            <a:ext cx="121428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7f0ff"/>
              </a:gs>
              <a:gs pos="100000">
                <a:srgbClr val="e1fbff"/>
              </a:gs>
            </a:gsLst>
            <a:lin ang="16200000"/>
          </a:gradFill>
          <a:ln w="9360">
            <a:solidFill>
              <a:srgbClr val="53bb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兒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4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字方塊 6"/>
          <p:cNvSpPr/>
          <p:nvPr/>
        </p:nvSpPr>
        <p:spPr>
          <a:xfrm>
            <a:off x="8296560" y="571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投影片編號版面配置區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52C1-8DB5-402B-9AFA-E435882850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線接點 10"/>
          <p:cNvSpPr/>
          <p:nvPr/>
        </p:nvSpPr>
        <p:spPr>
          <a:xfrm>
            <a:off x="571680" y="1643040"/>
            <a:ext cx="8001000" cy="144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"/>
          <p:cNvPicPr/>
          <p:nvPr/>
        </p:nvPicPr>
        <p:blipFill>
          <a:blip r:embed="rId1"/>
          <a:stretch/>
        </p:blipFill>
        <p:spPr>
          <a:xfrm>
            <a:off x="1571760" y="1785960"/>
            <a:ext cx="687060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標楷體"/>
              </a:rPr>
              <a:t>《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當身邊的人不開心時我會做的事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》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首三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字方塊 6"/>
          <p:cNvSpPr/>
          <p:nvPr/>
        </p:nvSpPr>
        <p:spPr>
          <a:xfrm>
            <a:off x="8510760" y="5786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圓角矩形 6"/>
          <p:cNvSpPr/>
          <p:nvPr/>
        </p:nvSpPr>
        <p:spPr>
          <a:xfrm>
            <a:off x="428760" y="2071800"/>
            <a:ext cx="121428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eadff"/>
              </a:gs>
              <a:gs pos="100000">
                <a:srgbClr val="e7e6ff"/>
              </a:gs>
            </a:gsLst>
            <a:lin ang="16200000"/>
          </a:gradFill>
          <a:ln w="9360">
            <a:solidFill>
              <a:srgbClr val="8e8ce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家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圓角矩形 7"/>
          <p:cNvSpPr/>
          <p:nvPr/>
        </p:nvSpPr>
        <p:spPr>
          <a:xfrm>
            <a:off x="428760" y="3500280"/>
            <a:ext cx="121428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f2ff"/>
              </a:gs>
              <a:gs pos="100000">
                <a:srgbClr val="fbfbff"/>
              </a:gs>
            </a:gsLst>
            <a:lin ang="16200000"/>
          </a:gradFill>
          <a:ln w="9360">
            <a:solidFill>
              <a:srgbClr val="eaeaf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青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圓角矩形 8"/>
          <p:cNvSpPr/>
          <p:nvPr/>
        </p:nvSpPr>
        <p:spPr>
          <a:xfrm>
            <a:off x="428760" y="4929120"/>
            <a:ext cx="121428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7f0ff"/>
              </a:gs>
              <a:gs pos="100000">
                <a:srgbClr val="e1fbff"/>
              </a:gs>
            </a:gsLst>
            <a:lin ang="16200000"/>
          </a:gradFill>
          <a:ln w="9360">
            <a:solidFill>
              <a:srgbClr val="53bb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兒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投影片編號版面配置區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7D2A-9AED-42FD-9434-9193E58E4D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線接點 10"/>
          <p:cNvSpPr/>
          <p:nvPr/>
        </p:nvSpPr>
        <p:spPr>
          <a:xfrm>
            <a:off x="642960" y="1643040"/>
            <a:ext cx="8001000" cy="144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0" descr=""/>
          <p:cNvPicPr/>
          <p:nvPr/>
        </p:nvPicPr>
        <p:blipFill>
          <a:blip r:embed="rId1"/>
          <a:stretch/>
        </p:blipFill>
        <p:spPr>
          <a:xfrm>
            <a:off x="1000080" y="1714680"/>
            <a:ext cx="7731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8760" y="299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4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快樂的活動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/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事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64B6-4AF1-4B30-BDF8-9C14C573C6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標楷體"/>
              </a:rPr>
              <a:t>《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令我感到開心的活動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標楷體"/>
              </a:rPr>
              <a:t>/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事情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 》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首三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字方塊 6"/>
          <p:cNvSpPr/>
          <p:nvPr/>
        </p:nvSpPr>
        <p:spPr>
          <a:xfrm>
            <a:off x="8439120" y="5786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圓角矩形 6"/>
          <p:cNvSpPr/>
          <p:nvPr/>
        </p:nvSpPr>
        <p:spPr>
          <a:xfrm>
            <a:off x="214200" y="2357280"/>
            <a:ext cx="121464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eadff"/>
              </a:gs>
              <a:gs pos="100000">
                <a:srgbClr val="e7e6ff"/>
              </a:gs>
            </a:gsLst>
            <a:lin ang="16200000"/>
          </a:gradFill>
          <a:ln w="9360">
            <a:solidFill>
              <a:srgbClr val="8e8ce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家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圓角矩形 7"/>
          <p:cNvSpPr/>
          <p:nvPr/>
        </p:nvSpPr>
        <p:spPr>
          <a:xfrm>
            <a:off x="214200" y="3643200"/>
            <a:ext cx="121464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f2ff"/>
              </a:gs>
              <a:gs pos="100000">
                <a:srgbClr val="fbfbff"/>
              </a:gs>
            </a:gsLst>
            <a:lin ang="16200000"/>
          </a:gradFill>
          <a:ln w="9360">
            <a:solidFill>
              <a:srgbClr val="eaeaf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青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圓角矩形 8"/>
          <p:cNvSpPr/>
          <p:nvPr/>
        </p:nvSpPr>
        <p:spPr>
          <a:xfrm>
            <a:off x="214200" y="4857840"/>
            <a:ext cx="121464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7f0ff"/>
              </a:gs>
              <a:gs pos="100000">
                <a:srgbClr val="e1fbff"/>
              </a:gs>
            </a:gsLst>
            <a:lin ang="16200000"/>
          </a:gradFill>
          <a:ln w="9360">
            <a:solidFill>
              <a:srgbClr val="53bb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兒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投影片編號版面配置區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E47A-6BB6-480E-BB69-E622544093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線接點 10"/>
          <p:cNvSpPr/>
          <p:nvPr/>
        </p:nvSpPr>
        <p:spPr>
          <a:xfrm>
            <a:off x="571680" y="1714680"/>
            <a:ext cx="8001000" cy="144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0" descr=""/>
          <p:cNvPicPr/>
          <p:nvPr/>
        </p:nvPicPr>
        <p:blipFill>
          <a:blip r:embed="rId1"/>
          <a:stretch/>
        </p:blipFill>
        <p:spPr>
          <a:xfrm>
            <a:off x="1000080" y="1928880"/>
            <a:ext cx="743760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問你平時有冇做義工呢？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有，請問過去一年大約做左幾多個鐘義工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071720" y="1857240"/>
          <a:ext cx="1785960" cy="1428840"/>
        </p:xfrm>
        <a:graphic>
          <a:graphicData uri="http://schemas.openxmlformats.org/drawingml/2006/table">
            <a:tbl>
              <a:tblPr/>
              <a:tblGrid>
                <a:gridCol w="892080"/>
                <a:gridCol w="893880"/>
              </a:tblGrid>
              <a:tr h="2858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家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7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中位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誤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基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3571920" y="1857240"/>
          <a:ext cx="1712880" cy="1428840"/>
        </p:xfrm>
        <a:graphic>
          <a:graphicData uri="http://schemas.openxmlformats.org/drawingml/2006/table">
            <a:tbl>
              <a:tblPr/>
              <a:tblGrid>
                <a:gridCol w="857160"/>
                <a:gridCol w="855720"/>
              </a:tblGrid>
              <a:tr h="2858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青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中位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誤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基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6000840" y="1857240"/>
          <a:ext cx="1857240" cy="1428840"/>
        </p:xfrm>
        <a:graphic>
          <a:graphicData uri="http://schemas.openxmlformats.org/drawingml/2006/table">
            <a:tbl>
              <a:tblPr/>
              <a:tblGrid>
                <a:gridCol w="928440"/>
                <a:gridCol w="928800"/>
              </a:tblGrid>
              <a:tr h="2858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兒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中位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誤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AutoShape 4"/>
          <p:cNvSpPr/>
          <p:nvPr/>
        </p:nvSpPr>
        <p:spPr>
          <a:xfrm>
            <a:off x="1214280" y="1928880"/>
            <a:ext cx="173160" cy="190440"/>
          </a:xfrm>
          <a:custGeom>
            <a:avLst/>
            <a:gdLst>
              <a:gd name="textAreaLeft" fmla="*/ 8280 w 173160"/>
              <a:gd name="textAreaRight" fmla="*/ 164880 w 173160"/>
              <a:gd name="textAreaTop" fmla="*/ 8280 h 190440"/>
              <a:gd name="textAreaBottom" fmla="*/ 182160 h 190440"/>
            </a:gdLst>
            <a:ahLst/>
            <a:rect l="textAreaLeft" t="textAreaTop" r="textAreaRight" b="textAreaBottom"/>
            <a:pathLst>
              <a:path w="21600" h="23751">
                <a:moveTo>
                  <a:pt x="3600" y="0"/>
                </a:moveTo>
                <a:arcTo wR="3600" hR="3600" stAng="16200000" swAng="-5400000"/>
                <a:lnTo>
                  <a:pt x="0" y="20151"/>
                </a:lnTo>
                <a:arcTo wR="3600" hR="3600" stAng="10800000" swAng="-5400000"/>
                <a:lnTo>
                  <a:pt x="18000" y="237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0">
            <a:noFill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"/>
          <p:cNvSpPr/>
          <p:nvPr/>
        </p:nvSpPr>
        <p:spPr>
          <a:xfrm>
            <a:off x="3643200" y="1928880"/>
            <a:ext cx="173160" cy="190440"/>
          </a:xfrm>
          <a:custGeom>
            <a:avLst/>
            <a:gdLst>
              <a:gd name="textAreaLeft" fmla="*/ 8280 w 173160"/>
              <a:gd name="textAreaRight" fmla="*/ 164880 w 173160"/>
              <a:gd name="textAreaTop" fmla="*/ 8280 h 190440"/>
              <a:gd name="textAreaBottom" fmla="*/ 182160 h 190440"/>
            </a:gdLst>
            <a:ahLst/>
            <a:rect l="textAreaLeft" t="textAreaTop" r="textAreaRight" b="textAreaBottom"/>
            <a:pathLst>
              <a:path w="21600" h="23751">
                <a:moveTo>
                  <a:pt x="3600" y="0"/>
                </a:moveTo>
                <a:arcTo wR="3600" hR="3600" stAng="16200000" swAng="-5400000"/>
                <a:lnTo>
                  <a:pt x="0" y="20151"/>
                </a:lnTo>
                <a:arcTo wR="3600" hR="3600" stAng="10800000" swAng="-5400000"/>
                <a:lnTo>
                  <a:pt x="18000" y="237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"/>
          <p:cNvSpPr/>
          <p:nvPr/>
        </p:nvSpPr>
        <p:spPr>
          <a:xfrm>
            <a:off x="6286680" y="1928880"/>
            <a:ext cx="172800" cy="190440"/>
          </a:xfrm>
          <a:custGeom>
            <a:avLst/>
            <a:gdLst>
              <a:gd name="textAreaLeft" fmla="*/ 8280 w 172800"/>
              <a:gd name="textAreaRight" fmla="*/ 164520 w 172800"/>
              <a:gd name="textAreaTop" fmla="*/ 8280 h 190440"/>
              <a:gd name="textAreaBottom" fmla="*/ 182160 h 190440"/>
            </a:gdLst>
            <a:ahLst/>
            <a:rect l="textAreaLeft" t="textAreaTop" r="textAreaRight" b="textAreaBottom"/>
            <a:pathLst>
              <a:path w="21600" h="23800">
                <a:moveTo>
                  <a:pt x="3600" y="0"/>
                </a:moveTo>
                <a:arcTo wR="3600" hR="3600" stAng="16200000" swAng="-5400000"/>
                <a:lnTo>
                  <a:pt x="0" y="20200"/>
                </a:lnTo>
                <a:arcTo wR="3600" hR="3600" stAng="10800000" swAng="-5400000"/>
                <a:lnTo>
                  <a:pt x="18000" y="23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cddc"/>
          </a:solidFill>
          <a:ln w="0">
            <a:noFill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投影片編號版面配置區 11"/>
          <p:cNvSpPr/>
          <p:nvPr/>
        </p:nvSpPr>
        <p:spPr>
          <a:xfrm>
            <a:off x="678672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8538-6002-4E31-8D62-4B10231385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字方塊 6"/>
          <p:cNvSpPr/>
          <p:nvPr/>
        </p:nvSpPr>
        <p:spPr>
          <a:xfrm>
            <a:off x="0" y="421488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線接點 12"/>
          <p:cNvSpPr/>
          <p:nvPr/>
        </p:nvSpPr>
        <p:spPr>
          <a:xfrm>
            <a:off x="571680" y="1571760"/>
            <a:ext cx="8001000" cy="144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7" descr=""/>
          <p:cNvPicPr/>
          <p:nvPr/>
        </p:nvPicPr>
        <p:blipFill>
          <a:blip r:embed="rId1"/>
          <a:stretch/>
        </p:blipFill>
        <p:spPr>
          <a:xfrm>
            <a:off x="0" y="3214800"/>
            <a:ext cx="901692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覺得做義工後，個人會開心左定係無咁開心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字方塊 6"/>
          <p:cNvSpPr/>
          <p:nvPr/>
        </p:nvSpPr>
        <p:spPr>
          <a:xfrm>
            <a:off x="295560" y="37148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投影片編號版面配置區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7F8E-35A9-47DD-99B7-AB7602973A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線接點 6"/>
          <p:cNvSpPr/>
          <p:nvPr/>
        </p:nvSpPr>
        <p:spPr>
          <a:xfrm>
            <a:off x="571680" y="1714680"/>
            <a:ext cx="8001000" cy="144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圖表 7" descr=""/>
          <p:cNvPicPr/>
          <p:nvPr/>
        </p:nvPicPr>
        <p:blipFill>
          <a:blip r:embed="rId1"/>
          <a:stretch/>
        </p:blipFill>
        <p:spPr>
          <a:xfrm>
            <a:off x="633240" y="2066760"/>
            <a:ext cx="780444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004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5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給香港人的快樂建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F617-B059-4635-8E16-1C1388625B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《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令香港人更快樂的建議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》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首五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圓角矩形 6"/>
          <p:cNvSpPr/>
          <p:nvPr/>
        </p:nvSpPr>
        <p:spPr>
          <a:xfrm>
            <a:off x="0" y="1928880"/>
            <a:ext cx="128592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eadff"/>
              </a:gs>
              <a:gs pos="100000">
                <a:srgbClr val="e7e6ff"/>
              </a:gs>
            </a:gsLst>
            <a:lin ang="16200000"/>
          </a:gradFill>
          <a:ln w="9360">
            <a:solidFill>
              <a:srgbClr val="8e8ce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家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4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圓角矩形 7"/>
          <p:cNvSpPr/>
          <p:nvPr/>
        </p:nvSpPr>
        <p:spPr>
          <a:xfrm>
            <a:off x="0" y="3500280"/>
            <a:ext cx="128592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f2ff"/>
              </a:gs>
              <a:gs pos="100000">
                <a:srgbClr val="fbfbff"/>
              </a:gs>
            </a:gsLst>
            <a:lin ang="16200000"/>
          </a:gradFill>
          <a:ln w="9360">
            <a:solidFill>
              <a:srgbClr val="eaeaf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青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4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圓角矩形 8"/>
          <p:cNvSpPr/>
          <p:nvPr/>
        </p:nvSpPr>
        <p:spPr>
          <a:xfrm>
            <a:off x="0" y="4857840"/>
            <a:ext cx="128592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7f0ff"/>
              </a:gs>
              <a:gs pos="100000">
                <a:srgbClr val="e1fbff"/>
              </a:gs>
            </a:gsLst>
            <a:lin ang="16200000"/>
          </a:gradFill>
          <a:ln w="9360">
            <a:solidFill>
              <a:srgbClr val="53bb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兒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字方塊 6"/>
          <p:cNvSpPr/>
          <p:nvPr/>
        </p:nvSpPr>
        <p:spPr>
          <a:xfrm>
            <a:off x="8582040" y="60008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投影片編號版面配置區 9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86DF-1662-418F-B319-15E34793D4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線接點 10"/>
          <p:cNvSpPr/>
          <p:nvPr/>
        </p:nvSpPr>
        <p:spPr>
          <a:xfrm>
            <a:off x="500040" y="1285920"/>
            <a:ext cx="8001000" cy="144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0" descr=""/>
          <p:cNvPicPr/>
          <p:nvPr/>
        </p:nvPicPr>
        <p:blipFill>
          <a:blip r:embed="rId1"/>
          <a:stretch/>
        </p:blipFill>
        <p:spPr>
          <a:xfrm>
            <a:off x="1143000" y="1357200"/>
            <a:ext cx="7804080" cy="52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857160" y="1999800"/>
            <a:ext cx="74296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37476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目的：瞭解香港市民對快樂的看法，尤其是家庭關係、人際關係對他們的快樂程度的影響，以及探討有甚麼活動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/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事情可以令人最快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問卷由港大民研計劃諮詢香港小童群益會後獨立設計，數據收集及分析由民研計劃獨立進行，結果亦由民研計劃全面負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方法和結果全面公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研究背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投影片編號版面配置區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FD0D-A242-40A3-9CA2-9AB39211A3CE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線接點 5"/>
          <p:cNvSpPr/>
          <p:nvPr/>
        </p:nvSpPr>
        <p:spPr>
          <a:xfrm>
            <a:off x="571680" y="1714680"/>
            <a:ext cx="8001000" cy="144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問你一日平均會笑幾多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字方塊 6"/>
          <p:cNvSpPr/>
          <p:nvPr/>
        </p:nvSpPr>
        <p:spPr>
          <a:xfrm>
            <a:off x="295560" y="4214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71720" y="1714680"/>
          <a:ext cx="1785960" cy="1428480"/>
        </p:xfrm>
        <a:graphic>
          <a:graphicData uri="http://schemas.openxmlformats.org/drawingml/2006/table">
            <a:tbl>
              <a:tblPr/>
              <a:tblGrid>
                <a:gridCol w="892080"/>
                <a:gridCol w="893880"/>
              </a:tblGrid>
              <a:tr h="2854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家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中位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誤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基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3571920" y="1714680"/>
          <a:ext cx="1712880" cy="1428480"/>
        </p:xfrm>
        <a:graphic>
          <a:graphicData uri="http://schemas.openxmlformats.org/drawingml/2006/table">
            <a:tbl>
              <a:tblPr/>
              <a:tblGrid>
                <a:gridCol w="857160"/>
                <a:gridCol w="855720"/>
              </a:tblGrid>
              <a:tr h="2854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青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中位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誤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基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6000840" y="1714680"/>
          <a:ext cx="1857240" cy="1428480"/>
        </p:xfrm>
        <a:graphic>
          <a:graphicData uri="http://schemas.openxmlformats.org/drawingml/2006/table">
            <a:tbl>
              <a:tblPr/>
              <a:tblGrid>
                <a:gridCol w="928440"/>
                <a:gridCol w="928800"/>
              </a:tblGrid>
              <a:tr h="2854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兒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中位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誤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AutoShape 4"/>
          <p:cNvSpPr/>
          <p:nvPr/>
        </p:nvSpPr>
        <p:spPr>
          <a:xfrm>
            <a:off x="1214280" y="1785960"/>
            <a:ext cx="173160" cy="190440"/>
          </a:xfrm>
          <a:custGeom>
            <a:avLst/>
            <a:gdLst>
              <a:gd name="textAreaLeft" fmla="*/ 8280 w 173160"/>
              <a:gd name="textAreaRight" fmla="*/ 164880 w 173160"/>
              <a:gd name="textAreaTop" fmla="*/ 8280 h 190440"/>
              <a:gd name="textAreaBottom" fmla="*/ 182160 h 190440"/>
            </a:gdLst>
            <a:ahLst/>
            <a:rect l="textAreaLeft" t="textAreaTop" r="textAreaRight" b="textAreaBottom"/>
            <a:pathLst>
              <a:path w="21600" h="23751">
                <a:moveTo>
                  <a:pt x="3600" y="0"/>
                </a:moveTo>
                <a:arcTo wR="3600" hR="3600" stAng="16200000" swAng="-5400000"/>
                <a:lnTo>
                  <a:pt x="0" y="20151"/>
                </a:lnTo>
                <a:arcTo wR="3600" hR="3600" stAng="10800000" swAng="-5400000"/>
                <a:lnTo>
                  <a:pt x="18000" y="237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0">
            <a:noFill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2"/>
          <p:cNvSpPr/>
          <p:nvPr/>
        </p:nvSpPr>
        <p:spPr>
          <a:xfrm>
            <a:off x="3643200" y="1785960"/>
            <a:ext cx="173160" cy="190440"/>
          </a:xfrm>
          <a:custGeom>
            <a:avLst/>
            <a:gdLst>
              <a:gd name="textAreaLeft" fmla="*/ 8280 w 173160"/>
              <a:gd name="textAreaRight" fmla="*/ 164880 w 173160"/>
              <a:gd name="textAreaTop" fmla="*/ 8280 h 190440"/>
              <a:gd name="textAreaBottom" fmla="*/ 182160 h 190440"/>
            </a:gdLst>
            <a:ahLst/>
            <a:rect l="textAreaLeft" t="textAreaTop" r="textAreaRight" b="textAreaBottom"/>
            <a:pathLst>
              <a:path w="21600" h="23751">
                <a:moveTo>
                  <a:pt x="3600" y="0"/>
                </a:moveTo>
                <a:arcTo wR="3600" hR="3600" stAng="16200000" swAng="-5400000"/>
                <a:lnTo>
                  <a:pt x="0" y="20151"/>
                </a:lnTo>
                <a:arcTo wR="3600" hR="3600" stAng="10800000" swAng="-5400000"/>
                <a:lnTo>
                  <a:pt x="18000" y="237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3"/>
          <p:cNvSpPr/>
          <p:nvPr/>
        </p:nvSpPr>
        <p:spPr>
          <a:xfrm>
            <a:off x="6286680" y="1785960"/>
            <a:ext cx="172800" cy="190440"/>
          </a:xfrm>
          <a:custGeom>
            <a:avLst/>
            <a:gdLst>
              <a:gd name="textAreaLeft" fmla="*/ 8280 w 172800"/>
              <a:gd name="textAreaRight" fmla="*/ 164520 w 172800"/>
              <a:gd name="textAreaTop" fmla="*/ 8280 h 190440"/>
              <a:gd name="textAreaBottom" fmla="*/ 182160 h 190440"/>
            </a:gdLst>
            <a:ahLst/>
            <a:rect l="textAreaLeft" t="textAreaTop" r="textAreaRight" b="textAreaBottom"/>
            <a:pathLst>
              <a:path w="21600" h="23800">
                <a:moveTo>
                  <a:pt x="3600" y="0"/>
                </a:moveTo>
                <a:arcTo wR="3600" hR="3600" stAng="16200000" swAng="-5400000"/>
                <a:lnTo>
                  <a:pt x="0" y="20200"/>
                </a:lnTo>
                <a:arcTo wR="3600" hR="3600" stAng="10800000" swAng="-5400000"/>
                <a:lnTo>
                  <a:pt x="18000" y="23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cddc"/>
          </a:solidFill>
          <a:ln w="0">
            <a:noFill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投影片編號版面配置區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0220-86D2-49EF-BB00-B9261C8E05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線接點 13"/>
          <p:cNvSpPr/>
          <p:nvPr/>
        </p:nvSpPr>
        <p:spPr>
          <a:xfrm>
            <a:off x="571680" y="1500120"/>
            <a:ext cx="8001000" cy="180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285840" y="3214800"/>
            <a:ext cx="85104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總結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投影片編號版面配置區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B245-018F-4966-B070-FC69A1B9328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直線接點 6"/>
          <p:cNvSpPr/>
          <p:nvPr/>
        </p:nvSpPr>
        <p:spPr>
          <a:xfrm>
            <a:off x="571680" y="1428840"/>
            <a:ext cx="8001000" cy="144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71680" y="1714680"/>
            <a:ext cx="78580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兒童是最快樂的一群，家長則憂慮最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多數兒童認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『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是一個充滿喜悅的地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』，但只有四成家長和三分一青年同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幾乎所有人都同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『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家庭愈快樂，人會愈開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』，以及『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愈可以為身邊既人帶來快樂，人會愈開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』，『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開心係在於我如何面對生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』；但大部份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兒童和接近一半家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同意『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愈有錢，會愈開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』，青年人則意見比較紛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兒童和青年跟朋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同事一起時最開心，家長則是跟自己子女一起時最開心。遇上不開心時，兒童會找朋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同事傾訴心事，家長則會找自己的伴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總結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4F25-0651-4BFA-B912-0A437FFA68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線接點 5"/>
          <p:cNvSpPr/>
          <p:nvPr/>
        </p:nvSpPr>
        <p:spPr>
          <a:xfrm>
            <a:off x="642960" y="1428840"/>
            <a:ext cx="8001000" cy="144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71320" y="1928520"/>
            <a:ext cx="81435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兒童是否快樂最受與朋友和父母關係影響，青年則最受與父母關係影響，家長則最受與伴侶關係影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論快樂活動，最令父母自己開心的活動是與家人消遣，但最令兒童和青年自己開心的活動，是個人消遣娛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家長認為陪子女外出最會令子女快樂，青年認為陪伴父母最會令父母快樂，兒童則認為讀好書最會令父母快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曾經參與義工活動的被訪者， 絕大部份都認為參與義工令他們更加開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要令香港人更快樂，家長認為要減少工作量，兒童和青年則認為要「樣樣都要睇開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/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要太執著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報告完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39286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詳細調查結果，請瀏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http://hkupop.hku.h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9CE0-B7A0-442B-96F1-61760409DFA9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直線接點 5"/>
          <p:cNvSpPr/>
          <p:nvPr/>
        </p:nvSpPr>
        <p:spPr>
          <a:xfrm>
            <a:off x="642960" y="1500120"/>
            <a:ext cx="8001000" cy="180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線接點 6"/>
          <p:cNvSpPr/>
          <p:nvPr/>
        </p:nvSpPr>
        <p:spPr>
          <a:xfrm>
            <a:off x="714240" y="3286080"/>
            <a:ext cx="8001000" cy="180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2478240" y="243828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3300"/>
                </a:solidFill>
                <a:latin typeface="Times New Roman"/>
                <a:ea typeface="華康特粗楷體"/>
              </a:rPr>
              <a:t>「家庭為快樂之源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6440760" y="342900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3300"/>
                </a:solidFill>
                <a:latin typeface="Times New Roman"/>
                <a:ea typeface="華康特粗楷體"/>
              </a:rPr>
              <a:t>「助人為快樂之本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3933000" y="1371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ff"/>
                </a:solidFill>
                <a:latin typeface="Times New Roman"/>
                <a:ea typeface="華康特粗楷體"/>
              </a:rPr>
              <a:t>兒童快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6692040" y="3108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ff"/>
                </a:solidFill>
                <a:latin typeface="Times New Roman"/>
                <a:ea typeface="華康特粗楷體"/>
              </a:rPr>
              <a:t>家長快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795840" y="4800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ff"/>
                </a:solidFill>
                <a:latin typeface="Times New Roman"/>
                <a:ea typeface="華康特粗楷體"/>
              </a:rPr>
              <a:t>身邊人快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1083600" y="31082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ff"/>
                </a:solidFill>
                <a:latin typeface="Times New Roman"/>
                <a:ea typeface="華康特粗楷體"/>
              </a:rPr>
              <a:t>香港社會快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AutoShape 6"/>
          <p:cNvCxnSpPr>
            <a:endCxn id="255" idx="0"/>
          </p:cNvCxnSpPr>
          <p:nvPr/>
        </p:nvCxnSpPr>
        <p:spPr>
          <a:xfrm>
            <a:off x="5638320" y="1676160"/>
            <a:ext cx="1693080" cy="1432440"/>
          </a:xfrm>
          <a:prstGeom prst="curvedConnector2">
            <a:avLst/>
          </a:prstGeom>
          <a:ln w="25560">
            <a:solidFill>
              <a:srgbClr val="663300"/>
            </a:solidFill>
            <a:miter/>
            <a:tailEnd len="med" type="triangle" w="med"/>
          </a:ln>
        </p:spPr>
      </p:cxnSp>
      <p:cxnSp>
        <p:nvCxnSpPr>
          <p:cNvPr id="259" name="AutoShape 7"/>
          <p:cNvCxnSpPr>
            <a:stCxn id="255" idx="2"/>
            <a:endCxn id="256" idx="3"/>
          </p:cNvCxnSpPr>
          <p:nvPr/>
        </p:nvCxnSpPr>
        <p:spPr>
          <a:xfrm rot="5400000">
            <a:off x="5882400" y="3673440"/>
            <a:ext cx="1372320" cy="1524600"/>
          </a:xfrm>
          <a:prstGeom prst="curvedConnector2">
            <a:avLst/>
          </a:prstGeom>
          <a:ln w="25560">
            <a:solidFill>
              <a:srgbClr val="663300"/>
            </a:solidFill>
            <a:miter/>
            <a:tailEnd len="med" type="triangle" w="med"/>
          </a:ln>
        </p:spPr>
      </p:cxnSp>
      <p:cxnSp>
        <p:nvCxnSpPr>
          <p:cNvPr id="260" name="AutoShape 8"/>
          <p:cNvCxnSpPr>
            <a:stCxn id="256" idx="1"/>
            <a:endCxn id="257" idx="2"/>
          </p:cNvCxnSpPr>
          <p:nvPr/>
        </p:nvCxnSpPr>
        <p:spPr>
          <a:xfrm rot="10800000">
            <a:off x="1996200" y="3749040"/>
            <a:ext cx="1340640" cy="1372320"/>
          </a:xfrm>
          <a:prstGeom prst="curvedConnector2">
            <a:avLst/>
          </a:prstGeom>
          <a:ln w="25560">
            <a:solidFill>
              <a:srgbClr val="663300"/>
            </a:solidFill>
            <a:miter/>
            <a:tailEnd len="med" type="triangle" w="med"/>
          </a:ln>
        </p:spPr>
      </p:cxnSp>
      <p:cxnSp>
        <p:nvCxnSpPr>
          <p:cNvPr id="261" name="AutoShape 9"/>
          <p:cNvCxnSpPr>
            <a:stCxn id="257" idx="0"/>
            <a:endCxn id="254" idx="1"/>
          </p:cNvCxnSpPr>
          <p:nvPr/>
        </p:nvCxnSpPr>
        <p:spPr>
          <a:xfrm flipH="1" flipV="1" rot="5400000">
            <a:off x="2072880" y="1615320"/>
            <a:ext cx="1416600" cy="1569240"/>
          </a:xfrm>
          <a:prstGeom prst="curvedConnector2">
            <a:avLst/>
          </a:prstGeom>
          <a:ln w="25560">
            <a:solidFill>
              <a:srgbClr val="663300"/>
            </a:solidFill>
            <a:miter/>
            <a:tailEnd len="med" type="triangle" w="med"/>
          </a:ln>
        </p:spPr>
      </p:cxnSp>
      <p:sp>
        <p:nvSpPr>
          <p:cNvPr id="262" name="Text Box 11"/>
          <p:cNvSpPr/>
          <p:nvPr/>
        </p:nvSpPr>
        <p:spPr>
          <a:xfrm>
            <a:off x="3750120" y="4572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3300"/>
                </a:solidFill>
                <a:latin typeface="Tahoma"/>
                <a:ea typeface="華康特粗楷體"/>
              </a:rPr>
              <a:t>快樂循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4424400" y="2071800"/>
            <a:ext cx="37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3300"/>
                </a:solidFill>
                <a:latin typeface="Times New Roman"/>
                <a:ea typeface="華康POP1體W5"/>
              </a:rPr>
              <a:t>「愈可以為身邊的人帶來快樂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3300"/>
                </a:solidFill>
                <a:latin typeface="Times New Roman"/>
                <a:ea typeface="華康POP1體W5"/>
              </a:rPr>
              <a:t>人會愈快樂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4354560" y="328608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3300"/>
                </a:solidFill>
                <a:latin typeface="Times New Roman"/>
                <a:ea typeface="華康POP1體W5"/>
              </a:rPr>
              <a:t>「家庭開心，人亦會愈開心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2941560" y="25146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華康特粗楷體"/>
                <a:ea typeface="華康特粗楷體"/>
              </a:rPr>
              <a:t>應分配時間進行一些家庭活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3110040" y="1143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3300"/>
                </a:solidFill>
                <a:latin typeface="Times New Roman"/>
                <a:ea typeface="華康POP1體W5"/>
              </a:rPr>
              <a:t>最佳令對方快樂的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9"/>
          <p:cNvSpPr/>
          <p:nvPr/>
        </p:nvSpPr>
        <p:spPr>
          <a:xfrm>
            <a:off x="2103120" y="2971800"/>
            <a:ext cx="7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華康特粗楷體"/>
                <a:ea typeface="華康特粗楷體"/>
              </a:rPr>
              <a:t>輕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0"/>
          <p:cNvSpPr/>
          <p:nvPr/>
        </p:nvSpPr>
        <p:spPr>
          <a:xfrm>
            <a:off x="3963960" y="3430440"/>
            <a:ext cx="261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華康特粗楷體"/>
                <a:ea typeface="華康特粗楷體"/>
              </a:rPr>
              <a:t>多元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華康特粗楷體"/>
                <a:ea typeface="華康特粗楷體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華康特粗楷體"/>
                <a:ea typeface="華康特粗楷體"/>
              </a:rPr>
              <a:t>(e.g.</a:t>
            </a:r>
            <a:r>
              <a:rPr b="0" lang="zh-TW" sz="2400" spc="-1" strike="noStrike">
                <a:solidFill>
                  <a:srgbClr val="0000ff"/>
                </a:solidFill>
                <a:latin typeface="華康特粗楷體"/>
                <a:ea typeface="華康特粗楷體"/>
              </a:rPr>
              <a:t>傾談、義工服務、興趣學習班等等</a:t>
            </a:r>
            <a:r>
              <a:rPr b="0" lang="en-US" sz="2400" spc="-1" strike="noStrike">
                <a:solidFill>
                  <a:srgbClr val="0000ff"/>
                </a:solidFill>
                <a:latin typeface="華康特粗楷體"/>
                <a:ea typeface="華康特粗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2529720" y="4343400"/>
            <a:ext cx="20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華康特粗楷體"/>
                <a:ea typeface="華康特粗楷體"/>
              </a:rPr>
              <a:t>建立和諧快樂的家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2529720" y="4876920"/>
            <a:ext cx="20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華康特粗楷體"/>
                <a:ea typeface="華康特粗楷體"/>
              </a:rPr>
              <a:t>豐富家庭快樂的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17"/>
          <p:cNvSpPr/>
          <p:nvPr/>
        </p:nvSpPr>
        <p:spPr>
          <a:xfrm>
            <a:off x="685800" y="5029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0ad"/>
                </a:solidFill>
                <a:latin typeface="華康特粗楷體"/>
                <a:ea typeface="華康特粗楷體"/>
              </a:rPr>
              <a:t>5. </a:t>
            </a:r>
            <a:r>
              <a:rPr b="0" lang="zh-TW" sz="2400" spc="-1" strike="noStrike">
                <a:solidFill>
                  <a:srgbClr val="2120ad"/>
                </a:solidFill>
                <a:latin typeface="華康特粗楷體"/>
                <a:ea typeface="華康特粗楷體"/>
              </a:rPr>
              <a:t>營造快樂家庭氣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2673360" y="121428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33cc33"/>
                </a:solidFill>
                <a:latin typeface="華康POP1體W5"/>
                <a:ea typeface="華康POP1體W5"/>
              </a:rPr>
              <a:t>給家長的建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9"/>
          <p:cNvSpPr/>
          <p:nvPr/>
        </p:nvSpPr>
        <p:spPr>
          <a:xfrm>
            <a:off x="4118040" y="239076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0ad"/>
                </a:solidFill>
                <a:latin typeface="華康特粗楷體"/>
                <a:ea typeface="華康特粗楷體"/>
              </a:rPr>
              <a:t>1.</a:t>
            </a:r>
            <a:r>
              <a:rPr b="0" lang="en-US" sz="2400" spc="-1" strike="noStrike">
                <a:solidFill>
                  <a:srgbClr val="2120ad"/>
                </a:solidFill>
                <a:latin typeface="華康特粗楷體"/>
                <a:ea typeface="華康特粗楷體"/>
              </a:rPr>
              <a:t>	</a:t>
            </a:r>
            <a:r>
              <a:rPr b="0" lang="zh-TW" sz="2400" spc="-1" strike="noStrike">
                <a:solidFill>
                  <a:srgbClr val="2120ad"/>
                </a:solidFill>
                <a:latin typeface="華康特粗楷體"/>
                <a:ea typeface="華康特粗楷體"/>
              </a:rPr>
              <a:t>每天與子女傾談，互相了解和分享，強調互相支持和接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0"/>
          <p:cNvSpPr/>
          <p:nvPr/>
        </p:nvSpPr>
        <p:spPr>
          <a:xfrm>
            <a:off x="2689920" y="3030480"/>
            <a:ext cx="28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2120ad"/>
              </a:buClr>
              <a:buFont typeface="華康特粗楷體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2120ad"/>
                </a:solidFill>
                <a:latin typeface="華康特粗楷體"/>
                <a:ea typeface="華康特粗楷體"/>
              </a:rPr>
              <a:t>與子女一起參與有義意的活動</a:t>
            </a:r>
            <a:r>
              <a:rPr b="0" lang="en-US" sz="2400" spc="-1" strike="noStrike">
                <a:solidFill>
                  <a:srgbClr val="2120ad"/>
                </a:solidFill>
                <a:latin typeface="華康特粗楷體"/>
                <a:ea typeface="華康特粗楷體"/>
              </a:rPr>
              <a:t>(</a:t>
            </a:r>
            <a:r>
              <a:rPr b="0" lang="zh-TW" sz="2400" spc="-1" strike="noStrike">
                <a:solidFill>
                  <a:srgbClr val="2120ad"/>
                </a:solidFill>
                <a:latin typeface="華康特粗楷體"/>
                <a:ea typeface="華康特粗楷體"/>
              </a:rPr>
              <a:t>如義工服務</a:t>
            </a:r>
            <a:r>
              <a:rPr b="0" lang="en-US" sz="2400" spc="-1" strike="noStrike">
                <a:solidFill>
                  <a:srgbClr val="2120ad"/>
                </a:solidFill>
                <a:latin typeface="華康特粗楷體"/>
                <a:ea typeface="華康特粗楷體"/>
              </a:rPr>
              <a:t>) </a:t>
            </a:r>
            <a:r>
              <a:rPr b="0" lang="zh-TW" sz="2400" spc="-1" strike="noStrike">
                <a:solidFill>
                  <a:srgbClr val="2120ad"/>
                </a:solidFill>
                <a:latin typeface="華康特粗楷體"/>
                <a:ea typeface="華康特粗楷體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2120ad"/>
                </a:solidFill>
                <a:latin typeface="華康特粗楷體"/>
                <a:ea typeface="華康特粗楷體"/>
              </a:rPr>
              <a:t>	</a:t>
            </a:r>
            <a:r>
              <a:rPr b="0" lang="zh-TW" sz="2400" spc="-1" strike="noStrike">
                <a:solidFill>
                  <a:srgbClr val="2120ad"/>
                </a:solidFill>
                <a:latin typeface="華康特粗楷體"/>
                <a:ea typeface="華康特粗楷體"/>
              </a:rPr>
              <a:t>幫助別人會令自己更快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1"/>
          <p:cNvSpPr/>
          <p:nvPr/>
        </p:nvSpPr>
        <p:spPr>
          <a:xfrm>
            <a:off x="2206800" y="391464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0ad"/>
                </a:solidFill>
                <a:latin typeface="華康特粗楷體"/>
                <a:ea typeface="華康特粗楷體"/>
              </a:rPr>
              <a:t>3. </a:t>
            </a:r>
            <a:r>
              <a:rPr b="0" lang="zh-TW" sz="2400" spc="-1" strike="noStrike">
                <a:solidFill>
                  <a:srgbClr val="2120ad"/>
                </a:solidFill>
                <a:latin typeface="華康特粗楷體"/>
                <a:ea typeface="華康特粗楷體"/>
              </a:rPr>
              <a:t>參與子女感興趣的活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2"/>
          <p:cNvSpPr/>
          <p:nvPr/>
        </p:nvSpPr>
        <p:spPr>
          <a:xfrm>
            <a:off x="3273840" y="449568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0ad"/>
                </a:solidFill>
                <a:latin typeface="華康特粗楷體"/>
                <a:ea typeface="華康特粗楷體"/>
              </a:rPr>
              <a:t>4. </a:t>
            </a:r>
            <a:r>
              <a:rPr b="0" lang="zh-TW" sz="2400" spc="-1" strike="noStrike">
                <a:solidFill>
                  <a:srgbClr val="2120ad"/>
                </a:solidFill>
                <a:latin typeface="華康特粗楷體"/>
                <a:ea typeface="華康特粗楷體"/>
              </a:rPr>
              <a:t>積極樂觀過生活，勇於面對困難和挑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樣本資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99680" y="1571760"/>
            <a:ext cx="8286840" cy="49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28920" indent="-1528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方法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由訪問員直接進行電話訪問，在成功接觸目標住戶後，再從住戶內找出符合條件的人接受訪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8920" indent="-1528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問對象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) 18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歲或以上，育有最少一名未成年子女的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家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8920" indent="-1528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) 18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歲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青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8920" indent="-1528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) 9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7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歲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兒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8920" indent="-1528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問日期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08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7-1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-13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8920" indent="-1528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樣本數目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,516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成功個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50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名家長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0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名青年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0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名兒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8920" indent="-1528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應比率：家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77.8%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青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77.9%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及兒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79.3%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以符合資格的目標對象計算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8920" indent="-1528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抽樣誤差：少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+/- 4.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百分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投影片編號版面配置區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9361-1A85-4D10-9CCF-D6B8B9B7F39B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線接點 5"/>
          <p:cNvSpPr/>
          <p:nvPr/>
        </p:nvSpPr>
        <p:spPr>
          <a:xfrm>
            <a:off x="571680" y="1500120"/>
            <a:ext cx="8001000" cy="180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1782720" y="2209680"/>
            <a:ext cx="55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2120ad"/>
                </a:solidFill>
                <a:latin typeface="Times New Roman"/>
                <a:ea typeface="華康特粗楷體"/>
              </a:rPr>
              <a:t>修身、齊家、推己及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3506040" y="3429000"/>
            <a:ext cx="21315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400" spc="-1" strike="noStrike">
                <a:solidFill>
                  <a:srgbClr val="33cc33"/>
                </a:solidFill>
                <a:latin typeface="Times New Roman"/>
                <a:ea typeface="華康特粗楷體"/>
              </a:rPr>
              <a:t>快樂加倍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被訪者的性別分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投影片編號版面配置區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2F3A-1CBD-4A88-B353-5E7F9181B70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線接點 10"/>
          <p:cNvSpPr/>
          <p:nvPr/>
        </p:nvSpPr>
        <p:spPr>
          <a:xfrm>
            <a:off x="571680" y="1571760"/>
            <a:ext cx="8001000" cy="144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0" y="1785960"/>
            <a:ext cx="4584600" cy="2755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2"/>
          <a:stretch/>
        </p:blipFill>
        <p:spPr>
          <a:xfrm>
            <a:off x="4214880" y="1857240"/>
            <a:ext cx="4584600" cy="2756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3"/>
          <a:stretch/>
        </p:blipFill>
        <p:spPr>
          <a:xfrm>
            <a:off x="1785960" y="3929040"/>
            <a:ext cx="4584600" cy="275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被訪者的年齡分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投影片編號版面配置區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B278-4747-4947-A26B-1BD40081D8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線接點 10"/>
          <p:cNvSpPr/>
          <p:nvPr/>
        </p:nvSpPr>
        <p:spPr>
          <a:xfrm>
            <a:off x="571680" y="1571760"/>
            <a:ext cx="8001000" cy="144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1"/>
          <a:stretch/>
        </p:blipFill>
        <p:spPr>
          <a:xfrm>
            <a:off x="2286000" y="4245120"/>
            <a:ext cx="4584600" cy="2612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"/>
          <p:cNvPicPr/>
          <p:nvPr/>
        </p:nvPicPr>
        <p:blipFill>
          <a:blip r:embed="rId2"/>
          <a:stretch/>
        </p:blipFill>
        <p:spPr>
          <a:xfrm>
            <a:off x="0" y="1714680"/>
            <a:ext cx="4584600" cy="2755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" descr=""/>
          <p:cNvPicPr/>
          <p:nvPr/>
        </p:nvPicPr>
        <p:blipFill>
          <a:blip r:embed="rId3"/>
          <a:stretch/>
        </p:blipFill>
        <p:spPr>
          <a:xfrm>
            <a:off x="4143240" y="1928880"/>
            <a:ext cx="4584960" cy="275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712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1)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對快樂的看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A6B7-6189-4A60-AC3D-D5114BAB1B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680" y="714240"/>
            <a:ext cx="7858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生活得開心嗎？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字方塊 6"/>
          <p:cNvSpPr/>
          <p:nvPr/>
        </p:nvSpPr>
        <p:spPr>
          <a:xfrm>
            <a:off x="357120" y="36432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97A6-76CB-469D-B35B-CAB24E6960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線接點 6"/>
          <p:cNvSpPr/>
          <p:nvPr/>
        </p:nvSpPr>
        <p:spPr>
          <a:xfrm>
            <a:off x="571680" y="1428840"/>
            <a:ext cx="8001000" cy="144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642960" y="1571760"/>
            <a:ext cx="779760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2580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0-10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評價一下你最近幾個月既開心程度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非常唔開心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非常開心。你會俾自己幾多分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571920" y="1714680"/>
          <a:ext cx="1712880" cy="1428480"/>
        </p:xfrm>
        <a:graphic>
          <a:graphicData uri="http://schemas.openxmlformats.org/drawingml/2006/table">
            <a:tbl>
              <a:tblPr/>
              <a:tblGrid>
                <a:gridCol w="857160"/>
                <a:gridCol w="855720"/>
              </a:tblGrid>
              <a:tr h="2854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青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中位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誤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基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AutoShape 2"/>
          <p:cNvSpPr/>
          <p:nvPr/>
        </p:nvSpPr>
        <p:spPr>
          <a:xfrm>
            <a:off x="3643200" y="1785960"/>
            <a:ext cx="173160" cy="190440"/>
          </a:xfrm>
          <a:custGeom>
            <a:avLst/>
            <a:gdLst>
              <a:gd name="textAreaLeft" fmla="*/ 8280 w 173160"/>
              <a:gd name="textAreaRight" fmla="*/ 164880 w 173160"/>
              <a:gd name="textAreaTop" fmla="*/ 8280 h 190440"/>
              <a:gd name="textAreaBottom" fmla="*/ 182160 h 190440"/>
            </a:gdLst>
            <a:ahLst/>
            <a:rect l="textAreaLeft" t="textAreaTop" r="textAreaRight" b="textAreaBottom"/>
            <a:pathLst>
              <a:path w="21600" h="23751">
                <a:moveTo>
                  <a:pt x="3600" y="0"/>
                </a:moveTo>
                <a:arcTo wR="3600" hR="3600" stAng="16200000" swAng="-5400000"/>
                <a:lnTo>
                  <a:pt x="0" y="20151"/>
                </a:lnTo>
                <a:arcTo wR="3600" hR="3600" stAng="10800000" swAng="-5400000"/>
                <a:lnTo>
                  <a:pt x="18000" y="237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000840" y="1714680"/>
          <a:ext cx="1857240" cy="1428480"/>
        </p:xfrm>
        <a:graphic>
          <a:graphicData uri="http://schemas.openxmlformats.org/drawingml/2006/table">
            <a:tbl>
              <a:tblPr/>
              <a:tblGrid>
                <a:gridCol w="928440"/>
                <a:gridCol w="928800"/>
              </a:tblGrid>
              <a:tr h="2854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兒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7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中位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誤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AutoShape 3"/>
          <p:cNvSpPr/>
          <p:nvPr/>
        </p:nvSpPr>
        <p:spPr>
          <a:xfrm>
            <a:off x="6286680" y="1785960"/>
            <a:ext cx="172800" cy="190440"/>
          </a:xfrm>
          <a:custGeom>
            <a:avLst/>
            <a:gdLst>
              <a:gd name="textAreaLeft" fmla="*/ 8280 w 172800"/>
              <a:gd name="textAreaRight" fmla="*/ 164520 w 172800"/>
              <a:gd name="textAreaTop" fmla="*/ 8280 h 190440"/>
              <a:gd name="textAreaBottom" fmla="*/ 182160 h 190440"/>
            </a:gdLst>
            <a:ahLst/>
            <a:rect l="textAreaLeft" t="textAreaTop" r="textAreaRight" b="textAreaBottom"/>
            <a:pathLst>
              <a:path w="21600" h="23800">
                <a:moveTo>
                  <a:pt x="3600" y="0"/>
                </a:moveTo>
                <a:arcTo wR="3600" hR="3600" stAng="16200000" swAng="-5400000"/>
                <a:lnTo>
                  <a:pt x="0" y="20200"/>
                </a:lnTo>
                <a:arcTo wR="3600" hR="3600" stAng="10800000" swAng="-5400000"/>
                <a:lnTo>
                  <a:pt x="18000" y="23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cddc"/>
          </a:solidFill>
          <a:ln w="0">
            <a:noFill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071720" y="1714680"/>
          <a:ext cx="1785960" cy="1428480"/>
        </p:xfrm>
        <a:graphic>
          <a:graphicData uri="http://schemas.openxmlformats.org/drawingml/2006/table">
            <a:tbl>
              <a:tblPr/>
              <a:tblGrid>
                <a:gridCol w="892080"/>
                <a:gridCol w="893880"/>
              </a:tblGrid>
              <a:tr h="2854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家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6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中位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誤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基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5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AutoShape 4"/>
          <p:cNvSpPr/>
          <p:nvPr/>
        </p:nvSpPr>
        <p:spPr>
          <a:xfrm>
            <a:off x="1214280" y="1785960"/>
            <a:ext cx="173160" cy="190440"/>
          </a:xfrm>
          <a:custGeom>
            <a:avLst/>
            <a:gdLst>
              <a:gd name="textAreaLeft" fmla="*/ 8280 w 173160"/>
              <a:gd name="textAreaRight" fmla="*/ 164880 w 173160"/>
              <a:gd name="textAreaTop" fmla="*/ 8280 h 190440"/>
              <a:gd name="textAreaBottom" fmla="*/ 182160 h 190440"/>
            </a:gdLst>
            <a:ahLst/>
            <a:rect l="textAreaLeft" t="textAreaTop" r="textAreaRight" b="textAreaBottom"/>
            <a:pathLst>
              <a:path w="21600" h="23751">
                <a:moveTo>
                  <a:pt x="3600" y="0"/>
                </a:moveTo>
                <a:arcTo wR="3600" hR="3600" stAng="16200000" swAng="-5400000"/>
                <a:lnTo>
                  <a:pt x="0" y="20151"/>
                </a:lnTo>
                <a:arcTo wR="3600" hR="3600" stAng="10800000" swAng="-5400000"/>
                <a:lnTo>
                  <a:pt x="18000" y="237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0">
            <a:noFill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投影片編號版面配置區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BB58-1EB4-45CE-9454-18D8B92B86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字方塊 6"/>
          <p:cNvSpPr/>
          <p:nvPr/>
        </p:nvSpPr>
        <p:spPr>
          <a:xfrm>
            <a:off x="214200" y="421488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線接點 13"/>
          <p:cNvSpPr/>
          <p:nvPr/>
        </p:nvSpPr>
        <p:spPr>
          <a:xfrm>
            <a:off x="571680" y="1500120"/>
            <a:ext cx="8001000" cy="180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7" descr=""/>
          <p:cNvPicPr/>
          <p:nvPr/>
        </p:nvPicPr>
        <p:blipFill>
          <a:blip r:embed="rId1"/>
          <a:stretch/>
        </p:blipFill>
        <p:spPr>
          <a:xfrm>
            <a:off x="357120" y="3286080"/>
            <a:ext cx="808344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6T01:01:29Z</dcterms:created>
  <dc:creator>winnie</dc:creator>
  <dc:description/>
  <dc:language>en-US</dc:language>
  <cp:lastModifiedBy>winnie</cp:lastModifiedBy>
  <dcterms:modified xsi:type="dcterms:W3CDTF">2008-07-03T09:51:32Z</dcterms:modified>
  <cp:revision>74</cp:revision>
  <dc:subject/>
  <dc:title>香港快樂指數調查 結果簡報</dc:title>
</cp:coreProperties>
</file>