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248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4833E9-96F8-495B-8681-72900876A4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2480" cy="3743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投影片編號版面配置區 3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CAAC16-C671-4B97-9C94-E4AA27B166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6C6-4788-4E08-AC3E-8CEA0F70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B4B-6CBE-4AD7-803E-907844AC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943-FA6B-4BC0-B70D-109EA42A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6A5-C747-468D-A47C-23482813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F152-0EA0-4C08-90B8-9584D16B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7B02-0F11-4C26-A7B0-19B5D640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3F8A-B9E2-488D-9322-0CD393B9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4292-A04A-4D0F-9E20-501B3D53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09C5-FBE0-4057-959B-2AF96925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3584-1C94-4CC1-AB50-23BFC14D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D681-B3E7-449B-BC59-E2F01021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BA8-D635-4705-B0D3-A6D80B67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A8A8-99C1-419F-8113-928DCD75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8705-F2DF-4439-8B79-117A35B6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A25A-8CF6-475E-AE33-3B57660E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56DC-11CA-4FCD-845F-07944F2E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3937-9255-4306-87A2-C006044A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C491-2D62-43A9-B7EB-C4D15D17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7699-0CF8-4C15-8DDF-BF2140F2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E5F8-2058-4F65-86C2-7A8F91D9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17772-54FE-41C2-B2B7-A1C18173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0753-EE1E-493C-A055-A0CF1C21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C46-D97B-4A70-825F-D7461DA3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71939-ADC7-4268-B874-2ADC3890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7757-C8C2-497D-AAD8-B31F30D7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CC0CC-6A5C-4E85-B479-55B73CF9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BA70-728A-4898-9C8C-0ACDD8A2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D0E9-DC0A-4980-AD86-C6F36F96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870FB-399F-4825-AFB5-B00E362E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89236-C463-42F3-8EA9-EF71E253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7567-C59E-4872-BAC7-78DA5ADD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C54B5-E776-4A64-BB18-B513000E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0CCA-1210-441B-9AFE-9E16B60C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D38-4009-4CAD-A3E7-56EC92A7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B6B59-D447-40A6-8D0A-0487A952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23C6-2B5E-464C-A200-4EF19A08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95986-CB73-40B6-907B-90969B5E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380D3-D3CC-4AFB-A2EC-9505456F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095B0-5773-4C5A-B36D-7470965E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98464-C8D2-4AD7-9F8D-CE5F240A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6E1C-0EF4-41B2-A04A-C89FD824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85ABC-1AD2-40E8-9F15-C332ED46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39A4B-18F9-411E-805B-205D8F8A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0BE0-C793-4163-A064-540CCE84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D67-972B-40E9-956B-6260C614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D560-4C77-4ABB-9A17-ECC0CB3F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5DF50-AE56-4F23-BD51-1620EF80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12CBE-4797-4E0A-9E9D-9AB93192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D85F7-14FC-4334-B1EB-E31FBBD8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E99EE-2535-4844-93B2-81EB6707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5232-21F3-4800-A28C-A45F40D0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2CDEA-1DFC-43CF-B0F7-5427FE32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D365-4521-430D-AAA3-7E95FFC8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2024F-12DF-4BAF-9888-B7ED9B8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F0051-4FB7-45C8-9ADA-5EC8A901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87E-A3C3-4C4B-8FBA-2A0928B3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B1CF5-755F-47E1-864D-617FBD57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AFF7-F884-4A8A-A7D7-AAC6C502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9797F-4BCC-4D48-87AB-FE57B6E2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4D091-23DA-46A4-BF2D-3412DA9F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2975D-DB68-4C47-BDE8-BCCED157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D12C-4415-40EB-997F-135DA9D6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E53F2-E028-4CEA-A13F-78494A75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5590A-5E81-4D40-867D-BD772AEB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356AC-508F-4A2E-AA8D-D85131E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0407D-1E72-47BB-80D8-F1520C83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7F9-737F-428F-A134-26D5A76F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B7BA3-F92F-4D4D-9E13-C7CD45FD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18864-25A0-4CB4-9AEE-88D200BA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B76BB-191B-4241-B241-C63439B5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88164-8C42-45A4-AF4A-B08C110F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3FB2B-3F52-4441-B5B9-CA62A799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4C2D2-8533-4297-835E-261DFF04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BAB5-A583-4D01-A167-3CB28FBE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B5261-7400-4BEF-AB85-CB8C5773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71586-88E6-4DC2-BB5B-4447D39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6B3EA-3414-4E0C-909F-3D003A1C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CFF-6D30-4C42-9B1A-0A68857B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06983-3631-4AB8-BDCD-B880BFA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63913-5601-403C-90B4-22A5667E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03D85-28D6-4884-AF49-95171B4D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3584F-9522-47A3-A2A5-F9AB9138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F5AD1-9D81-418B-BC16-1DB86808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221-8E76-4BEB-8A80-643F9C36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圓形圖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f">
              <a:alpha val="33000"/>
            </a:srgbClr>
          </a:solidFill>
          <a:ln cap="rnd" w="3240">
            <a:solidFill>
              <a:srgbClr val="d0d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橢圓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7f7ff"/>
            </a:solidFill>
            <a:miter/>
          </a:ln>
          <a:effectLst>
            <a:outerShdw dist="12600" dir="5400000" blurRad="0" rotWithShape="0">
              <a:srgbClr val="b4b4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甜甜圈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甜甜圈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buClr>
                  <a:srgbClr val="ffff00"/>
                </a:buClr>
                <a:buFont typeface="Gill Sans MT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8A7C-8431-4C5D-B5BC-F3495CB4463E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7777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圓形圖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f">
              <a:alpha val="33000"/>
            </a:srgbClr>
          </a:solidFill>
          <a:ln cap="rnd" w="3240">
            <a:solidFill>
              <a:srgbClr val="d0d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橢圓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7f7ff"/>
            </a:solidFill>
            <a:miter/>
          </a:ln>
          <a:effectLst>
            <a:outerShdw dist="12600" dir="5400000" blurRad="0" rotWithShape="0">
              <a:srgbClr val="b4b4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甜甜圈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甜甜圈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buClr>
                  <a:srgbClr val="ffff00"/>
                </a:buClr>
                <a:buFont typeface="Gill Sans MT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7777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橢圓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橢圓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buClr>
                  <a:srgbClr val="ffff00"/>
                </a:buClr>
                <a:buFont typeface="Gill Sans MT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橢圓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05cd1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5DA4-FB3F-4425-A365-0189142D514B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7777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橢圓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橢圓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buClr>
                  <a:srgbClr val="ffff00"/>
                </a:buClr>
                <a:buFont typeface="Gill Sans MT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橢圓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05cd1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C3CC-ED45-41AE-80E3-8B78D1005658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3530-8B68-4AA5-921F-0DE624118C62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7777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0ADC-6546-4878-93A4-D4755AE3F510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C6D7-E20B-4D96-814B-0D33E89F316A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流程圖: 程序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8e8f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流程圖: 程序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7f7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06ae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87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b3bf"/>
                </a:solidFill>
                <a:latin typeface="Times New Roman"/>
              </a:defRPr>
            </a:lvl1pPr>
          </a:lstStyle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F6E3-944F-4E32-A7F2-D06A3C134333}" type="slidenum">
              <a:rPr b="0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2"/>
          <p:cNvGraphicFramePr/>
          <p:nvPr/>
        </p:nvGraphicFramePr>
        <p:xfrm>
          <a:off x="588960" y="836640"/>
          <a:ext cx="84312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836640"/>
                    <a:ext cx="8431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4"/>
          <p:cNvSpPr/>
          <p:nvPr/>
        </p:nvSpPr>
        <p:spPr>
          <a:xfrm>
            <a:off x="1476360" y="836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香港大學民意研究計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ublic Opinion Program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University of Hong Ko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文字方塊 7"/>
          <p:cNvSpPr/>
          <p:nvPr/>
        </p:nvSpPr>
        <p:spPr>
          <a:xfrm>
            <a:off x="1549440" y="6021360"/>
            <a:ext cx="6912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300" spc="-1" strike="noStrike">
                <a:solidFill>
                  <a:srgbClr val="000000"/>
                </a:solidFill>
                <a:latin typeface="標楷體"/>
              </a:rPr>
              <a:t>本報告內一切內容與香港大學立場無關，內容由民意研究計劃總監鍾庭耀博士負責。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矩形 8"/>
          <p:cNvSpPr/>
          <p:nvPr/>
        </p:nvSpPr>
        <p:spPr>
          <a:xfrm>
            <a:off x="468360" y="2060640"/>
            <a:ext cx="792000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《</a:t>
            </a:r>
            <a:r>
              <a:rPr b="1" lang="zh-TW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港人缺牙情況及健康修復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牙齒意見調查</a:t>
            </a:r>
            <a:r>
              <a:rPr b="1" lang="en-US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11</a:t>
            </a:r>
            <a:r>
              <a:rPr b="1" lang="en-US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結果簡報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矩形 9"/>
          <p:cNvSpPr/>
          <p:nvPr/>
        </p:nvSpPr>
        <p:spPr>
          <a:xfrm>
            <a:off x="2197080" y="4149720"/>
            <a:ext cx="45720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彭嘉麗小姐</a:t>
            </a:r>
            <a:br>
              <a:rPr sz="3200"/>
            </a:br>
            <a:r>
              <a:rPr b="1" lang="zh-TW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香港大學民意研究計劃助理總監</a:t>
            </a:r>
            <a:br>
              <a:rPr sz="2000"/>
            </a:br>
            <a:r>
              <a:rPr b="1" i="1" lang="zh-TW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11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年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月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3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投影片編號版面配置區 7"/>
          <p:cNvSpPr/>
          <p:nvPr/>
        </p:nvSpPr>
        <p:spPr>
          <a:xfrm>
            <a:off x="8532720" y="6093000"/>
            <a:ext cx="4572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5E66-2E7C-4E46-B5E9-89F398BE591E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圖片 11" descr="logo.bmp"/>
          <p:cNvPicPr/>
          <p:nvPr/>
        </p:nvPicPr>
        <p:blipFill>
          <a:blip r:embed="rId3"/>
          <a:stretch/>
        </p:blipFill>
        <p:spPr>
          <a:xfrm>
            <a:off x="6516720" y="836640"/>
            <a:ext cx="158436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字方塊 8"/>
          <p:cNvSpPr/>
          <p:nvPr/>
        </p:nvSpPr>
        <p:spPr>
          <a:xfrm>
            <a:off x="1116000" y="5877000"/>
            <a:ext cx="7201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4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要揀用乜野方法黎處理你既缺牙問題時，你主要會考慮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乜野因素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讀答案，可選多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百分比不足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選項沒有顯示於圖表內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標題 1"/>
          <p:cNvSpPr/>
          <p:nvPr/>
        </p:nvSpPr>
        <p:spPr>
          <a:xfrm>
            <a:off x="147636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三成有缺牙的被訪者指出處理缺牙問題時會先考慮牙醫的建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B1C0-61EF-451A-A640-3969EFDFEBAE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內容版面配置區 11" descr=""/>
          <p:cNvPicPr/>
          <p:nvPr/>
        </p:nvPicPr>
        <p:blipFill>
          <a:blip r:embed="rId1"/>
          <a:stretch/>
        </p:blipFill>
        <p:spPr>
          <a:xfrm>
            <a:off x="1289160" y="1549440"/>
            <a:ext cx="7119720" cy="4276800"/>
          </a:xfrm>
          <a:prstGeom prst="rect">
            <a:avLst/>
          </a:prstGeom>
          <a:ln w="0">
            <a:noFill/>
          </a:ln>
        </p:spPr>
      </p:pic>
      <p:sp>
        <p:nvSpPr>
          <p:cNvPr id="373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標題 1"/>
          <p:cNvSpPr/>
          <p:nvPr/>
        </p:nvSpPr>
        <p:spPr>
          <a:xfrm>
            <a:off x="147636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近半被訪者沒有處理缺牙問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49A6-425D-47C5-A69F-7808BB0FE609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圖表 7" descr=""/>
          <p:cNvPicPr/>
          <p:nvPr/>
        </p:nvPicPr>
        <p:blipFill>
          <a:blip r:embed="rId1"/>
          <a:stretch/>
        </p:blipFill>
        <p:spPr>
          <a:xfrm>
            <a:off x="1289160" y="1498680"/>
            <a:ext cx="6926040" cy="4255920"/>
          </a:xfrm>
          <a:prstGeom prst="rect">
            <a:avLst/>
          </a:prstGeom>
          <a:ln w="0">
            <a:noFill/>
          </a:ln>
        </p:spPr>
      </p:pic>
      <p:sp>
        <p:nvSpPr>
          <p:cNvPr id="377" name="文字方塊 5"/>
          <p:cNvSpPr/>
          <p:nvPr/>
        </p:nvSpPr>
        <p:spPr>
          <a:xfrm>
            <a:off x="1116000" y="5877000"/>
            <a:ext cx="7201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5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請問你而家點樣處理你既缺牙問題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讀答案，可選多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百分比不足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選項沒有顯示於圖表內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標題 1"/>
          <p:cNvSpPr/>
          <p:nvPr/>
        </p:nvSpPr>
        <p:spPr>
          <a:xfrm>
            <a:off x="1547640" y="476280"/>
            <a:ext cx="62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逾八成半有聽過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新細明體"/>
              </a:rPr>
              <a:t>「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植牙／種牙治療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3EC7-96DA-4B24-9CDC-D003B572FA59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文字方塊 5"/>
          <p:cNvSpPr/>
          <p:nvPr/>
        </p:nvSpPr>
        <p:spPr>
          <a:xfrm>
            <a:off x="1116000" y="5877000"/>
            <a:ext cx="72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6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係呢個訪問之前，請問你有冇聽過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植牙／種牙治療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」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圖表 6" descr=""/>
          <p:cNvPicPr/>
          <p:nvPr/>
        </p:nvPicPr>
        <p:blipFill>
          <a:blip r:embed="rId1"/>
          <a:stretch/>
        </p:blipFill>
        <p:spPr>
          <a:xfrm>
            <a:off x="1625760" y="1498680"/>
            <a:ext cx="6640200" cy="4182840"/>
          </a:xfrm>
          <a:prstGeom prst="rect">
            <a:avLst/>
          </a:prstGeom>
          <a:ln w="0">
            <a:noFill/>
          </a:ln>
        </p:spPr>
      </p:pic>
      <p:sp>
        <p:nvSpPr>
          <p:cNvPr id="383" name="文字方塊 12"/>
          <p:cNvSpPr/>
          <p:nvPr/>
        </p:nvSpPr>
        <p:spPr>
          <a:xfrm>
            <a:off x="7308720" y="4941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34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標題 1"/>
          <p:cNvSpPr/>
          <p:nvPr/>
        </p:nvSpPr>
        <p:spPr>
          <a:xfrm>
            <a:off x="147636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四分三未有以植牙處理缺牙的被訪者沒有考慮過接受植牙治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AC31-A8C2-4825-B428-B0FEDC3F5E9D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文字方塊 5"/>
          <p:cNvSpPr/>
          <p:nvPr/>
        </p:nvSpPr>
        <p:spPr>
          <a:xfrm>
            <a:off x="1116000" y="5950080"/>
            <a:ext cx="72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沒有選植牙／種牙者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27)]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7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請問你有冇曾經考慮過接受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植牙治療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」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圖表 6" descr=""/>
          <p:cNvPicPr/>
          <p:nvPr/>
        </p:nvPicPr>
        <p:blipFill>
          <a:blip r:embed="rId1"/>
          <a:stretch/>
        </p:blipFill>
        <p:spPr>
          <a:xfrm>
            <a:off x="1625760" y="1498680"/>
            <a:ext cx="6876720" cy="4182840"/>
          </a:xfrm>
          <a:prstGeom prst="rect">
            <a:avLst/>
          </a:prstGeom>
          <a:ln w="0">
            <a:noFill/>
          </a:ln>
        </p:spPr>
      </p:pic>
      <p:sp>
        <p:nvSpPr>
          <p:cNvPr id="389" name="文字方塊 12"/>
          <p:cNvSpPr/>
          <p:nvPr/>
        </p:nvSpPr>
        <p:spPr>
          <a:xfrm>
            <a:off x="7308720" y="4941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32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文字方塊 8"/>
          <p:cNvSpPr/>
          <p:nvPr/>
        </p:nvSpPr>
        <p:spPr>
          <a:xfrm>
            <a:off x="1116000" y="6021360"/>
            <a:ext cx="72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沒有選植牙／種牙者及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7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選冇者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49)]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8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咁點解冇考慮過呢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讀答案，可選多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標題 1"/>
          <p:cNvSpPr/>
          <p:nvPr/>
        </p:nvSpPr>
        <p:spPr>
          <a:xfrm>
            <a:off x="147636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四成不考慮植牙的被訪者認為治療太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8EC1-F96A-49C4-831B-B6F0DAE07B5C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內容版面配置區 11" descr=""/>
          <p:cNvPicPr/>
          <p:nvPr/>
        </p:nvPicPr>
        <p:blipFill>
          <a:blip r:embed="rId1"/>
          <a:stretch/>
        </p:blipFill>
        <p:spPr>
          <a:xfrm>
            <a:off x="1289160" y="1463760"/>
            <a:ext cx="7264440" cy="4506840"/>
          </a:xfrm>
          <a:prstGeom prst="rect">
            <a:avLst/>
          </a:prstGeom>
          <a:ln w="0">
            <a:noFill/>
          </a:ln>
        </p:spPr>
      </p:pic>
      <p:sp>
        <p:nvSpPr>
          <p:cNvPr id="395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文字方塊 8"/>
          <p:cNvSpPr/>
          <p:nvPr/>
        </p:nvSpPr>
        <p:spPr>
          <a:xfrm>
            <a:off x="1042920" y="5877000"/>
            <a:ext cx="7632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9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決定接唔接受「植牙治療」既時候，以下既因素對你黎講有幾重要？請用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評價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完全唔重要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一半半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非常重要。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- 1) 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價錢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標題 1"/>
          <p:cNvSpPr/>
          <p:nvPr/>
        </p:nvSpPr>
        <p:spPr>
          <a:xfrm>
            <a:off x="1258920" y="333360"/>
            <a:ext cx="69134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逾四成認為植牙治療的價錢是非常重要的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7623-D54B-404F-9E3A-0B315B3DCB17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內容版面配置區 13" descr=""/>
          <p:cNvPicPr/>
          <p:nvPr/>
        </p:nvPicPr>
        <p:blipFill>
          <a:blip r:embed="rId1"/>
          <a:stretch/>
        </p:blipFill>
        <p:spPr>
          <a:xfrm>
            <a:off x="1270080" y="1650960"/>
            <a:ext cx="6923160" cy="4435560"/>
          </a:xfrm>
          <a:prstGeom prst="rect">
            <a:avLst/>
          </a:prstGeom>
          <a:ln w="0">
            <a:noFill/>
          </a:ln>
        </p:spPr>
      </p:pic>
      <p:sp>
        <p:nvSpPr>
          <p:cNvPr id="400" name="文字方塊 14"/>
          <p:cNvSpPr/>
          <p:nvPr/>
        </p:nvSpPr>
        <p:spPr>
          <a:xfrm>
            <a:off x="2514600" y="1905120"/>
            <a:ext cx="165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8.4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0.2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字方塊 8"/>
          <p:cNvSpPr/>
          <p:nvPr/>
        </p:nvSpPr>
        <p:spPr>
          <a:xfrm>
            <a:off x="1042920" y="5877000"/>
            <a:ext cx="7632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9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決定接唔接受「植牙治療」既時候，以下既因素對你黎講有幾重要？請用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評價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完全唔重要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一半半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非常重要。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- 2) 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植牙的壽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標題 1"/>
          <p:cNvSpPr/>
          <p:nvPr/>
        </p:nvSpPr>
        <p:spPr>
          <a:xfrm>
            <a:off x="1258920" y="333360"/>
            <a:ext cx="69134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近四成認為植牙的壽命是非常重要的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C15C-542B-45F1-8E1C-32B85FD90B0E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內容版面配置區 13" descr=""/>
          <p:cNvPicPr/>
          <p:nvPr/>
        </p:nvPicPr>
        <p:blipFill>
          <a:blip r:embed="rId1"/>
          <a:stretch/>
        </p:blipFill>
        <p:spPr>
          <a:xfrm>
            <a:off x="1339920" y="1565280"/>
            <a:ext cx="7018200" cy="4210200"/>
          </a:xfrm>
          <a:prstGeom prst="rect">
            <a:avLst/>
          </a:prstGeom>
          <a:ln w="0">
            <a:noFill/>
          </a:ln>
        </p:spPr>
      </p:pic>
      <p:sp>
        <p:nvSpPr>
          <p:cNvPr id="406" name="文字方塊 14"/>
          <p:cNvSpPr/>
          <p:nvPr/>
        </p:nvSpPr>
        <p:spPr>
          <a:xfrm>
            <a:off x="2484360" y="2060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8.3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0.2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28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文字方塊 8"/>
          <p:cNvSpPr/>
          <p:nvPr/>
        </p:nvSpPr>
        <p:spPr>
          <a:xfrm>
            <a:off x="1042920" y="5877000"/>
            <a:ext cx="7632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9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決定接唔接受「植牙治療」既時候，以下既因素對你黎講有幾重要？請用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評價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完全唔重要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一半半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非常重要。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- 3) 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舒適程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標題 1"/>
          <p:cNvSpPr/>
          <p:nvPr/>
        </p:nvSpPr>
        <p:spPr>
          <a:xfrm>
            <a:off x="1258920" y="333360"/>
            <a:ext cx="7058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樣地，近四成認為舒適程度是非常重要的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B31F-70E2-4BD2-9849-63F7C1D2235D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內容版面配置區 13" descr=""/>
          <p:cNvPicPr/>
          <p:nvPr/>
        </p:nvPicPr>
        <p:blipFill>
          <a:blip r:embed="rId1"/>
          <a:stretch/>
        </p:blipFill>
        <p:spPr>
          <a:xfrm>
            <a:off x="1339920" y="1565280"/>
            <a:ext cx="6659640" cy="4210200"/>
          </a:xfrm>
          <a:prstGeom prst="rect">
            <a:avLst/>
          </a:prstGeom>
          <a:ln w="0">
            <a:noFill/>
          </a:ln>
        </p:spPr>
      </p:pic>
      <p:sp>
        <p:nvSpPr>
          <p:cNvPr id="412" name="文字方塊 14"/>
          <p:cNvSpPr/>
          <p:nvPr/>
        </p:nvSpPr>
        <p:spPr>
          <a:xfrm>
            <a:off x="2700360" y="2060640"/>
            <a:ext cx="14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8.2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0.2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0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文字方塊 8"/>
          <p:cNvSpPr/>
          <p:nvPr/>
        </p:nvSpPr>
        <p:spPr>
          <a:xfrm>
            <a:off x="1042920" y="5877000"/>
            <a:ext cx="7561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9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決定接唔接受「植牙治療」既時候，以下既因素對你黎講有幾重要？請用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評價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完全唔重要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一半半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非常重要。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- 4) 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牙醫推薦／口碑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標題 1"/>
          <p:cNvSpPr/>
          <p:nvPr/>
        </p:nvSpPr>
        <p:spPr>
          <a:xfrm>
            <a:off x="1258920" y="333360"/>
            <a:ext cx="6842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分二認為牙醫推薦／口碑是重要的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A4A2-1B34-4BE4-9F61-D3302C367F36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內容版面配置區 13" descr=""/>
          <p:cNvPicPr/>
          <p:nvPr/>
        </p:nvPicPr>
        <p:blipFill>
          <a:blip r:embed="rId1"/>
          <a:stretch/>
        </p:blipFill>
        <p:spPr>
          <a:xfrm>
            <a:off x="1238400" y="1585800"/>
            <a:ext cx="6883200" cy="4240440"/>
          </a:xfrm>
          <a:prstGeom prst="rect">
            <a:avLst/>
          </a:prstGeom>
          <a:ln w="0">
            <a:noFill/>
          </a:ln>
        </p:spPr>
      </p:pic>
      <p:sp>
        <p:nvSpPr>
          <p:cNvPr id="418" name="文字方塊 14"/>
          <p:cNvSpPr/>
          <p:nvPr/>
        </p:nvSpPr>
        <p:spPr>
          <a:xfrm>
            <a:off x="2627280" y="1827360"/>
            <a:ext cx="14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7.2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0.2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文字方塊 8"/>
          <p:cNvSpPr/>
          <p:nvPr/>
        </p:nvSpPr>
        <p:spPr>
          <a:xfrm>
            <a:off x="1042920" y="5877000"/>
            <a:ext cx="7777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9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當決定接唔接受「植牙治療 」既時候，以下既因素對你黎講有幾重要？請用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評價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完全唔重要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一半半，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代表非常重要。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- 5) 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出產國家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標題 1"/>
          <p:cNvSpPr/>
          <p:nvPr/>
        </p:nvSpPr>
        <p:spPr>
          <a:xfrm>
            <a:off x="1258920" y="333360"/>
            <a:ext cx="6842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逾半數認為植牙的出產國家是重要的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CA77-910B-4D21-B14C-6BE8DB95E42C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內容版面配置區 13" descr=""/>
          <p:cNvPicPr/>
          <p:nvPr/>
        </p:nvPicPr>
        <p:blipFill>
          <a:blip r:embed="rId1"/>
          <a:stretch/>
        </p:blipFill>
        <p:spPr>
          <a:xfrm>
            <a:off x="1339920" y="1636560"/>
            <a:ext cx="6730920" cy="4211640"/>
          </a:xfrm>
          <a:prstGeom prst="rect">
            <a:avLst/>
          </a:prstGeom>
          <a:ln w="0">
            <a:noFill/>
          </a:ln>
        </p:spPr>
      </p:pic>
      <p:sp>
        <p:nvSpPr>
          <p:cNvPr id="424" name="文字方塊 14"/>
          <p:cNvSpPr/>
          <p:nvPr/>
        </p:nvSpPr>
        <p:spPr>
          <a:xfrm>
            <a:off x="2556000" y="1773360"/>
            <a:ext cx="144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7.1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0.3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24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簡報大綱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47280" y="1773360"/>
            <a:ext cx="66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25000"/>
              </a:lnSpc>
              <a:spcBef>
                <a:spcPts val="601"/>
              </a:spcBef>
              <a:buClr>
                <a:srgbClr val="1fae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及調查方法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25000"/>
              </a:lnSpc>
              <a:spcBef>
                <a:spcPts val="601"/>
              </a:spcBef>
              <a:buClr>
                <a:srgbClr val="1fae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調查結果：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10000"/>
              </a:lnSpc>
              <a:spcBef>
                <a:spcPts val="550"/>
              </a:spcBef>
              <a:buClr>
                <a:srgbClr val="c618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Gill Sans MT"/>
                <a:ea typeface="標楷體"/>
              </a:rPr>
              <a:t>缺牙的情況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10000"/>
              </a:lnSpc>
              <a:spcBef>
                <a:spcPts val="550"/>
              </a:spcBef>
              <a:buClr>
                <a:srgbClr val="c618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Gill Sans MT"/>
                <a:ea typeface="標楷體"/>
              </a:rPr>
              <a:t>缺牙的處理方法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10000"/>
              </a:lnSpc>
              <a:spcBef>
                <a:spcPts val="550"/>
              </a:spcBef>
              <a:buClr>
                <a:srgbClr val="c618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Gill Sans MT"/>
                <a:ea typeface="標楷體"/>
              </a:rPr>
              <a:t>對植牙的認知及意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25000"/>
              </a:lnSpc>
              <a:spcBef>
                <a:spcPts val="601"/>
              </a:spcBef>
              <a:buClr>
                <a:srgbClr val="1fae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25000"/>
              </a:lnSpc>
              <a:spcBef>
                <a:spcPts val="601"/>
              </a:spcBef>
              <a:buClr>
                <a:srgbClr val="1fae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個人背景資料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投影片編號版面配置區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B633-B250-4A2A-AEC7-328102BA8FFE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028"/>
          <p:cNvSpPr/>
          <p:nvPr/>
        </p:nvSpPr>
        <p:spPr>
          <a:xfrm>
            <a:off x="1403280" y="155736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內容版面配置區 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680520" cy="5040360"/>
          </a:xfrm>
          <a:prstGeom prst="rect">
            <a:avLst/>
          </a:prstGeom>
          <a:ln w="0">
            <a:noFill/>
          </a:ln>
        </p:spPr>
      </p:pic>
      <p:sp>
        <p:nvSpPr>
          <p:cNvPr id="427" name="投影片編號版面配置區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88B6-027F-4346-AECF-E935D704D9DC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標題 1"/>
          <p:cNvSpPr/>
          <p:nvPr/>
        </p:nvSpPr>
        <p:spPr>
          <a:xfrm>
            <a:off x="1258920" y="333360"/>
            <a:ext cx="71294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決定接受植牙治療與否時所考慮因素的重要程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綜合圖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圓角矩形 6"/>
          <p:cNvSpPr/>
          <p:nvPr/>
        </p:nvSpPr>
        <p:spPr>
          <a:xfrm>
            <a:off x="7956720" y="198900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圓角矩形 7"/>
          <p:cNvSpPr/>
          <p:nvPr/>
        </p:nvSpPr>
        <p:spPr>
          <a:xfrm>
            <a:off x="7956720" y="2781360"/>
            <a:ext cx="792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圓角矩形 8"/>
          <p:cNvSpPr/>
          <p:nvPr/>
        </p:nvSpPr>
        <p:spPr>
          <a:xfrm>
            <a:off x="7956720" y="350028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圓角矩形 9"/>
          <p:cNvSpPr/>
          <p:nvPr/>
        </p:nvSpPr>
        <p:spPr>
          <a:xfrm>
            <a:off x="7956720" y="422100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圓角矩形 10"/>
          <p:cNvSpPr/>
          <p:nvPr/>
        </p:nvSpPr>
        <p:spPr>
          <a:xfrm>
            <a:off x="7956720" y="494172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圓角矩形 11"/>
          <p:cNvSpPr/>
          <p:nvPr/>
        </p:nvSpPr>
        <p:spPr>
          <a:xfrm>
            <a:off x="7812000" y="141300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平均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左大括弧 12"/>
          <p:cNvSpPr/>
          <p:nvPr/>
        </p:nvSpPr>
        <p:spPr>
          <a:xfrm rot="5400000">
            <a:off x="5147640" y="-27000"/>
            <a:ext cx="216000" cy="352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3527640"/>
              <a:gd name="textAreaBottom" fmla="*/ 3522240 h 35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"/>
                  <a:pt x="10800" y="110"/>
                </a:cubicBezTo>
                <a:lnTo>
                  <a:pt x="10800" y="10690"/>
                </a:lnTo>
                <a:cubicBezTo>
                  <a:pt x="10800" y="10745"/>
                  <a:pt x="5400" y="10800"/>
                  <a:pt x="0" y="10800"/>
                </a:cubicBezTo>
                <a:cubicBezTo>
                  <a:pt x="5400" y="10800"/>
                  <a:pt x="10800" y="10855"/>
                  <a:pt x="10800" y="10910"/>
                </a:cubicBezTo>
                <a:lnTo>
                  <a:pt x="10800" y="21490"/>
                </a:lnTo>
                <a:cubicBezTo>
                  <a:pt x="10800" y="215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a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文字方塊 1"/>
          <p:cNvSpPr/>
          <p:nvPr/>
        </p:nvSpPr>
        <p:spPr>
          <a:xfrm>
            <a:off x="4643280" y="2276640"/>
            <a:ext cx="649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75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文字方塊 1"/>
          <p:cNvSpPr/>
          <p:nvPr/>
        </p:nvSpPr>
        <p:spPr>
          <a:xfrm>
            <a:off x="4427640" y="306864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71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文字方塊 1"/>
          <p:cNvSpPr/>
          <p:nvPr/>
        </p:nvSpPr>
        <p:spPr>
          <a:xfrm>
            <a:off x="4859280" y="3860640"/>
            <a:ext cx="5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66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文字方塊 1"/>
          <p:cNvSpPr/>
          <p:nvPr/>
        </p:nvSpPr>
        <p:spPr>
          <a:xfrm>
            <a:off x="4211640" y="4653000"/>
            <a:ext cx="57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52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標題 1"/>
          <p:cNvSpPr/>
          <p:nvPr/>
        </p:nvSpPr>
        <p:spPr>
          <a:xfrm>
            <a:off x="133200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良好的聲譽及口碑，和良好的售後服務是被訪者選擇植牙供應商時的重要考慮因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C0BA-3B80-4295-BB88-59D77B0200A3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文字方塊 5"/>
          <p:cNvSpPr/>
          <p:nvPr/>
        </p:nvSpPr>
        <p:spPr>
          <a:xfrm>
            <a:off x="1116000" y="5950080"/>
            <a:ext cx="72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0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係選擇植牙供應商既時候，除咗價錢同產品質素，以下邊一項因素對你最重要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訪員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4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，只選一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內容版面配置區 11" descr=""/>
          <p:cNvPicPr/>
          <p:nvPr/>
        </p:nvPicPr>
        <p:blipFill>
          <a:blip r:embed="rId1"/>
          <a:stretch/>
        </p:blipFill>
        <p:spPr>
          <a:xfrm>
            <a:off x="1289160" y="1549440"/>
            <a:ext cx="7335720" cy="4276800"/>
          </a:xfrm>
          <a:prstGeom prst="rect">
            <a:avLst/>
          </a:prstGeom>
          <a:ln w="0">
            <a:noFill/>
          </a:ln>
        </p:spPr>
      </p:pic>
      <p:sp>
        <p:nvSpPr>
          <p:cNvPr id="445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標題 1"/>
          <p:cNvSpPr/>
          <p:nvPr/>
        </p:nvSpPr>
        <p:spPr>
          <a:xfrm>
            <a:off x="133200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分別逾兩成認為美國及歐洲的植牙供應商最可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930D-35BD-47AC-90DD-4E4247884418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文字方塊 5"/>
          <p:cNvSpPr/>
          <p:nvPr/>
        </p:nvSpPr>
        <p:spPr>
          <a:xfrm>
            <a:off x="1116000" y="6093000"/>
            <a:ext cx="741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1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認為以下邊個地區既植牙供應商最可靠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訪員讀出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，次序由電腦隨機排列，只選一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內容版面配置區 11" descr=""/>
          <p:cNvPicPr/>
          <p:nvPr/>
        </p:nvPicPr>
        <p:blipFill>
          <a:blip r:embed="rId1"/>
          <a:stretch/>
        </p:blipFill>
        <p:spPr>
          <a:xfrm>
            <a:off x="1339920" y="1600200"/>
            <a:ext cx="7162560" cy="4175280"/>
          </a:xfrm>
          <a:prstGeom prst="rect">
            <a:avLst/>
          </a:prstGeom>
          <a:ln w="0">
            <a:noFill/>
          </a:ln>
        </p:spPr>
      </p:pic>
      <p:sp>
        <p:nvSpPr>
          <p:cNvPr id="450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文字方塊 8"/>
          <p:cNvSpPr/>
          <p:nvPr/>
        </p:nvSpPr>
        <p:spPr>
          <a:xfrm>
            <a:off x="1042920" y="5950080"/>
            <a:ext cx="74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2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咁請問你有幾同意或者唔同意以下有關植牙既講法：「</a:t>
            </a:r>
            <a:r>
              <a:rPr b="1" lang="zh-TW" sz="1300" spc="-1" strike="noStrike">
                <a:solidFill>
                  <a:srgbClr val="0000fb"/>
                </a:solidFill>
                <a:latin typeface="Times New Roman"/>
                <a:ea typeface="Times New Roman"/>
              </a:rPr>
              <a:t>即使比其他治療貴，如果比較耐用，我都會考慮接受植牙治療。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」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訪員追問程度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標題 1"/>
          <p:cNvSpPr/>
          <p:nvPr/>
        </p:nvSpPr>
        <p:spPr>
          <a:xfrm>
            <a:off x="1258920" y="333360"/>
            <a:ext cx="6842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即使比其他治療貴，逾六成同意如果比較耐用，都會考慮接受植牙治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BC1E-6BA2-4C38-80FE-A12A92EB3778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內容版面配置區 13" descr=""/>
          <p:cNvPicPr/>
          <p:nvPr/>
        </p:nvPicPr>
        <p:blipFill>
          <a:blip r:embed="rId1"/>
          <a:stretch/>
        </p:blipFill>
        <p:spPr>
          <a:xfrm>
            <a:off x="1289160" y="3192480"/>
            <a:ext cx="6976800" cy="2849400"/>
          </a:xfrm>
          <a:prstGeom prst="rect">
            <a:avLst/>
          </a:prstGeom>
          <a:ln w="0">
            <a:noFill/>
          </a:ln>
        </p:spPr>
      </p:pic>
      <p:pic>
        <p:nvPicPr>
          <p:cNvPr id="455" name="圖表 7" descr=""/>
          <p:cNvPicPr/>
          <p:nvPr/>
        </p:nvPicPr>
        <p:blipFill>
          <a:blip r:embed="rId2"/>
          <a:stretch/>
        </p:blipFill>
        <p:spPr>
          <a:xfrm>
            <a:off x="4551480" y="1608120"/>
            <a:ext cx="4002120" cy="2057400"/>
          </a:xfrm>
          <a:prstGeom prst="rect">
            <a:avLst/>
          </a:prstGeom>
          <a:ln w="0">
            <a:noFill/>
          </a:ln>
        </p:spPr>
      </p:pic>
      <p:sp>
        <p:nvSpPr>
          <p:cNvPr id="456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258920" y="148428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188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七成</a:t>
            </a:r>
            <a:r>
              <a:rPr b="1" lang="zh-TW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的四十歲或以上本港市民現時有缺牙的情況，最多人表示現時有兩隻缺牙，當中，近半數於換牙後第一次缺牙出現於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40</a:t>
            </a:r>
            <a:r>
              <a:rPr b="1" lang="zh-TW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前，而最普遍的缺牙原因是「蛀牙」。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188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於現時有缺牙的被訪者當中，三成表示在選擇處理缺牙問題時會主要考慮「牙醫建議」。然而，近半數表示現時並沒有處理他們的缺牙問題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188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八成多表示有聽過植牙╱種牙治療，但多數都沒有考慮過接受此治療，主要因為「價錢太貴」，其次是認為「沒有需要」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188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選擇植牙供應商時，除價錢及產品質素，多數被訪者分別認為「良好的聲譽╱口碑」，及「良好的售後服務」是最重要的考慮因素。另外，分別有兩成多認為美國及歐洲的植牙供應商最可靠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投影片編號版面配置區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D2A2-A049-4A93-8459-A848E283D1FD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被訪者背景</a:t>
            </a:r>
            <a:br>
              <a:rPr sz="4000"/>
            </a:br>
            <a:endParaRPr b="0" lang="en-US" sz="50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62" name="投影片編號版面配置區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2967-4FCB-4DC7-B7C4-5033DC1D7E8B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內容版面配置區 8" descr=""/>
          <p:cNvPicPr/>
          <p:nvPr/>
        </p:nvPicPr>
        <p:blipFill>
          <a:blip r:embed="rId1"/>
          <a:stretch/>
        </p:blipFill>
        <p:spPr>
          <a:xfrm>
            <a:off x="1536840" y="1549440"/>
            <a:ext cx="6851520" cy="45147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414360"/>
            <a:ext cx="7499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性別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65" name="文字方塊 9"/>
          <p:cNvSpPr/>
          <p:nvPr/>
        </p:nvSpPr>
        <p:spPr>
          <a:xfrm>
            <a:off x="7380360" y="5445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50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投影片編號版面配置區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AECC-720B-4F8D-B798-B639565F4580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028"/>
          <p:cNvSpPr/>
          <p:nvPr/>
        </p:nvSpPr>
        <p:spPr>
          <a:xfrm>
            <a:off x="1204920" y="141300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414360"/>
            <a:ext cx="7499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年齡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69" name="文字方塊 9"/>
          <p:cNvSpPr/>
          <p:nvPr/>
        </p:nvSpPr>
        <p:spPr>
          <a:xfrm>
            <a:off x="7380360" y="544500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49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投影片編號版面配置區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156-0B42-41D8-918C-0DF9D5801F88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028"/>
          <p:cNvSpPr/>
          <p:nvPr/>
        </p:nvSpPr>
        <p:spPr>
          <a:xfrm>
            <a:off x="1204920" y="141300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內容版面配置區 8" descr=""/>
          <p:cNvPicPr/>
          <p:nvPr/>
        </p:nvPicPr>
        <p:blipFill>
          <a:blip r:embed="rId1"/>
          <a:stretch/>
        </p:blipFill>
        <p:spPr>
          <a:xfrm>
            <a:off x="1289160" y="1549440"/>
            <a:ext cx="735804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414360"/>
            <a:ext cx="7499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教育程度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74" name="文字方塊 9"/>
          <p:cNvSpPr/>
          <p:nvPr/>
        </p:nvSpPr>
        <p:spPr>
          <a:xfrm>
            <a:off x="7380360" y="5445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49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投影片編號版面配置區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FCCC-1C18-4C20-89F2-EE73984ED0C3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內容版面配置區 8" descr=""/>
          <p:cNvPicPr/>
          <p:nvPr/>
        </p:nvPicPr>
        <p:blipFill>
          <a:blip r:embed="rId1"/>
          <a:stretch/>
        </p:blipFill>
        <p:spPr>
          <a:xfrm>
            <a:off x="1536840" y="1549440"/>
            <a:ext cx="7110360" cy="4514760"/>
          </a:xfrm>
          <a:prstGeom prst="rect">
            <a:avLst/>
          </a:prstGeom>
          <a:ln w="0">
            <a:noFill/>
          </a:ln>
        </p:spPr>
      </p:pic>
      <p:sp>
        <p:nvSpPr>
          <p:cNvPr id="477" name="Line 1028"/>
          <p:cNvSpPr/>
          <p:nvPr/>
        </p:nvSpPr>
        <p:spPr>
          <a:xfrm>
            <a:off x="1204920" y="141300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49952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職業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79" name="文字方塊 9"/>
          <p:cNvSpPr/>
          <p:nvPr/>
        </p:nvSpPr>
        <p:spPr>
          <a:xfrm>
            <a:off x="7380360" y="544500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49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投影片編號版面配置區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B4A7-0EAD-4AD6-B4AD-A0A8BCD9523C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內容版面配置區 8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7110360" cy="4514760"/>
          </a:xfrm>
          <a:prstGeom prst="rect">
            <a:avLst/>
          </a:prstGeom>
          <a:ln w="0">
            <a:noFill/>
          </a:ln>
        </p:spPr>
      </p:pic>
      <p:sp>
        <p:nvSpPr>
          <p:cNvPr id="482" name="Line 1028"/>
          <p:cNvSpPr/>
          <p:nvPr/>
        </p:nvSpPr>
        <p:spPr>
          <a:xfrm>
            <a:off x="1204920" y="141300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258920" y="1916280"/>
            <a:ext cx="7058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375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諾保科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obel Biocare)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委託香港大學民意研究計劃進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《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人缺牙情況及健康修復牙齒意見調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》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是次調查主要旨在了解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本港市民的缺牙情況及處理方法、和對植牙的認知及意見。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375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由香港大學民意研究計劃獨立設計及進行，結果由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民研計劃全面負責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spcAft>
                <a:spcPts val="1375"/>
              </a:spcAft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問卷由民研計劃諮詢諾保科後獨立設計，所有操作、數據收集及分析均不受任何機構影響，調查方法和結果</a:t>
            </a:r>
            <a:r>
              <a:rPr b="1" lang="zh-TW" sz="2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全面公開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投影片編號版面配置區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42D7-CB39-4737-BD7A-36BB7FC2E18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028"/>
          <p:cNvSpPr/>
          <p:nvPr/>
        </p:nvSpPr>
        <p:spPr>
          <a:xfrm>
            <a:off x="1403280" y="1557360"/>
            <a:ext cx="675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411280" y="2599920"/>
            <a:ext cx="64008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報 告 完 畢</a:t>
            </a:r>
            <a:br>
              <a:rPr sz="7000"/>
            </a:br>
            <a:br>
              <a:rPr sz="7000"/>
            </a:br>
            <a:endParaRPr b="0" lang="en-US" sz="70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84" name="文字方塊 3"/>
          <p:cNvSpPr/>
          <p:nvPr/>
        </p:nvSpPr>
        <p:spPr>
          <a:xfrm>
            <a:off x="2050920" y="3645000"/>
            <a:ext cx="475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詳細報告結果，請瀏覽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ttp://hkupop.hku.hk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028"/>
          <p:cNvSpPr/>
          <p:nvPr/>
        </p:nvSpPr>
        <p:spPr>
          <a:xfrm>
            <a:off x="2556000" y="3429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投影片編號版面配置區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23AC-82D8-4942-885E-57FE046C166C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70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 年齡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操粵語的香港居民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4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回應比率：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68.6% (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符合資格的目標對象計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 少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+/-4.5% (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由訪問員直接進行電話訪問，訪問員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功接觸目標住戶後，再從住戶內符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條件的成員中以出生日期抽取一人接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6ae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數據調整：調查數字已經按照政府統計處提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底本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或以上人口之年齡及性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佈初步統計數字，以「加權」方法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出調整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投影片編號版面配置區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3A38-F726-478D-93FB-F8F59719F70C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缺牙的情況</a:t>
            </a:r>
            <a:br>
              <a:rPr sz="5000"/>
            </a:br>
            <a:endParaRPr b="0" lang="en-US" sz="50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6" name="投影片編號版面配置區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552C-2203-4497-B4AE-210A1868064B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65530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近七成被訪者有缺牙情況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文字方塊 7"/>
          <p:cNvSpPr/>
          <p:nvPr/>
        </p:nvSpPr>
        <p:spPr>
          <a:xfrm>
            <a:off x="1116000" y="6093000"/>
            <a:ext cx="75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</a:rPr>
              <a:t>請問你而家有冇 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「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</a:rPr>
              <a:t>缺牙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」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</a:rPr>
              <a:t>，例如嚴重牙患需要拔除或自動鬆脫？如果有，請問你而家總共冇左幾多隻牙？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投影片編號版面配置區 9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316B-B969-4CB1-9195-0E9C3601AB25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圖表 12" descr=""/>
          <p:cNvPicPr/>
          <p:nvPr/>
        </p:nvPicPr>
        <p:blipFill>
          <a:blip r:embed="rId1"/>
          <a:stretch/>
        </p:blipFill>
        <p:spPr>
          <a:xfrm>
            <a:off x="1360440" y="3408480"/>
            <a:ext cx="6905520" cy="2511360"/>
          </a:xfrm>
          <a:prstGeom prst="rect">
            <a:avLst/>
          </a:prstGeom>
          <a:ln w="0">
            <a:noFill/>
          </a:ln>
        </p:spPr>
      </p:pic>
      <p:pic>
        <p:nvPicPr>
          <p:cNvPr id="351" name="圖表 13" descr=""/>
          <p:cNvPicPr/>
          <p:nvPr/>
        </p:nvPicPr>
        <p:blipFill>
          <a:blip r:embed="rId2"/>
          <a:stretch/>
        </p:blipFill>
        <p:spPr>
          <a:xfrm>
            <a:off x="2025720" y="1176480"/>
            <a:ext cx="3714840" cy="263340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11"/>
          <p:cNvGrpSpPr/>
          <p:nvPr/>
        </p:nvGrpSpPr>
        <p:grpSpPr>
          <a:xfrm>
            <a:off x="6019920" y="1905120"/>
            <a:ext cx="1676160" cy="1295280"/>
            <a:chOff x="6019920" y="1905120"/>
            <a:chExt cx="1676160" cy="1295280"/>
          </a:xfrm>
        </p:grpSpPr>
        <p:sp>
          <p:nvSpPr>
            <p:cNvPr id="353" name="文字方塊 7"/>
            <p:cNvSpPr/>
            <p:nvPr/>
          </p:nvSpPr>
          <p:spPr>
            <a:xfrm>
              <a:off x="6049800" y="2128680"/>
              <a:ext cx="1584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平均數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: 6.1</a:t>
              </a: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隻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抽樣誤差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: +/-0.8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眾數：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隻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</a:rPr>
                <a:t>基數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: 33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10"/>
            <p:cNvSpPr/>
            <p:nvPr/>
          </p:nvSpPr>
          <p:spPr>
            <a:xfrm>
              <a:off x="6019920" y="1905120"/>
              <a:ext cx="1676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文字方塊 8"/>
          <p:cNvSpPr/>
          <p:nvPr/>
        </p:nvSpPr>
        <p:spPr>
          <a:xfrm>
            <a:off x="1116000" y="6093000"/>
            <a:ext cx="72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2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過左換牙階段之後，請問你第一次甩牙╱缺牙係幾多歲？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標題 1"/>
          <p:cNvSpPr/>
          <p:nvPr/>
        </p:nvSpPr>
        <p:spPr>
          <a:xfrm>
            <a:off x="1258920" y="333360"/>
            <a:ext cx="7200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近半數於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歲或之前第一次甩牙／缺牙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D120-0D4E-4426-A99D-B608F0AC68E1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內容版面配置區 13" descr=""/>
          <p:cNvPicPr/>
          <p:nvPr/>
        </p:nvPicPr>
        <p:blipFill>
          <a:blip r:embed="rId1"/>
          <a:stretch/>
        </p:blipFill>
        <p:spPr>
          <a:xfrm>
            <a:off x="1382760" y="1895400"/>
            <a:ext cx="6800760" cy="4251240"/>
          </a:xfrm>
          <a:prstGeom prst="rect">
            <a:avLst/>
          </a:prstGeom>
          <a:ln w="0">
            <a:noFill/>
          </a:ln>
        </p:spPr>
      </p:pic>
      <p:sp>
        <p:nvSpPr>
          <p:cNvPr id="360" name="文字方塊 14"/>
          <p:cNvSpPr/>
          <p:nvPr/>
        </p:nvSpPr>
        <p:spPr>
          <a:xfrm>
            <a:off x="5219640" y="155736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平均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32.2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抽樣誤差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+/-1.8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眾數：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基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22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字方塊 8"/>
          <p:cNvSpPr/>
          <p:nvPr/>
        </p:nvSpPr>
        <p:spPr>
          <a:xfrm>
            <a:off x="1116000" y="6021360"/>
            <a:ext cx="7201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問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「有缺牙」者，基數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0]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3 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之前甩牙╱缺牙既原因係？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讀答案，可選多項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百分比不足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</a:t>
            </a:r>
            <a:r>
              <a:rPr b="1" lang="zh-TW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選項沒有顯示於圖表內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標題 1"/>
          <p:cNvSpPr/>
          <p:nvPr/>
        </p:nvSpPr>
        <p:spPr>
          <a:xfrm>
            <a:off x="1476360" y="476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逾六成甩牙╱缺牙原因是蛀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投影片編號版面配置區 10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62AD-FFB8-4BEB-8F1E-1F10E09B9F63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內容版面配置區 13" descr=""/>
          <p:cNvPicPr/>
          <p:nvPr/>
        </p:nvPicPr>
        <p:blipFill>
          <a:blip r:embed="rId1"/>
          <a:stretch/>
        </p:blipFill>
        <p:spPr>
          <a:xfrm>
            <a:off x="1093680" y="1319040"/>
            <a:ext cx="7531200" cy="4597560"/>
          </a:xfrm>
          <a:prstGeom prst="rect">
            <a:avLst/>
          </a:prstGeom>
          <a:ln w="0">
            <a:noFill/>
          </a:ln>
        </p:spPr>
      </p:pic>
      <p:sp>
        <p:nvSpPr>
          <p:cNvPr id="366" name="Line 1028"/>
          <p:cNvSpPr/>
          <p:nvPr/>
        </p:nvSpPr>
        <p:spPr>
          <a:xfrm>
            <a:off x="1332000" y="1341360"/>
            <a:ext cx="675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缺牙的處理方法</a:t>
            </a:r>
            <a:endParaRPr b="0" lang="en-US" sz="50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8" name="投影片編號版面配置區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8626-E6F8-4699-AAA9-232EF277D624}" type="slidenum">
              <a:rPr b="1" lang="en-US" sz="1200" spc="-1" strike="noStrike">
                <a:solidFill>
                  <a:srgbClr val="b3b3b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winnie</cp:lastModifiedBy>
  <cp:lastPrinted>2001-04-04T10:00:24Z</cp:lastPrinted>
  <dcterms:modified xsi:type="dcterms:W3CDTF">2011-05-23T05:58:34Z</dcterms:modified>
  <cp:revision>1101</cp:revision>
  <dc:subject/>
  <dc:title>無投影片標題</dc:title>
</cp:coreProperties>
</file>