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4BA8-A85E-4A1B-B22A-CB765F27F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ADD1-6CCA-4E44-A14C-CCB60A260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8369-8468-40EE-99CA-1D186A144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E2E-F269-40D4-A7C9-D0CE9EA06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725-FE10-4786-A50C-38BB5247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307-13FF-4D08-B844-F3D279CC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A34-967E-4EDD-8941-3EE25595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510-7846-4043-8E53-4910CF21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3488-5E45-4E43-8A5C-A1D12095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EF90-DF12-4275-B5AE-4AD7D0E8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82CA-C31C-42BB-AEB9-FBCCCC03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1967-7C85-4A2F-9EDF-84ABCF79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D6C2-CA0C-49FB-8543-911AC591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9282-0492-4353-966A-45FE0C2D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E2FE-DE3F-4B2E-918B-35BC852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B5F-B7E0-40D1-808F-0745CD51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02E-53D9-4113-BC8A-FFD6E9E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2DDF-E5D9-4D3F-A005-98C72955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F55A-17C5-4CF5-BE81-FF8D466D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24CE-62DF-4D4D-AFD7-B24BE66B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7004-E034-4AA3-9B51-77E0A0DC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2A31-5ED2-4B4E-857B-C1DA3688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81B5-7605-4E78-801C-83D3A816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6D45-8884-4730-A0DF-7C672310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C377-5DC2-4B05-B4BF-E8B4AFD4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166A-8AD6-4CC8-A465-D53E23FF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1E8-FFF1-49AD-B3D6-19CB2614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D79A-1ED9-4D6D-9AB5-C10B927B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4770-FA7F-4666-9B39-E4CF338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57EC-C363-46AD-A82C-89D92FF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51DF-5D51-43B1-B515-908B6875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0AFD-408B-429F-9918-F1A20FAB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29F2-5387-4FBA-8400-63736C6C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D7A4-5B7A-4241-BBEF-DFAA5AF2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C81-B94E-4B60-8183-0977CBD4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016-5E9E-43A1-8D57-53A60A01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DEA-7401-43D3-A8F6-516A8F1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EFE-FB0A-46F9-83BD-9F6D1226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6AB-B191-407C-91C5-966B6B93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EE4-48CD-45EF-9EB2-1D6D76BB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7f3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5018-5B5A-43C6-9F7B-126615999F04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FC13-0B3D-4DF5-8AA9-F6DC0646F27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:\03. GHG\01. Clients\GSK\1. HK\03. Panadol\08. Cold &amp; Flu\03. Info from client\main visual\red bar.jpg"/>
          <p:cNvPicPr/>
          <p:nvPr/>
        </p:nvPicPr>
        <p:blipFill>
          <a:blip r:embed="rId2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W:\03. GHG\01. Clients\GSK\1. HK\03. Panadol\08. Cold &amp; Flu\05. press document\03. survey ppt\Archive\bar.jpg"/>
          <p:cNvPicPr/>
          <p:nvPr/>
        </p:nvPicPr>
        <p:blipFill>
          <a:blip r:embed="rId3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7f3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2CCF-C81E-4FC8-9F47-73E831643DDB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5C2C-C6F8-456E-ADF4-C75F21BECBB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W:\03. GHG\01. Clients\GSK\1. HK\03. Panadol\08. Cold &amp; Flu\03. Info from client\main visual\red bar.jpg"/>
          <p:cNvPicPr/>
          <p:nvPr/>
        </p:nvPicPr>
        <p:blipFill>
          <a:blip r:embed="rId2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W:\03. GHG\01. Clients\GSK\1. HK\03. Panadol\08. Cold &amp; Flu\03. Info from client\main visual\c.gif"/>
          <p:cNvPicPr/>
          <p:nvPr/>
        </p:nvPicPr>
        <p:blipFill>
          <a:blip r:embed="rId3"/>
          <a:stretch/>
        </p:blipFill>
        <p:spPr>
          <a:xfrm>
            <a:off x="228600" y="501012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W:\03. GHG\01. Clients\GSK\1. HK\03. Panadol\08. Cold &amp; Flu\05. press document\03. survey ppt\Archive\bar.jpg"/>
          <p:cNvPicPr/>
          <p:nvPr/>
        </p:nvPicPr>
        <p:blipFill>
          <a:blip r:embed="rId4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7f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7f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7f3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828F-FE55-4C65-B794-961F381570A0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284-239C-4A59-B0A2-0FAC5DE4E4E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W:\03. GHG\01. Clients\GSK\1. HK\03. Panadol\08. Cold &amp; Flu\05. press document\03. survey ppt\Archive\survey ppt_20110117.jpg"/>
          <p:cNvPicPr/>
          <p:nvPr/>
        </p:nvPicPr>
        <p:blipFill>
          <a:blip r:embed="rId1"/>
          <a:srcRect l="0" t="0" r="14999" b="40047"/>
          <a:stretch/>
        </p:blipFill>
        <p:spPr>
          <a:xfrm>
            <a:off x="1295280" y="2514600"/>
            <a:ext cx="7556760" cy="1066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香港大學民意研究計劃總監鍾庭耀博士</a:t>
            </a:r>
            <a:endParaRPr b="0" lang="en-US" sz="2400" spc="-1" strike="noStrike">
              <a:solidFill>
                <a:srgbClr val="007f3e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2011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年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1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月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24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日</a:t>
            </a:r>
            <a:endParaRPr b="0" lang="en-US" sz="2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B5B5-6655-4DD2-A2B4-92BFA3CC5A7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W:\03. GHG\01. Clients\GSK\1. HK\03. Panadol\08. Cold &amp; Flu\03. Info from client\main visual\c.gif"/>
          <p:cNvPicPr/>
          <p:nvPr/>
        </p:nvPicPr>
        <p:blipFill>
          <a:blip r:embed="rId2"/>
          <a:stretch/>
        </p:blipFill>
        <p:spPr>
          <a:xfrm>
            <a:off x="304920" y="1917720"/>
            <a:ext cx="34290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hart 8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3657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9</a:t>
            </a: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受訪者表示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過去</a:t>
            </a:r>
            <a:r>
              <a:rPr b="0" lang="en-US" sz="3200" spc="-1" strike="noStrike">
                <a:solidFill>
                  <a:srgbClr val="007f3e"/>
                </a:solidFill>
                <a:latin typeface="Arial Unicode MS"/>
              </a:rPr>
              <a:t>12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個月沒有注射過流感疫苗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3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你過去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2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個月有冇注射過流感疫苗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5E0B-560D-4A85-B81B-1ADAE1314A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owchart: Terminator 9"/>
          <p:cNvSpPr/>
          <p:nvPr/>
        </p:nvSpPr>
        <p:spPr>
          <a:xfrm>
            <a:off x="1523880" y="3733920"/>
            <a:ext cx="5486400" cy="11430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8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36576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表示於過去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12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個月有注射流感疫苗之</a:t>
            </a: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受訪者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者中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0" lang="zh-TW" sz="24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表示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患傷風或感冒的次數與未注射流感疫苗時相若</a:t>
            </a:r>
            <a:endParaRPr b="0" lang="en-US" sz="2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4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咁同未注射流感疫苗時相比，你覺得自己患傷風或者感冒既次數係：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4EA0-745A-40D5-A53D-F4786095D0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lowchart: Terminator 9"/>
          <p:cNvSpPr/>
          <p:nvPr/>
        </p:nvSpPr>
        <p:spPr>
          <a:xfrm>
            <a:off x="1447920" y="3809880"/>
            <a:ext cx="5257800" cy="106704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7f3e"/>
                </a:solidFill>
                <a:latin typeface="Arial Unicode MS"/>
              </a:rPr>
              <a:t>在職人士對傷風感冒的看法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E735-7A8D-4998-A21F-CE76ECE598E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304920" y="1752480"/>
            <a:ext cx="3276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81880" cy="4191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2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你同意定唔同意以下有關傷風或者感冒嘅描述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96DD-F8B6-4EBC-AEA9-71F8C79411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7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受訪者同意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傷風或感冒菌較數年前厲害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同意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病情很快惡化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609480" y="32767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2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609480" y="4648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2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152280" y="4952880"/>
            <a:ext cx="190512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hart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153280" cy="4191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2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你同意定唔同意以下有關傷風或者感冒嘅描述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6064-84F9-4595-B0AD-E0477EAD1F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30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0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3000" spc="-1" strike="noStrike">
                <a:solidFill>
                  <a:srgbClr val="007f3e"/>
                </a:solidFill>
                <a:latin typeface="新細明體"/>
              </a:rPr>
              <a:t>同意</a:t>
            </a:r>
            <a:r>
              <a:rPr b="0" lang="zh-TW" sz="3000" spc="-1" strike="noStrike">
                <a:solidFill>
                  <a:srgbClr val="ff0000"/>
                </a:solidFill>
                <a:latin typeface="Arial Unicode MS"/>
              </a:rPr>
              <a:t>同事去年患傷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風或感冒次數較前</a:t>
            </a:r>
            <a:r>
              <a:rPr b="0" lang="zh-TW" sz="3000" spc="-1" strike="noStrike">
                <a:solidFill>
                  <a:srgbClr val="ff0000"/>
                </a:solidFill>
                <a:latin typeface="Arial Unicode MS"/>
              </a:rPr>
              <a:t>年多</a:t>
            </a:r>
            <a:r>
              <a:rPr b="0" lang="zh-TW" sz="3000" spc="-1" strike="noStrike">
                <a:solidFill>
                  <a:srgbClr val="007f3e"/>
                </a:solidFill>
                <a:latin typeface="Arial Unicode MS"/>
              </a:rPr>
              <a:t> </a:t>
            </a:r>
            <a:br>
              <a:rPr sz="2800"/>
            </a:br>
            <a:r>
              <a:rPr b="0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0" lang="zh-TW" sz="1600" spc="-1" strike="noStrike">
                <a:solidFill>
                  <a:srgbClr val="007f3e"/>
                </a:solidFill>
                <a:latin typeface="Arial Unicode MS"/>
              </a:rPr>
              <a:t>註：去年指</a:t>
            </a:r>
            <a:r>
              <a:rPr b="0" lang="en-US" sz="1600" spc="-1" strike="noStrike">
                <a:solidFill>
                  <a:srgbClr val="007f3e"/>
                </a:solidFill>
                <a:latin typeface="Arial Unicode MS"/>
              </a:rPr>
              <a:t>2010</a:t>
            </a:r>
            <a:r>
              <a:rPr b="0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0" lang="zh-TW" sz="1600" spc="-1" strike="noStrike">
                <a:solidFill>
                  <a:srgbClr val="007f3e"/>
                </a:solidFill>
                <a:latin typeface="Arial Unicode MS"/>
              </a:rPr>
              <a:t>年</a:t>
            </a:r>
            <a:r>
              <a:rPr b="0" lang="en-US" sz="1600" spc="-1" strike="noStrike">
                <a:solidFill>
                  <a:srgbClr val="007f3e"/>
                </a:solidFill>
                <a:latin typeface="Arial Unicode MS"/>
              </a:rPr>
              <a:t>)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7f3e"/>
                </a:solidFill>
                <a:latin typeface="Arial Unicode MS"/>
              </a:rPr>
              <a:t>港人帶病上班情況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FE0C-2D3A-482B-B14F-0CF86655829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1143000" y="17524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Chart 9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3657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4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當你出現咳嗽、流鼻水等傷風或者感冒徵狀時，你通常會唔會返工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70C6-554E-47C8-9518-24D8E29E44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出現咳嗽、流鼻水等傷風或感冒徵狀時，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受訪者</a:t>
            </a:r>
            <a:r>
              <a:rPr b="0" lang="zh-TW" sz="3200" spc="-1" strike="noStrike">
                <a:solidFill>
                  <a:srgbClr val="ff0000"/>
                </a:solidFill>
                <a:latin typeface="新細明體"/>
              </a:rPr>
              <a:t>仍會上班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14" name="Flowchart: Terminator 10"/>
          <p:cNvSpPr/>
          <p:nvPr/>
        </p:nvSpPr>
        <p:spPr>
          <a:xfrm>
            <a:off x="2209680" y="2514600"/>
            <a:ext cx="5410440" cy="83808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hart 9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391520" cy="4114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4a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點解你會繼續返工？ 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699F-15D6-4FCC-A321-7B5381AE6A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4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表示出現</a:t>
            </a: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傷風或感冒徵狀時仍會上班的</a:t>
            </a: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受訪者中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,</a:t>
            </a:r>
            <a:br>
              <a:rPr sz="26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6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zh-TW" sz="2600" spc="-1" strike="noStrike">
                <a:solidFill>
                  <a:srgbClr val="007f3e"/>
                </a:solidFill>
                <a:latin typeface="Arial Unicode MS"/>
              </a:rPr>
              <a:t>因為覺得病情不太嚴重；</a:t>
            </a:r>
            <a:r>
              <a:rPr b="0" lang="en-US" sz="26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26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6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2600" spc="-1" strike="noStrike">
                <a:solidFill>
                  <a:srgbClr val="007f3e"/>
                </a:solidFill>
                <a:latin typeface="Arial Unicode MS"/>
              </a:rPr>
              <a:t>因為太多工作無法請假</a:t>
            </a:r>
            <a:endParaRPr b="0" lang="en-US" sz="2600" spc="-1" strike="noStrike">
              <a:solidFill>
                <a:srgbClr val="007f3e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hart 8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705360" cy="3810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1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1" lang="zh-TW" sz="3200" spc="-1" strike="noStrike">
                <a:solidFill>
                  <a:srgbClr val="007f3e"/>
                </a:solidFill>
                <a:latin typeface="Arial Unicode MS"/>
              </a:rPr>
              <a:t>受訪者與同事的</a:t>
            </a:r>
            <a:r>
              <a:rPr b="1" lang="zh-TW" sz="3200" spc="-1" strike="noStrike">
                <a:solidFill>
                  <a:srgbClr val="ff0000"/>
                </a:solidFill>
                <a:latin typeface="Arial Unicode MS"/>
              </a:rPr>
              <a:t>距離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1" lang="zh-TW" sz="3200" spc="-1" strike="noStrike">
                <a:solidFill>
                  <a:srgbClr val="ff0000"/>
                </a:solidFill>
                <a:latin typeface="Arial Unicode MS"/>
              </a:rPr>
              <a:t>尺或以內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6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坐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/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企得最近你嘅同事大約同你相隔幾多尺？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17F8-D9CB-45D4-9F2A-5507DDE878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lowchart: Terminator 9"/>
          <p:cNvSpPr/>
          <p:nvPr/>
        </p:nvSpPr>
        <p:spPr>
          <a:xfrm>
            <a:off x="1143000" y="2438280"/>
            <a:ext cx="6553080" cy="60984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04920" y="220968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7f3e"/>
                </a:solidFill>
                <a:latin typeface="Arial Unicode MS"/>
              </a:rPr>
              <a:t>在職人士患傷風</a:t>
            </a:r>
            <a:r>
              <a:rPr b="0" lang="en-US" sz="3600" spc="-1" strike="noStrike">
                <a:solidFill>
                  <a:srgbClr val="007f3e"/>
                </a:solidFill>
                <a:latin typeface="Arial Unicode MS"/>
              </a:rPr>
              <a:t>/</a:t>
            </a:r>
            <a:r>
              <a:rPr b="0" lang="zh-TW" sz="3600" spc="-1" strike="noStrike">
                <a:solidFill>
                  <a:srgbClr val="007f3e"/>
                </a:solidFill>
                <a:latin typeface="Arial Unicode MS"/>
              </a:rPr>
              <a:t>感冒時</a:t>
            </a:r>
            <a:endParaRPr b="0" lang="en-US" sz="3600" spc="-1" strike="noStrike">
              <a:solidFill>
                <a:srgbClr val="007f3e"/>
              </a:solidFill>
              <a:latin typeface="Arial Unicode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7f3e"/>
                </a:solidFill>
                <a:latin typeface="Arial Unicode MS"/>
              </a:rPr>
              <a:t>其他人恐怕被傳染的情況</a:t>
            </a:r>
            <a:endParaRPr b="0" lang="en-US" sz="3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BFE0-CD47-4FAD-8BF9-C4C100E2082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1143000" y="1905120"/>
            <a:ext cx="3276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7f3e"/>
                </a:solidFill>
                <a:latin typeface="新細明體"/>
              </a:rPr>
              <a:t>調查概況</a:t>
            </a:r>
            <a:endParaRPr b="0" lang="en-US" sz="3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85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37B1-FB80-499A-ADC6-FC5556B72AD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219320"/>
          <a:ext cx="8229600" cy="4803480"/>
        </p:xfrm>
        <a:graphic>
          <a:graphicData uri="http://schemas.openxmlformats.org/drawingml/2006/table">
            <a:tbl>
              <a:tblPr/>
              <a:tblGrid>
                <a:gridCol w="2133720"/>
                <a:gridCol w="6095880"/>
              </a:tblGrid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透視本港在職人士患傷風感冒及避免傳染他人的情況、因出現傷風感冒病徵而被歧視的</a:t>
                      </a:r>
                      <a:r>
                        <a:rPr b="0" lang="zh-CN" sz="1800" spc="-1" strike="noStrike">
                          <a:solidFill>
                            <a:srgbClr val="007f3e"/>
                          </a:solidFill>
                          <a:latin typeface="Calibri"/>
                          <a:ea typeface="宋体"/>
                        </a:rPr>
                        <a:t>經歷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、從而建議港人</a:t>
                      </a:r>
                      <a:r>
                        <a:rPr b="0" lang="zh-CN" sz="1800" spc="-1" strike="noStrike">
                          <a:solidFill>
                            <a:srgbClr val="007f3e"/>
                          </a:solidFill>
                          <a:latin typeface="Calibri"/>
                          <a:ea typeface="宋体"/>
                        </a:rPr>
                        <a:t>如何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正確</a:t>
                      </a:r>
                      <a:r>
                        <a:rPr b="0" lang="zh-CN" sz="1800" spc="-1" strike="noStrike">
                          <a:solidFill>
                            <a:srgbClr val="007f3e"/>
                          </a:solidFill>
                          <a:latin typeface="Calibri"/>
                          <a:ea typeface="宋体"/>
                        </a:rPr>
                        <a:t>面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對傷風感冒及停止傷風感冒傳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2011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3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日至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12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由訪問員直接進行電話訪問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</a:t>
                      </a:r>
                      <a:r>
                        <a:rPr b="1" lang="zh-TW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Times New Roman"/>
                          <a:ea typeface="新細明體"/>
                        </a:rPr>
                        <a:t>年齡 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Times New Roman"/>
                          <a:ea typeface="新細明體"/>
                        </a:rPr>
                        <a:t>25-50 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Times New Roman"/>
                          <a:ea typeface="新細明體"/>
                        </a:rPr>
                        <a:t>歲並操粵語的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在職人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香港大學民意研究計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7f3e"/>
                          </a:solidFill>
                          <a:latin typeface="Century Gothic"/>
                          <a:ea typeface="新細明體"/>
                        </a:rPr>
                        <a:t>抽樣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entury Gothic"/>
                          <a:ea typeface="新細明體"/>
                        </a:rPr>
                        <a:t>以電腦從住宅電話簿中隨機抽出電話號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509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有效回應比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74.1% (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以符合資格的目標對象計算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f3e"/>
                          </a:solidFill>
                          <a:latin typeface="新細明體"/>
                          <a:ea typeface="新細明體"/>
                        </a:rPr>
                        <a:t>百分比誤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少於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2.2%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，亦即在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95%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的置信水平下，各個百分比的抽樣誤差為少於正負</a:t>
                      </a:r>
                      <a:r>
                        <a:rPr b="0" lang="en-US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4.4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個百分比</a:t>
                      </a:r>
                      <a:r>
                        <a:rPr b="0" lang="zh-TW" sz="1800" spc="-1" strike="noStrike">
                          <a:solidFill>
                            <a:srgbClr val="007f3e"/>
                          </a:solidFill>
                          <a:latin typeface="Calibri"/>
                          <a:ea typeface="新細明體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42" name="Picture 2" descr="W:\03. GHG\01. Clients\GSK\1. HK\03. Panadol\08. Cold &amp; Flu\03. Info from client\main visual\red bar.jpg"/>
          <p:cNvPicPr/>
          <p:nvPr/>
        </p:nvPicPr>
        <p:blipFill>
          <a:blip r:embed="rId1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W:\03. GHG\01. Clients\GSK\1. HK\03. Panadol\08. Cold &amp; Flu\05. press document\03. survey ppt\Archive\bar.jpg"/>
          <p:cNvPicPr/>
          <p:nvPr/>
        </p:nvPicPr>
        <p:blipFill>
          <a:blip r:embed="rId2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Chart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7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如果有同事患傷風或者感冒仲返工，結果傳染俾其他同事，下列情況有冇出現過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0605-BBE9-47D1-85F4-935EC4984C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當有患傷風或感冒的同事上班並傳染其他同事時，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受訪者指帶菌者曾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被同事或上司埋怨散播病菌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Chart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7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如果有同事患傷風或者感冒仲返工，結果傳染俾其他同事，下列情況有冇出現過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D172-8B95-4B39-B4F5-22F1FFA9AD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當有患傷風或感冒的同事上班並傳染其他同事時，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受訪者表示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其他同事怕被傳染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Chart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7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如果有同事患傷風或者感冒仲返工，結果傳染俾其他同事，下列情況有冇出現過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E404-FE68-4CED-AE36-92C9F3AE1C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當有患傷風或感冒的同事上班並傳染其他同事時，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受訪者指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有同事被傳染而請假，影響工作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Chart 7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696440" cy="38862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當受訪者自己或同事在工作期間出現傷風或感冒病徵時，</a:t>
            </a: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會主動戴口罩</a:t>
            </a:r>
            <a:r>
              <a:rPr b="0" lang="en-US" sz="2800" spc="-1" strike="noStrike">
                <a:solidFill>
                  <a:srgbClr val="007f3e"/>
                </a:solidFill>
                <a:latin typeface="Arial Unicode MS"/>
              </a:rPr>
              <a:t>;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曾被要求回家休息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8. 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當你或你身邊嘅人係工作期間出現傷風或者感冒病徵時，有冇遇過以下情況？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4A7A-6DD6-4A40-8D7C-18A475D670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lowchart: Terminator 9"/>
          <p:cNvSpPr/>
          <p:nvPr/>
        </p:nvSpPr>
        <p:spPr>
          <a:xfrm>
            <a:off x="1981080" y="3581280"/>
            <a:ext cx="4267440" cy="4572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lowchart: Terminator 10"/>
          <p:cNvSpPr/>
          <p:nvPr/>
        </p:nvSpPr>
        <p:spPr>
          <a:xfrm>
            <a:off x="762120" y="4038480"/>
            <a:ext cx="5105160" cy="53352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Chart 8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781680" cy="3962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9.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如果係交通工具上有人出現傷風或者感冒病徵，如咳或者打乞嚏時，你有冇見過以下情況？ 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D7D1-D556-4A53-9231-5A3B703BB6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當有人在</a:t>
            </a:r>
            <a:r>
              <a:rPr b="0" lang="zh-TW" sz="2400" spc="-1" strike="noStrike">
                <a:solidFill>
                  <a:srgbClr val="ff0000"/>
                </a:solidFill>
                <a:latin typeface="新細明體"/>
              </a:rPr>
              <a:t>交通工具</a:t>
            </a:r>
            <a:r>
              <a:rPr b="0" lang="zh-TW" sz="2400" spc="-1" strike="noStrike">
                <a:solidFill>
                  <a:srgbClr val="007f3e"/>
                </a:solidFill>
                <a:latin typeface="新細明體"/>
              </a:rPr>
              <a:t>上出現傷風或感冒病徵，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7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見過會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遭人白眼</a:t>
            </a:r>
            <a:r>
              <a:rPr b="0" lang="en-US" sz="2800" spc="-1" strike="noStrike">
                <a:solidFill>
                  <a:srgbClr val="007f3e"/>
                </a:solidFill>
                <a:latin typeface="新細明體"/>
              </a:rPr>
              <a:t>;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 8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及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見過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其他人立即掩鼻及</a:t>
            </a:r>
            <a:br>
              <a:rPr sz="2800"/>
            </a:b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刻意保持距離</a:t>
            </a:r>
            <a:r>
              <a:rPr b="0" lang="en-US" sz="2800" spc="-1" strike="noStrike">
                <a:solidFill>
                  <a:srgbClr val="007f3e"/>
                </a:solidFill>
                <a:latin typeface="新細明體"/>
              </a:rPr>
              <a:t>;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更見過</a:t>
            </a:r>
            <a:r>
              <a:rPr b="0" lang="zh-TW" sz="2800" spc="-1" strike="noStrike">
                <a:solidFill>
                  <a:srgbClr val="ff0000"/>
                </a:solidFill>
                <a:latin typeface="新細明體"/>
              </a:rPr>
              <a:t>家長立即帶小朋友走開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hart 8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162560" cy="36576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7</a:t>
            </a: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受訪者曾</a:t>
            </a:r>
            <a:r>
              <a:rPr b="0" lang="zh-TW" sz="2800" spc="-1" strike="noStrike">
                <a:solidFill>
                  <a:srgbClr val="007f3e"/>
                </a:solidFill>
                <a:latin typeface="Arial Unicode MS"/>
              </a:rPr>
              <a:t>試過於人多擠擁的公眾地方</a:t>
            </a:r>
            <a:br>
              <a:rPr sz="2800"/>
            </a:br>
            <a:r>
              <a:rPr b="0" lang="zh-TW" sz="2800" spc="-1" strike="noStrike">
                <a:solidFill>
                  <a:srgbClr val="ff0000"/>
                </a:solidFill>
                <a:latin typeface="Arial Unicode MS"/>
              </a:rPr>
              <a:t>刻意忍著不咳嗽及打噴嚏 ，以免遭人白眼</a:t>
            </a:r>
            <a:endParaRPr b="0" lang="en-US" sz="28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0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你有冇試過係人多擠擁嘅公眾地方，就算想咳、打噴嚏等，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都會盡量忍住以免被人眼望望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A1A8-D846-4715-9F3B-5B5288CDC6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lowchart: Terminator 9"/>
          <p:cNvSpPr/>
          <p:nvPr/>
        </p:nvSpPr>
        <p:spPr>
          <a:xfrm>
            <a:off x="1066680" y="2819520"/>
            <a:ext cx="6858000" cy="83808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7f3e"/>
                </a:solidFill>
                <a:latin typeface="Arial Unicode MS"/>
              </a:rPr>
              <a:t>出現傷風感冒對在職人士</a:t>
            </a:r>
            <a:endParaRPr b="0" lang="en-US" sz="4000" spc="-1" strike="noStrike">
              <a:solidFill>
                <a:srgbClr val="007f3e"/>
              </a:solidFill>
              <a:latin typeface="Arial Unicode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7f3e"/>
                </a:solidFill>
                <a:latin typeface="Arial Unicode MS"/>
              </a:rPr>
              <a:t>生活的影響</a:t>
            </a:r>
            <a:endParaRPr b="0" lang="en-US" sz="40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63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8DF9-F80E-47E9-8F55-AECDB7DCD63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685800" y="22096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Chart 7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當受訪者患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傷風或感冒時，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選擇在家自我隔離，減少接觸家人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11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你患上傷風或者感冒時，有冇試過：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7DC8-54F8-4EBF-B11E-6761E7F40E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lowchart: Terminator 8"/>
          <p:cNvSpPr/>
          <p:nvPr/>
        </p:nvSpPr>
        <p:spPr>
          <a:xfrm>
            <a:off x="2438280" y="4191120"/>
            <a:ext cx="3276720" cy="4572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Chart 8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7f3e"/>
                </a:solidFill>
                <a:latin typeface="新細明體"/>
              </a:rPr>
              <a:t>當受訪者</a:t>
            </a:r>
            <a:r>
              <a:rPr b="0" lang="zh-TW" sz="2900" spc="-1" strike="noStrike">
                <a:solidFill>
                  <a:srgbClr val="007f3e"/>
                </a:solidFill>
                <a:latin typeface="Arial Unicode MS"/>
              </a:rPr>
              <a:t>患上傷風或感冒時，</a:t>
            </a:r>
            <a:br>
              <a:rPr sz="2900"/>
            </a:b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6</a:t>
            </a:r>
            <a:r>
              <a:rPr b="0" lang="zh-TW" sz="29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7</a:t>
            </a:r>
            <a:r>
              <a:rPr b="0" lang="zh-TW" sz="2900" spc="-1" strike="noStrike">
                <a:solidFill>
                  <a:srgbClr val="007f3e"/>
                </a:solidFill>
                <a:latin typeface="Arial Unicode MS"/>
              </a:rPr>
              <a:t>曾</a:t>
            </a:r>
            <a:r>
              <a:rPr b="0" lang="zh-TW" sz="2900" spc="-1" strike="noStrike">
                <a:solidFill>
                  <a:srgbClr val="ff0000"/>
                </a:solidFill>
                <a:latin typeface="Arial Unicode MS"/>
              </a:rPr>
              <a:t>主動決定缺席朋友聚會</a:t>
            </a: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, </a:t>
            </a:r>
            <a:r>
              <a:rPr b="0" lang="zh-TW" sz="2900" spc="-1" strike="noStrike">
                <a:solidFill>
                  <a:srgbClr val="ff0000"/>
                </a:solidFill>
                <a:latin typeface="Arial Unicode MS"/>
              </a:rPr>
              <a:t>以免傳染給朋友</a:t>
            </a:r>
            <a:br>
              <a:rPr sz="2900"/>
            </a:b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1</a:t>
            </a:r>
            <a:r>
              <a:rPr b="0" lang="zh-TW" sz="29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29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2900" spc="-1" strike="noStrike">
                <a:solidFill>
                  <a:srgbClr val="007f3e"/>
                </a:solidFill>
                <a:latin typeface="新細明體"/>
              </a:rPr>
              <a:t>被要求不要出席聚會</a:t>
            </a:r>
            <a:endParaRPr b="0" lang="en-US" sz="29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12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你患上傷風或者感冒但約咗朋友聚會時，有冇試過：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49EF-BB33-4075-8B7F-5204B62BC0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Terminator 9"/>
          <p:cNvSpPr/>
          <p:nvPr/>
        </p:nvSpPr>
        <p:spPr>
          <a:xfrm>
            <a:off x="990720" y="2209680"/>
            <a:ext cx="7086600" cy="6858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Terminator 10"/>
          <p:cNvSpPr/>
          <p:nvPr/>
        </p:nvSpPr>
        <p:spPr>
          <a:xfrm>
            <a:off x="1752480" y="4038480"/>
            <a:ext cx="3200400" cy="4572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7f3e"/>
                </a:solidFill>
                <a:latin typeface="Arial Unicode MS"/>
              </a:rPr>
              <a:t>受訪者個人資料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9093-4F41-45AB-BD51-5AF09C3D7B9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1828800" y="17524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2514600" y="1752480"/>
            <a:ext cx="3276720" cy="2171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7f3e"/>
                </a:solidFill>
                <a:latin typeface="Arial Unicode MS"/>
              </a:rPr>
              <a:t>調查結果</a:t>
            </a:r>
            <a:endParaRPr b="0" lang="en-US" sz="50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46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5A0D-069B-4131-846E-C47018BCB4E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性別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F1FB-9876-4862-81BD-AB402BE228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Content Placeholder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Chart 6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0384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年齡組別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BD1A-8991-4CCA-99EE-CE03B36B85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教育程度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E034-1C65-40FF-9CD6-79624179B6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Chart 6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hart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772400" cy="49528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職業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6665-31BD-4364-B799-00920BAF8E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大部分時間的工作環境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C9C-8C0C-4420-88F6-9B04768FDA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Chart 6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hart 6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7f3e"/>
                </a:solidFill>
                <a:latin typeface="Arial Unicode MS"/>
              </a:rPr>
              <a:t>受訪者每月個人收入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C9DB-3571-4A44-ABF4-B7DF50B457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4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22096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- </a:t>
            </a:r>
            <a:r>
              <a:rPr b="0" lang="zh-TW" sz="4400" spc="-1" strike="noStrike">
                <a:solidFill>
                  <a:srgbClr val="007f3e"/>
                </a:solidFill>
                <a:latin typeface="Arial Unicode MS"/>
              </a:rPr>
              <a:t>完 </a:t>
            </a:r>
            <a:r>
              <a:rPr b="0" lang="en-US" sz="4400" spc="-1" strike="noStrike">
                <a:solidFill>
                  <a:srgbClr val="007f3e"/>
                </a:solidFill>
                <a:latin typeface="Arial Unicode MS"/>
              </a:rPr>
              <a:t>-</a:t>
            </a:r>
            <a:endParaRPr b="0" lang="en-US" sz="44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242F-C99E-47F4-856D-E3880D9DB37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2743200" y="17524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7f3e"/>
                </a:solidFill>
                <a:latin typeface="Arial Unicode MS"/>
              </a:rPr>
              <a:t>在職人士患傷風感冒及傳染情況</a:t>
            </a:r>
            <a:endParaRPr b="0" lang="en-US" sz="40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6C2-5EFA-4806-9F0B-456B4512F36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W:\03. GHG\01. Clients\GSK\1. HK\03. Panadol\08. Cold &amp; Flu\03. Info from client\main visual\c.gif"/>
          <p:cNvPicPr/>
          <p:nvPr/>
        </p:nvPicPr>
        <p:blipFill>
          <a:blip r:embed="rId1"/>
          <a:stretch/>
        </p:blipFill>
        <p:spPr>
          <a:xfrm>
            <a:off x="228600" y="1752480"/>
            <a:ext cx="3276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hart 9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24680" cy="4038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1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請問你喺過去嘅一年，患過幾多次傷風或者感冒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52" name="Slide Number Placeholder 8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E1F7-4509-4103-92C7-E2357A223D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5054760" y="3911760"/>
            <a:ext cx="2819160" cy="94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f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受訪者過去一年</a:t>
            </a:r>
            <a:br>
              <a:rPr sz="1800"/>
            </a:br>
            <a:r>
              <a:rPr b="1" lang="zh-CN" sz="1800" spc="-1" strike="noStrike">
                <a:solidFill>
                  <a:srgbClr val="007f3e"/>
                </a:solidFill>
                <a:latin typeface="宋体"/>
                <a:ea typeface="宋体"/>
              </a:rPr>
              <a:t>平均</a:t>
            </a: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曾患</a:t>
            </a:r>
            <a:r>
              <a:rPr b="1" lang="en-US" sz="2000" spc="-1" strike="noStrike">
                <a:solidFill>
                  <a:srgbClr val="ff0000"/>
                </a:solidFill>
                <a:latin typeface="新細明體"/>
              </a:rPr>
              <a:t>3</a:t>
            </a:r>
            <a:r>
              <a:rPr b="1" lang="zh-TW" sz="2000" spc="-1" strike="noStrike">
                <a:solidFill>
                  <a:srgbClr val="ff0000"/>
                </a:solidFill>
                <a:latin typeface="新細明體"/>
              </a:rPr>
              <a:t>次</a:t>
            </a:r>
            <a:r>
              <a:rPr b="1" lang="zh-TW" sz="2000" spc="-1" strike="noStrike">
                <a:solidFill>
                  <a:srgbClr val="007f3e"/>
                </a:solidFill>
                <a:latin typeface="新細明體"/>
              </a:rPr>
              <a:t>傷風</a:t>
            </a:r>
            <a:r>
              <a:rPr b="1" lang="en-US" sz="2000" spc="-1" strike="noStrike">
                <a:solidFill>
                  <a:srgbClr val="007f3e"/>
                </a:solidFill>
                <a:latin typeface="新細明體"/>
              </a:rPr>
              <a:t>/</a:t>
            </a:r>
            <a:r>
              <a:rPr b="1" lang="zh-TW" sz="2000" spc="-1" strike="noStrike">
                <a:solidFill>
                  <a:srgbClr val="007f3e"/>
                </a:solidFill>
                <a:latin typeface="新細明體"/>
              </a:rPr>
              <a:t>感冒</a:t>
            </a:r>
            <a:br>
              <a:rPr sz="2000"/>
            </a:br>
            <a:r>
              <a:rPr b="1" lang="en-US" sz="1800" spc="-1" strike="noStrike">
                <a:solidFill>
                  <a:srgbClr val="007f3e"/>
                </a:solidFill>
                <a:latin typeface="新細明體"/>
              </a:rPr>
              <a:t> 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(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基數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=</a:t>
            </a:r>
            <a:r>
              <a:rPr b="0" lang="en-US" sz="1200" spc="-1" strike="noStrike">
                <a:solidFill>
                  <a:srgbClr val="007f3e"/>
                </a:solidFill>
                <a:latin typeface="新細明體"/>
              </a:rPr>
              <a:t>503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7f3e"/>
                </a:solidFill>
                <a:latin typeface="新細明體"/>
              </a:rPr>
              <a:t>於過去一年，受訪者平均曾患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500" spc="-1" strike="noStrike">
                <a:solidFill>
                  <a:srgbClr val="007f3e"/>
                </a:solidFill>
                <a:latin typeface="新細明體"/>
              </a:rPr>
              <a:t>次傷風或感冒</a:t>
            </a:r>
            <a:endParaRPr b="0" lang="en-US" sz="3500" spc="-1" strike="noStrike">
              <a:solidFill>
                <a:srgbClr val="007f3e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當受訪者患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傷風或感冒時，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曾於一、兩日內傳染給家人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11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你患上傷風或者感冒時，有冇試過：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(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可選多項</a:t>
            </a: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)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661B-CEB0-4A6B-8367-1E06E8D4EC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8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161" name="Flowchart: Terminator 9"/>
          <p:cNvSpPr/>
          <p:nvPr/>
        </p:nvSpPr>
        <p:spPr>
          <a:xfrm>
            <a:off x="2286000" y="3657600"/>
            <a:ext cx="4267080" cy="45720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Chart 8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3432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表示去年曾患傷風或感冒的受訪者中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,</a:t>
            </a:r>
            <a:br>
              <a:rPr sz="2400"/>
            </a:b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近半</a:t>
            </a:r>
            <a:r>
              <a:rPr b="0" lang="zh-TW" sz="3200" spc="-1" strike="noStrike">
                <a:solidFill>
                  <a:srgbClr val="007f3e"/>
                </a:solidFill>
                <a:latin typeface="Arial Unicode MS"/>
              </a:rPr>
              <a:t>試過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被同事傳染患病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5.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過去一年，你有冇試過俾同事傳染而患上傷風或者感冒？ 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27CB-5A8B-4B59-A983-014CA2E264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4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owchart: Terminator 9"/>
          <p:cNvSpPr/>
          <p:nvPr/>
        </p:nvSpPr>
        <p:spPr>
          <a:xfrm>
            <a:off x="2971800" y="2362320"/>
            <a:ext cx="5105520" cy="838080"/>
          </a:xfrm>
          <a:prstGeom prst="flowChartTerminator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hart 9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705360" cy="381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f3e"/>
                </a:solidFill>
                <a:latin typeface="Arial Unicode MS"/>
              </a:rPr>
              <a:t>5a.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 </a:t>
            </a:r>
            <a:r>
              <a:rPr b="1" lang="zh-TW" sz="1600" spc="-1" strike="noStrike">
                <a:solidFill>
                  <a:srgbClr val="007f3e"/>
                </a:solidFill>
                <a:latin typeface="Arial Unicode MS"/>
              </a:rPr>
              <a:t>咁大約有幾多次？</a:t>
            </a: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spcBef>
                <a:spcPts val="400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01992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5D5-3F08-41A6-8536-C571E73712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952880" y="3733920"/>
            <a:ext cx="281952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f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受訪者過去一年</a:t>
            </a:r>
            <a:br>
              <a:rPr sz="1800"/>
            </a:b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平均被同事傳染</a:t>
            </a:r>
            <a:r>
              <a:rPr b="1" lang="en-US" sz="1800" spc="-1" strike="noStrike">
                <a:solidFill>
                  <a:srgbClr val="ff0000"/>
                </a:solidFill>
                <a:latin typeface="新細明體"/>
              </a:rPr>
              <a:t>2</a:t>
            </a:r>
            <a:r>
              <a:rPr b="1" lang="zh-TW" sz="1800" spc="-1" strike="noStrike">
                <a:solidFill>
                  <a:srgbClr val="ff0000"/>
                </a:solidFill>
                <a:latin typeface="新細明體"/>
              </a:rPr>
              <a:t>次</a:t>
            </a:r>
            <a:br>
              <a:rPr sz="1800"/>
            </a:b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而患傷風</a:t>
            </a:r>
            <a:r>
              <a:rPr b="1" lang="en-US" sz="1800" spc="-1" strike="noStrike">
                <a:solidFill>
                  <a:srgbClr val="007f3e"/>
                </a:solidFill>
                <a:latin typeface="新細明體"/>
              </a:rPr>
              <a:t>/</a:t>
            </a:r>
            <a:r>
              <a:rPr b="1" lang="zh-TW" sz="1800" spc="-1" strike="noStrike">
                <a:solidFill>
                  <a:srgbClr val="007f3e"/>
                </a:solidFill>
                <a:latin typeface="新細明體"/>
              </a:rPr>
              <a:t>感冒 </a:t>
            </a:r>
            <a:br>
              <a:rPr sz="2000"/>
            </a:br>
            <a:r>
              <a:rPr b="1" lang="en-US" sz="1800" spc="-1" strike="noStrike">
                <a:solidFill>
                  <a:srgbClr val="007f3e"/>
                </a:solidFill>
                <a:latin typeface="新細明體"/>
              </a:rPr>
              <a:t> 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(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基數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=</a:t>
            </a:r>
            <a:r>
              <a:rPr b="0" lang="en-US" sz="1200" spc="-1" strike="noStrike">
                <a:solidFill>
                  <a:srgbClr val="007f3e"/>
                </a:solidFill>
                <a:latin typeface="新細明體"/>
              </a:rPr>
              <a:t>215</a:t>
            </a:r>
            <a:r>
              <a:rPr b="0" lang="zh-TW" sz="1200" spc="-1" strike="noStrike">
                <a:solidFill>
                  <a:srgbClr val="007f3e"/>
                </a:solidFill>
                <a:latin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2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7f3e"/>
                </a:solidFill>
                <a:latin typeface="Arial Unicode MS"/>
              </a:rPr>
              <a:t>表示去年曾因被同事傳染而患病的受訪者中</a:t>
            </a:r>
            <a:r>
              <a:rPr b="0" lang="en-US" sz="2400" spc="-1" strike="noStrike">
                <a:solidFill>
                  <a:srgbClr val="007f3e"/>
                </a:solidFill>
                <a:latin typeface="Arial Unicode MS"/>
              </a:rPr>
              <a:t>,</a:t>
            </a:r>
            <a:br>
              <a:rPr sz="4000"/>
            </a:br>
            <a:r>
              <a:rPr b="0" lang="zh-TW" sz="3400" spc="-1" strike="noStrike">
                <a:solidFill>
                  <a:srgbClr val="ff0000"/>
                </a:solidFill>
                <a:latin typeface="新細明體"/>
              </a:rPr>
              <a:t>過去一年</a:t>
            </a:r>
            <a:r>
              <a:rPr b="0" lang="zh-TW" sz="3400" spc="-1" strike="noStrike">
                <a:solidFill>
                  <a:srgbClr val="ff0000"/>
                </a:solidFill>
                <a:latin typeface="Arial Unicode MS"/>
              </a:rPr>
              <a:t>平均被同事傳染</a:t>
            </a:r>
            <a:r>
              <a:rPr b="0" lang="en-US" sz="3400" spc="-1" strike="noStrike">
                <a:solidFill>
                  <a:srgbClr val="ff0000"/>
                </a:solidFill>
                <a:latin typeface="Arial Unicode MS"/>
              </a:rPr>
              <a:t>2</a:t>
            </a:r>
            <a:r>
              <a:rPr b="0" lang="zh-TW" sz="3400" spc="-1" strike="noStrike">
                <a:solidFill>
                  <a:srgbClr val="ff0000"/>
                </a:solidFill>
                <a:latin typeface="Arial Unicode MS"/>
              </a:rPr>
              <a:t>次</a:t>
            </a:r>
            <a:endParaRPr b="0" lang="en-US" sz="3400" spc="-1" strike="noStrike">
              <a:solidFill>
                <a:srgbClr val="007f3e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hart 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934320" cy="41148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7f3e"/>
                </a:solidFill>
                <a:latin typeface="新細明體"/>
              </a:rPr>
              <a:t>出現傷風或感冒病徵時，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4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5</a:t>
            </a: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受訪者會向西醫求診，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3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成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8</a:t>
            </a:r>
            <a:r>
              <a:rPr b="0" lang="zh-TW" sz="3200" spc="-1" strike="noStrike">
                <a:solidFill>
                  <a:srgbClr val="ff0000"/>
                </a:solidFill>
                <a:latin typeface="Arial Unicode MS"/>
              </a:rPr>
              <a:t>會</a:t>
            </a:r>
            <a:r>
              <a:rPr b="0" lang="zh-TW" sz="3200" spc="-1" strike="noStrike">
                <a:solidFill>
                  <a:srgbClr val="007f3e"/>
                </a:solidFill>
                <a:latin typeface="新細明體"/>
              </a:rPr>
              <a:t>食西成藥</a:t>
            </a:r>
            <a:endParaRPr b="0" lang="en-US" sz="32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3. 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當你一出現傷風或者感冒嘅病徵時，你通常會做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D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咩令自己快</a:t>
            </a:r>
            <a:r>
              <a:rPr b="1" lang="en-US" sz="1500" spc="-1" strike="noStrike">
                <a:solidFill>
                  <a:srgbClr val="007f3e"/>
                </a:solidFill>
                <a:latin typeface="Arial Unicode MS"/>
              </a:rPr>
              <a:t>D</a:t>
            </a:r>
            <a:r>
              <a:rPr b="1" lang="zh-TW" sz="1500" spc="-1" strike="noStrike">
                <a:solidFill>
                  <a:srgbClr val="007f3e"/>
                </a:solidFill>
                <a:latin typeface="Arial Unicode MS"/>
              </a:rPr>
              <a:t>好返？（可選多項）</a:t>
            </a: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7f3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f3e"/>
              </a:solidFill>
              <a:latin typeface="Arial Unicode MS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380880" y="5407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c00000"/>
                </a:solidFill>
                <a:latin typeface="Century Gothic"/>
              </a:rPr>
              <a:t>有效樣本：</a:t>
            </a:r>
            <a:r>
              <a:rPr b="1" lang="en-US" sz="1400" spc="-1" strike="noStrike">
                <a:solidFill>
                  <a:srgbClr val="c00000"/>
                </a:solidFill>
                <a:latin typeface="Century Gothic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781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F853-499A-4FF9-AEAF-578A802FB53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7:19:53Z</dcterms:created>
  <dc:creator>angus.mak</dc:creator>
  <dc:description/>
  <dc:language>en-US</dc:language>
  <cp:lastModifiedBy>frank</cp:lastModifiedBy>
  <dcterms:modified xsi:type="dcterms:W3CDTF">2011-01-24T07:59:49Z</dcterms:modified>
  <cp:revision>113</cp:revision>
  <dc:subject/>
  <dc:title>Slide 1</dc:title>
</cp:coreProperties>
</file>