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1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FDCCC19-829F-4257-AEDE-7780CC5E56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4493993-8845-455A-B44C-847837C096BF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2772C51-96E9-4EC2-95C3-23E7EBB69974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A0B750-21A2-463A-8C91-4EFB927C5F42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555469-C6FD-4221-A7EC-0B21A64495CE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5DC-BD5E-42DF-9F75-44B9A334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773A-8B56-435F-9843-6BA732EC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3D4-9E76-4863-B878-8F0F1584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BE3-8592-4700-942C-569BF262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F4B-4406-4B6D-A328-EBB8F695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74FE-8EF5-4C67-B72A-FECD9468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337-56C1-478F-A563-B9DADB5E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A898-DC87-483C-BBDB-F9CD0888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7922-A02E-4922-9613-57D1477E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FDE-7A99-4165-B6DE-363D89B8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C573-6702-4D00-B85F-BC543E86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83FC-D296-4430-BA92-4C593877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D638-9A2F-4B10-A718-7712FAAB567F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新細明體"/>
              </a:rPr>
              <a:t>香港大學民意研究計劃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新細明體"/>
              </a:rPr>
              <a:t>The University of Hong Kong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新細明體"/>
              </a:rPr>
              <a:t>Public Opinion Programme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1143000" y="45720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5720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家長對香港教育意見調查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762120" y="4343400"/>
            <a:ext cx="78483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鍾庭耀博士</a:t>
            </a:r>
            <a:endParaRPr b="1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2008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28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日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本</a:t>
            </a:r>
            <a:r>
              <a:rPr b="0" i="1" lang="zh-TW" sz="1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報告</a:t>
            </a:r>
            <a:r>
              <a:rPr b="0" i="1" lang="zh-TW" sz="1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內一切內容與香港大學立場無關，內容由民意研究計劃主任鍾庭耀博士負責。</a:t>
            </a:r>
            <a:endParaRPr b="1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1143000" y="289548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1143000" y="403848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ffff"/>
                </a:solidFill>
                <a:latin typeface="Times New Roman"/>
              </a:rPr>
              <a:t>孫明揚 </a:t>
            </a:r>
            <a:r>
              <a:rPr b="1" lang="zh-TW" sz="3000" spc="-1" strike="noStrike">
                <a:solidFill>
                  <a:srgbClr val="ffff00"/>
                </a:solidFill>
                <a:latin typeface="新細明體"/>
              </a:rPr>
              <a:t>民望走勢  </a:t>
            </a:r>
            <a:r>
              <a:rPr b="1" lang="en-US" sz="3000" spc="-1" strike="noStrike">
                <a:solidFill>
                  <a:srgbClr val="ffff00"/>
                </a:solidFill>
                <a:latin typeface="新細明體"/>
              </a:rPr>
              <a:t>(</a:t>
            </a:r>
            <a:r>
              <a:rPr b="1" lang="en-US" sz="3000" spc="-1" strike="noStrike">
                <a:solidFill>
                  <a:srgbClr val="ffff00"/>
                </a:solidFill>
                <a:latin typeface="新細明體"/>
              </a:rPr>
              <a:t>以全港巿民計</a:t>
            </a:r>
            <a:r>
              <a:rPr b="1" lang="en-US" sz="3000" spc="-1" strike="noStrike">
                <a:solidFill>
                  <a:srgbClr val="ffff00"/>
                </a:solidFill>
                <a:latin typeface="新細明體"/>
              </a:rPr>
              <a:t>, 2002-2008 )</a:t>
            </a: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6" name="Object 1024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Line 5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57200" y="6019920"/>
            <a:ext cx="8305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新細明體"/>
                <a:ea typeface="新細明體"/>
              </a:rPr>
              <a:t>以全港巿民評分計，取自</a:t>
            </a:r>
            <a:r>
              <a:rPr b="1" lang="en-US" sz="1600" spc="-1" strike="noStrike">
                <a:solidFill>
                  <a:srgbClr val="ccecff"/>
                </a:solidFill>
                <a:latin typeface="新細明體"/>
                <a:ea typeface="新細明體"/>
              </a:rPr>
              <a:t>《</a:t>
            </a:r>
            <a:r>
              <a:rPr b="1" lang="zh-TW" sz="1600" spc="-1" strike="noStrike">
                <a:solidFill>
                  <a:srgbClr val="ccecff"/>
                </a:solidFill>
                <a:latin typeface="新細明體"/>
                <a:ea typeface="新細明體"/>
              </a:rPr>
              <a:t>香港大學民意網站</a:t>
            </a:r>
            <a:r>
              <a:rPr b="1" lang="en-US" sz="1600" spc="-1" strike="noStrike">
                <a:solidFill>
                  <a:srgbClr val="ccecff"/>
                </a:solidFill>
                <a:latin typeface="新細明體"/>
                <a:ea typeface="新細明體"/>
              </a:rPr>
              <a:t>》</a:t>
            </a:r>
            <a:r>
              <a:rPr b="1" lang="zh-TW" sz="1600" spc="-1" strike="noStrike">
                <a:solidFill>
                  <a:srgbClr val="ccecff"/>
                </a:solidFill>
                <a:latin typeface="新細明體"/>
                <a:ea typeface="新細明體"/>
              </a:rPr>
              <a:t>，網址為 </a:t>
            </a:r>
            <a:r>
              <a:rPr b="1" lang="en-US" sz="1600" spc="-1" strike="noStrike">
                <a:solidFill>
                  <a:srgbClr val="ccecff"/>
                </a:solidFill>
                <a:latin typeface="新細明體"/>
                <a:ea typeface="新細明體"/>
              </a:rPr>
              <a:t>http://hkupop.hku.hk</a:t>
            </a:r>
            <a:r>
              <a:rPr b="1" lang="zh-TW" sz="1600" spc="-1" strike="noStrike">
                <a:solidFill>
                  <a:srgbClr val="ccecff"/>
                </a:solidFill>
                <a:latin typeface="新細明體"/>
                <a:ea typeface="新細明體"/>
              </a:rPr>
              <a:t>。</a:t>
            </a:r>
            <a:endParaRPr b="1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0" name="Picture 10" descr="http://hkupop.hku.hk/chinese/popexpress/poall/popmichael/michael_suen/poll/chart_new/poll1.gif"/>
          <p:cNvPicPr/>
          <p:nvPr/>
        </p:nvPicPr>
        <p:blipFill>
          <a:blip r:embed="rId3"/>
          <a:stretch/>
        </p:blipFill>
        <p:spPr>
          <a:xfrm>
            <a:off x="457200" y="1371600"/>
            <a:ext cx="8229600" cy="4608360"/>
          </a:xfrm>
          <a:prstGeom prst="rect">
            <a:avLst/>
          </a:prstGeom>
          <a:ln w="0">
            <a:noFill/>
          </a:ln>
        </p:spPr>
      </p:pic>
      <p:sp>
        <p:nvSpPr>
          <p:cNvPr id="111" name="Line 11"/>
          <p:cNvSpPr/>
          <p:nvPr/>
        </p:nvSpPr>
        <p:spPr>
          <a:xfrm flipH="1" flipV="1">
            <a:off x="8534520" y="37339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762120" y="137160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685800" y="1600200"/>
            <a:ext cx="784872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74760">
              <a:lnSpc>
                <a:spcPct val="9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孫明揚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取代李國章出任教育局局長後，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家長評分為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53.8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，較李國章在上次調查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高出接近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11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分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。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家長對香港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教育制度的信心評分亦增加至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50.5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，是本調查系列在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2006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年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6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月開展以來，首次超越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50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分，雖然僅可合格，但亦顯示一般家長在人事變動後，心情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比較樂觀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。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有子女就讀外地大專、本地私立或者津貼學校的家長，對教育制度的信心仍屬負面。 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根據民研計劃的紀錄，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家長與非家長對孫明揚局長的評價可能差異不大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；一般家長對香港教育制度的評價，亦可能與一般巿民的意見相去不遠。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關於教育理想方面，較多家長認為良好的教育，是要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培養良好品格和提升學習能力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，其他考慮只屬次要。  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2960" y="92880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新細明體"/>
              </a:rPr>
              <a:t>詳細報告結果，請瀏覽：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0" y="2714760"/>
            <a:ext cx="91440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香港家長意見平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ttp://hkpop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香港大學民意網站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ttp://hkupop.hku.hk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857160" y="22860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1" name="Picture 8" descr="C:\Documents and Settings\frank\Desktop\platform.jpg"/>
          <p:cNvPicPr/>
          <p:nvPr/>
        </p:nvPicPr>
        <p:blipFill>
          <a:blip r:embed="rId1"/>
          <a:stretch/>
        </p:blipFill>
        <p:spPr>
          <a:xfrm>
            <a:off x="642960" y="1143000"/>
            <a:ext cx="8077320" cy="5286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家長意見平台 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http://hkpop.hk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3" name="Line 46"/>
          <p:cNvSpPr/>
          <p:nvPr/>
        </p:nvSpPr>
        <p:spPr>
          <a:xfrm>
            <a:off x="571680" y="1000080"/>
            <a:ext cx="8229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305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</a:rPr>
              <a:t>研究背景及調查方法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</a:rPr>
              <a:t>最新調查結果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0" algn="just">
              <a:lnSpc>
                <a:spcPct val="12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家長對</a:t>
            </a:r>
            <a:r>
              <a:rPr b="1" lang="zh-TW" sz="2800" spc="-1" strike="noStrike">
                <a:solidFill>
                  <a:srgbClr val="ffff00"/>
                </a:solidFill>
                <a:latin typeface="標楷體"/>
              </a:rPr>
              <a:t>教育局局長的評分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家長對</a:t>
            </a:r>
            <a:r>
              <a:rPr b="1" lang="zh-TW" sz="2800" spc="-1" strike="noStrike">
                <a:solidFill>
                  <a:srgbClr val="ffff00"/>
                </a:solidFill>
                <a:latin typeface="標楷體"/>
              </a:rPr>
              <a:t>香港教育制度信心評分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標楷體"/>
              </a:rPr>
              <a:t>家長對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良好教育目標的</a:t>
            </a:r>
            <a:r>
              <a:rPr b="1" lang="zh-TW" sz="2800" spc="-1" strike="noStrike">
                <a:solidFill>
                  <a:srgbClr val="ffff00"/>
                </a:solidFill>
                <a:latin typeface="標楷體"/>
              </a:rPr>
              <a:t>意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</a:rPr>
              <a:t>簡單總結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Line 8"/>
          <p:cNvSpPr/>
          <p:nvPr/>
        </p:nvSpPr>
        <p:spPr>
          <a:xfrm>
            <a:off x="7621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785960"/>
            <a:ext cx="739152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調查目的：探討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一般家長對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</a:rPr>
              <a:t>教育局局長、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本地教育信心及對良好教育目標的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</a:rPr>
              <a:t>意見</a:t>
            </a: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 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調查問卷由港大民研計劃諮詢家長關注教育政策聯盟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EP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）</a:t>
            </a: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後獨立設計，所有操作、數據收集及分析</a:t>
            </a: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由民研計劃獨立進行</a:t>
            </a: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，結果亦由民研計劃全面負責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調查由</a:t>
            </a:r>
            <a:r>
              <a:rPr b="1" lang="en-US" sz="2800" spc="-1" strike="noStrike">
                <a:solidFill>
                  <a:srgbClr val="ccecff"/>
                </a:solidFill>
                <a:latin typeface="新細明體"/>
              </a:rPr>
              <a:t>2006</a:t>
            </a: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年中開始，已經進行四次，</a:t>
            </a: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方法和結果全面公開</a:t>
            </a: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714240" y="1500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新細明體"/>
              </a:rPr>
              <a:t>樣本資料  </a:t>
            </a:r>
            <a:r>
              <a:rPr b="1" lang="en-US" sz="2800" spc="-1" strike="noStrike">
                <a:solidFill>
                  <a:srgbClr val="ffff99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第一至四次調查</a:t>
            </a:r>
            <a:r>
              <a:rPr b="1" lang="en-US" sz="2800" spc="-1" strike="noStrike">
                <a:solidFill>
                  <a:srgbClr val="ffff99"/>
                </a:solidFill>
                <a:latin typeface="新細明體"/>
              </a:rPr>
              <a:t>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785880" y="1785960"/>
            <a:ext cx="7643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5600" indent="-169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訪問日期：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2006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5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24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日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6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1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日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;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2007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1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9-24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日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;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2007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6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8-18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日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;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2008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1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16-30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日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 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695600" indent="-169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訪問對象：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	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香港家長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，即有子女即將或者正在就讀本港或外地幼稚園、小學、中學、大學、或者其他教育機構的家長。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695600" indent="-169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調查方法：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	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由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訪問員直接進行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電話訪問，訪問員在成功接觸目標住戶後，再從住戶內符合條件的成員中以出生日期抽取一人接受訪問。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695600" indent="-1695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樣本數目：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506,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504, 517, 1017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個成功個案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695600" indent="-1695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回應比率：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58.8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%,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58.4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%,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62.8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%,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65.3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695600" indent="-1695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抽樣誤差：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	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少於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2.2%, 2.2%, 2.2%, 1.6%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>
            <a:off x="685800" y="1447920"/>
            <a:ext cx="7848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請你用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至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00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分評價你對教育局局長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XXX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的支持程度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 0 = 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絕對冇信心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00 = 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絕對有信心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0 = 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一半半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6" name="Object 0"/>
          <p:cNvGraphicFramePr/>
          <p:nvPr/>
        </p:nvGraphicFramePr>
        <p:xfrm>
          <a:off x="304920" y="2259000"/>
          <a:ext cx="8572320" cy="467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59000"/>
                    <a:ext cx="857232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Line 4"/>
          <p:cNvSpPr/>
          <p:nvPr/>
        </p:nvSpPr>
        <p:spPr>
          <a:xfrm>
            <a:off x="642960" y="1285920"/>
            <a:ext cx="8001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819520" y="1447920"/>
          <a:ext cx="2209680" cy="1841400"/>
        </p:xfrm>
        <a:graphic>
          <a:graphicData uri="http://schemas.openxmlformats.org/drawingml/2006/table">
            <a:tbl>
              <a:tblPr/>
              <a:tblGrid>
                <a:gridCol w="1044360"/>
                <a:gridCol w="1165320"/>
              </a:tblGrid>
              <a:tr h="5202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06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年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6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月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李國章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)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平均數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51.4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中位數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50.0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標準誤差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0.94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評分人數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484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029200" y="1447920"/>
          <a:ext cx="1165320" cy="1857240"/>
        </p:xfrm>
        <a:graphic>
          <a:graphicData uri="http://schemas.openxmlformats.org/drawingml/2006/table">
            <a:tbl>
              <a:tblPr/>
              <a:tblGrid>
                <a:gridCol w="1165320"/>
              </a:tblGrid>
              <a:tr h="5202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07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年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月</a:t>
                      </a:r>
                      <a:br>
                        <a:rPr sz="1400"/>
                      </a:b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李國章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)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50.1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50.0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0.96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483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172200" y="1447920"/>
          <a:ext cx="1143000" cy="185256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5202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07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年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6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月</a:t>
                      </a:r>
                      <a:br>
                        <a:rPr sz="1400"/>
                      </a:b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李國章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)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43.1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50.0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1.13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491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7315200" y="1447920"/>
          <a:ext cx="1143000" cy="185256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5202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08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年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月</a:t>
                      </a:r>
                      <a:br>
                        <a:rPr sz="1400"/>
                      </a:b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孫明揚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) *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53.8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50.0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0.63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863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請你用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至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00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分評價你對當局現時領導下的香港教育制度有沒有信心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 0 = 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絕對冇信心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00 = 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絕對有信心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0 = 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一半半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4" name="Object 1024"/>
          <p:cNvGraphicFramePr/>
          <p:nvPr/>
        </p:nvGraphicFramePr>
        <p:xfrm>
          <a:off x="304920" y="2182680"/>
          <a:ext cx="8572320" cy="467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82680"/>
                    <a:ext cx="857232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4"/>
          <p:cNvSpPr/>
          <p:nvPr/>
        </p:nvSpPr>
        <p:spPr>
          <a:xfrm>
            <a:off x="609480" y="1523880"/>
            <a:ext cx="8001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819520" y="1676520"/>
          <a:ext cx="2209680" cy="1895400"/>
        </p:xfrm>
        <a:graphic>
          <a:graphicData uri="http://schemas.openxmlformats.org/drawingml/2006/table">
            <a:tbl>
              <a:tblPr/>
              <a:tblGrid>
                <a:gridCol w="1044360"/>
                <a:gridCol w="1165320"/>
              </a:tblGrid>
              <a:tr h="371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06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年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6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月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平均數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46.5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中位數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50.0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標準誤差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1.02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評分人數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496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029200" y="1676520"/>
          <a:ext cx="1165320" cy="1895400"/>
        </p:xfrm>
        <a:graphic>
          <a:graphicData uri="http://schemas.openxmlformats.org/drawingml/2006/table">
            <a:tbl>
              <a:tblPr/>
              <a:tblGrid>
                <a:gridCol w="1165320"/>
              </a:tblGrid>
              <a:tr h="371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07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年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月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48.0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50.0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0.93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493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6172200" y="1676520"/>
          <a:ext cx="1143000" cy="190476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902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07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年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6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月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45.6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50.0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1.00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506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7315200" y="1676520"/>
          <a:ext cx="1143000" cy="190476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902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08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年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月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50.5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50.0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0.70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982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3"/>
          <p:cNvSpPr/>
          <p:nvPr/>
        </p:nvSpPr>
        <p:spPr>
          <a:xfrm>
            <a:off x="990720" y="14940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2" name="Object 4"/>
          <p:cNvGraphicFramePr/>
          <p:nvPr/>
        </p:nvGraphicFramePr>
        <p:xfrm>
          <a:off x="114480" y="1689120"/>
          <a:ext cx="8902440" cy="368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689120"/>
                    <a:ext cx="890244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Rectangle 5"/>
          <p:cNvSpPr/>
          <p:nvPr/>
        </p:nvSpPr>
        <p:spPr>
          <a:xfrm>
            <a:off x="6615000" y="193500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回答人數 </a:t>
            </a:r>
            <a:r>
              <a:rPr b="1" lang="en-US" sz="16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= 1,016</a:t>
            </a:r>
            <a:endParaRPr b="1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066680" y="53341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新細明體"/>
                <a:ea typeface="新細明體"/>
              </a:rPr>
              <a:t>品格培育 </a:t>
            </a:r>
            <a:r>
              <a:rPr b="1" lang="en-US" sz="1400" spc="-1" strike="noStrike">
                <a:solidFill>
                  <a:srgbClr val="ccecff"/>
                </a:solidFill>
                <a:latin typeface="新細明體"/>
                <a:ea typeface="新細明體"/>
              </a:rPr>
              <a:t>: </a:t>
            </a:r>
            <a:r>
              <a:rPr b="0" lang="zh-TW" sz="1400" spc="-1" strike="noStrike">
                <a:solidFill>
                  <a:srgbClr val="ccecff"/>
                </a:solidFill>
                <a:latin typeface="新細明體"/>
                <a:ea typeface="新細明體"/>
              </a:rPr>
              <a:t>培育出良好品格、誠信  </a:t>
            </a:r>
            <a:endParaRPr b="1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057400" y="53341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新細明體"/>
                <a:ea typeface="新細明體"/>
              </a:rPr>
              <a:t>學習能力 </a:t>
            </a:r>
            <a:r>
              <a:rPr b="1" lang="en-US" sz="1400" spc="-1" strike="noStrike">
                <a:solidFill>
                  <a:srgbClr val="ccecff"/>
                </a:solidFill>
                <a:latin typeface="新細明體"/>
                <a:ea typeface="新細明體"/>
              </a:rPr>
              <a:t>: </a:t>
            </a:r>
            <a:br>
              <a:rPr sz="1400"/>
            </a:br>
            <a:r>
              <a:rPr b="0" lang="zh-TW" sz="1400" spc="-1" strike="noStrike">
                <a:solidFill>
                  <a:srgbClr val="ccecff"/>
                </a:solidFill>
                <a:latin typeface="新細明體"/>
                <a:ea typeface="新細明體"/>
              </a:rPr>
              <a:t>如讓子女學習知識、全面教育、獨立思考等  </a:t>
            </a:r>
            <a:endParaRPr b="1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3200400" y="5334120"/>
            <a:ext cx="1143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新細明體"/>
                <a:ea typeface="新細明體"/>
              </a:rPr>
              <a:t>教學環境及政策 </a:t>
            </a:r>
            <a:r>
              <a:rPr b="1" lang="en-US" sz="1400" spc="-1" strike="noStrike">
                <a:solidFill>
                  <a:srgbClr val="ccecff"/>
                </a:solidFill>
                <a:latin typeface="新細明體"/>
                <a:ea typeface="新細明體"/>
              </a:rPr>
              <a:t>: </a:t>
            </a:r>
            <a:r>
              <a:rPr b="0" lang="zh-TW" sz="1200" spc="-1" strike="noStrike">
                <a:solidFill>
                  <a:srgbClr val="ccecff"/>
                </a:solidFill>
                <a:latin typeface="新細明體"/>
                <a:ea typeface="新細明體"/>
              </a:rPr>
              <a:t>如師資、小班教學、教育制度不要朝令夕改等  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4343400" y="5334120"/>
            <a:ext cx="12193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新細明體"/>
                <a:ea typeface="新細明體"/>
              </a:rPr>
              <a:t>功利</a:t>
            </a:r>
            <a:r>
              <a:rPr b="1" lang="en-US" sz="1400" spc="-1" strike="noStrike">
                <a:solidFill>
                  <a:srgbClr val="ccecff"/>
                </a:solidFill>
                <a:latin typeface="新細明體"/>
                <a:ea typeface="新細明體"/>
              </a:rPr>
              <a:t>(</a:t>
            </a:r>
            <a:r>
              <a:rPr b="1" lang="zh-TW" sz="1400" spc="-1" strike="noStrike">
                <a:solidFill>
                  <a:srgbClr val="ccecff"/>
                </a:solidFill>
                <a:latin typeface="新細明體"/>
                <a:ea typeface="新細明體"/>
              </a:rPr>
              <a:t>實際</a:t>
            </a:r>
            <a:r>
              <a:rPr b="1" lang="en-US" sz="1400" spc="-1" strike="noStrike">
                <a:solidFill>
                  <a:srgbClr val="ccecff"/>
                </a:solidFill>
                <a:latin typeface="新細明體"/>
                <a:ea typeface="新細明體"/>
              </a:rPr>
              <a:t>)</a:t>
            </a:r>
            <a:r>
              <a:rPr b="1" lang="zh-TW" sz="1400" spc="-1" strike="noStrike">
                <a:solidFill>
                  <a:srgbClr val="ccecff"/>
                </a:solidFill>
                <a:latin typeface="新細明體"/>
                <a:ea typeface="新細明體"/>
              </a:rPr>
              <a:t>成果</a:t>
            </a:r>
            <a:r>
              <a:rPr b="1" lang="en-US" sz="1400" spc="-1" strike="noStrike">
                <a:solidFill>
                  <a:srgbClr val="ccecff"/>
                </a:solidFill>
                <a:latin typeface="新細明體"/>
                <a:ea typeface="新細明體"/>
              </a:rPr>
              <a:t>: </a:t>
            </a:r>
            <a:r>
              <a:rPr b="0" lang="zh-TW" sz="1200" spc="-1" strike="noStrike">
                <a:solidFill>
                  <a:srgbClr val="ccecff"/>
                </a:solidFill>
                <a:latin typeface="新細明體"/>
                <a:ea typeface="新細明體"/>
              </a:rPr>
              <a:t>如考到入大學、子女畢業後能夠獨立、不用靠父母等 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5562720" y="54100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ffff"/>
                </a:solidFill>
                <a:latin typeface="新細明體"/>
                <a:ea typeface="新細明體"/>
              </a:rPr>
              <a:t>讓子女</a:t>
            </a:r>
            <a:br>
              <a:rPr sz="1400"/>
            </a:br>
            <a:r>
              <a:rPr b="1" lang="zh-TW" sz="1400" spc="-1" strike="noStrike">
                <a:solidFill>
                  <a:srgbClr val="ccffff"/>
                </a:solidFill>
                <a:latin typeface="新細明體"/>
                <a:ea typeface="新細明體"/>
              </a:rPr>
              <a:t>開心學習 </a:t>
            </a:r>
            <a:endParaRPr b="1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6858000" y="54100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其他</a:t>
            </a:r>
            <a:endParaRPr b="1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7772400" y="54100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唔知／</a:t>
            </a:r>
            <a:br>
              <a:rPr sz="1400"/>
            </a:br>
            <a:r>
              <a:rPr b="0" lang="zh-TW" sz="1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難講</a:t>
            </a:r>
            <a:endParaRPr b="1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914400" y="304920"/>
            <a:ext cx="7696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新細明體"/>
                <a:ea typeface="新細明體"/>
              </a:rPr>
              <a:t>作為家長，請問在你心目中「好」的教育應該以什麼為最重要的目標？請你講出你認為最重要的一項。 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1720" y="64260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各項評分 與 子女就讀學校類別 交叉分析</a:t>
            </a:r>
            <a:r>
              <a:rPr b="0" lang="zh-TW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42960" y="2214720"/>
          <a:ext cx="7862760" cy="3085920"/>
        </p:xfrm>
        <a:graphic>
          <a:graphicData uri="http://schemas.openxmlformats.org/drawingml/2006/table">
            <a:tbl>
              <a:tblPr/>
              <a:tblGrid>
                <a:gridCol w="1854000"/>
                <a:gridCol w="816120"/>
                <a:gridCol w="870120"/>
                <a:gridCol w="869760"/>
                <a:gridCol w="857160"/>
                <a:gridCol w="881280"/>
                <a:gridCol w="823680"/>
                <a:gridCol w="8906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66ff33"/>
                          </a:solidFill>
                          <a:latin typeface="Times New Roman"/>
                          <a:ea typeface="新細明體"/>
                        </a:rPr>
                        <a:t>官立學校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新細明體"/>
                        </a:rPr>
                        <a:t>津貼學校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直資學校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新細明體"/>
                        </a:rPr>
                        <a:t>私立學校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本地大專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新細明體"/>
                        </a:rPr>
                        <a:t>外地</a:t>
                      </a:r>
                      <a:br>
                        <a:rPr sz="2000"/>
                      </a:br>
                      <a:r>
                        <a:rPr b="1" lang="zh-TW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新細明體"/>
                        </a:rPr>
                        <a:t>大專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整體</a:t>
                      </a:r>
                      <a:br>
                        <a:rPr sz="2000"/>
                      </a:b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評分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對孫明揚評分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**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總基數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=863) 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33"/>
                          </a:solidFill>
                          <a:latin typeface="Times New Roman"/>
                          <a:ea typeface="新細明體"/>
                        </a:rPr>
                        <a:t>58.7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(151)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51.6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(360)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56.1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(115)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54.4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(93)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55.0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(126)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50.2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(61)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53.8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(863)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對教育制度評分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**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總基數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=982) 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33"/>
                          </a:solidFill>
                          <a:latin typeface="Times New Roman"/>
                          <a:ea typeface="新細明體"/>
                        </a:rPr>
                        <a:t>57.3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(177)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新細明體"/>
                        </a:rPr>
                        <a:t>48.4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(406)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52.7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(125)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新細明體"/>
                        </a:rPr>
                        <a:t>47.5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(104)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51.6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(60)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新細明體"/>
                        </a:rPr>
                        <a:t>42.2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(70)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50.5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新細明體"/>
                        </a:rPr>
                        <a:t>(982)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45"/>
          <p:cNvSpPr/>
          <p:nvPr/>
        </p:nvSpPr>
        <p:spPr>
          <a:xfrm>
            <a:off x="714240" y="5572080"/>
            <a:ext cx="73821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** 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部分組別之間的評分於</a:t>
            </a:r>
            <a:r>
              <a:rPr b="1" lang="en-US" sz="16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p=0.01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水平下有顯著差異；括弧內數字為次樣本基數。 </a:t>
            </a:r>
            <a:endParaRPr b="1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Line 46"/>
          <p:cNvSpPr/>
          <p:nvPr/>
        </p:nvSpPr>
        <p:spPr>
          <a:xfrm>
            <a:off x="500040" y="1714680"/>
            <a:ext cx="8229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請你用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至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00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分評價你對教育局局長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XXX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的支持程度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 0 = 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絕對冇信心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00 = 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絕對有信心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0 = 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一半半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8" name="Object 2"/>
          <p:cNvGraphicFramePr/>
          <p:nvPr/>
        </p:nvGraphicFramePr>
        <p:xfrm>
          <a:off x="304920" y="2259000"/>
          <a:ext cx="8572320" cy="467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59000"/>
                    <a:ext cx="857232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Line 4"/>
          <p:cNvSpPr/>
          <p:nvPr/>
        </p:nvSpPr>
        <p:spPr>
          <a:xfrm>
            <a:off x="571680" y="1285920"/>
            <a:ext cx="8001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819520" y="1447920"/>
          <a:ext cx="2209680" cy="1841400"/>
        </p:xfrm>
        <a:graphic>
          <a:graphicData uri="http://schemas.openxmlformats.org/drawingml/2006/table">
            <a:tbl>
              <a:tblPr/>
              <a:tblGrid>
                <a:gridCol w="1044360"/>
                <a:gridCol w="1165320"/>
              </a:tblGrid>
              <a:tr h="5202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06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年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6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月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李國章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)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平均數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51.4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中位數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50.0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標準誤差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0.94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評分人數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484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5029200" y="1447920"/>
          <a:ext cx="1165320" cy="1857240"/>
        </p:xfrm>
        <a:graphic>
          <a:graphicData uri="http://schemas.openxmlformats.org/drawingml/2006/table">
            <a:tbl>
              <a:tblPr/>
              <a:tblGrid>
                <a:gridCol w="1165320"/>
              </a:tblGrid>
              <a:tr h="5202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07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年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月</a:t>
                      </a:r>
                      <a:br>
                        <a:rPr sz="1400"/>
                      </a:b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李國章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)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50.1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50.0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0.96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483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172200" y="1447920"/>
          <a:ext cx="1143000" cy="185256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5202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07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年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6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月</a:t>
                      </a:r>
                      <a:br>
                        <a:rPr sz="1400"/>
                      </a:b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李國章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)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43.1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50.0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1.13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491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7315200" y="1447920"/>
          <a:ext cx="1143000" cy="185256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5202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08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年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月</a:t>
                      </a:r>
                      <a:br>
                        <a:rPr sz="1400"/>
                      </a:b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孫明揚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) *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53.8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50.0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0.63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新細明體"/>
                        </a:rPr>
                        <a:t>863</a:t>
                      </a:r>
                      <a:endParaRPr b="1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Robert Chung</cp:lastModifiedBy>
  <cp:lastPrinted>2001-04-04T10:00:24Z</cp:lastPrinted>
  <dcterms:modified xsi:type="dcterms:W3CDTF">2008-05-28T02:39:02Z</dcterms:modified>
  <cp:revision>951</cp:revision>
  <dc:subject/>
  <dc:title>無投影片標題</dc:title>
</cp:coreProperties>
</file>