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EF33E7-3587-4A2C-AF89-215B9DA874E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B7C-0A83-4863-A48B-60350B50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8CD-960D-4D83-962D-968FE714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698-9690-48BC-8924-BA63CF96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3E4-1D4D-48DC-9055-A5F8684E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B3D-C344-40E3-A2F8-4933E03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D4A-93F9-427B-AF75-E05AC5FB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A57-F798-4EE6-BB40-0370393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8A8-1B67-43F8-B084-29EB3B20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8D1-2D53-4D6B-8FE3-64030E60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624-64D8-4BB4-8997-D9C77FE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A31-5EE0-46C2-B9B3-D74E35C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924-F131-4A70-A72F-8CC2A7CE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7AD7-61B0-4054-BB10-29D33A6E6019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家長對香港教育制度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Times New Roman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三項評分 與 子女就讀學校類別 交叉分析</a:t>
            </a:r>
            <a:r>
              <a:rPr b="0" lang="zh-TW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8076960" cy="4114800"/>
        </p:xfrm>
        <a:graphic>
          <a:graphicData uri="http://schemas.openxmlformats.org/drawingml/2006/table">
            <a:tbl>
              <a:tblPr/>
              <a:tblGrid>
                <a:gridCol w="2054160"/>
                <a:gridCol w="992160"/>
                <a:gridCol w="992160"/>
                <a:gridCol w="992160"/>
                <a:gridCol w="992160"/>
                <a:gridCol w="992160"/>
                <a:gridCol w="106200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官立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津貼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直資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私立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本地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外地 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李國章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23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54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8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1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35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9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6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3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羅范椒芬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07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52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6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27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7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59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教育制度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37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87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39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47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6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5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5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80880" y="5943600"/>
            <a:ext cx="83822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各項評分於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p=0.05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水平並無顯著差異，統計數字只作定性參考；括弧內數字為次樣本基數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00"/>
                </a:solidFill>
                <a:latin typeface="新細明體"/>
              </a:rPr>
              <a:t>教育統籌局局長 李國章 民望走勢  </a:t>
            </a:r>
            <a:r>
              <a:rPr b="1" lang="zh-TW" sz="3000" spc="-1" strike="noStrike">
                <a:solidFill>
                  <a:srgbClr val="ffff00"/>
                </a:solidFill>
                <a:latin typeface="新細明體"/>
              </a:rPr>
              <a:t>( 2002-2006 )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oll1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807696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019920"/>
            <a:ext cx="8305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以全港巿民評分計，取自《香港大學民意網站》，網址為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http://hkupop.hku.hk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家長對教育統籌局局長李國章和教育統籌局常任秘書長羅范椒芬的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評價只屬不過不失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，得分非常接近中間數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50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分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家長對整個教育制度的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信心只有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46.5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分，屬於負面分數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；學歷達到大專程度的家長，信心評分更加低過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45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分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民研計劃在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2006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年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5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月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4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10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日期間進行的全港巿民意見調查中，李國章得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51.2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分，與在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5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月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24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至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6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月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1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日期間進行的家長意見調查的結果吻合。一般家長對羅范椒芬和整個教育制度的評價，估計亦</a:t>
            </a: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與一般巿民的評價分別不大</a:t>
            </a: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新細明體"/>
              </a:rPr>
              <a:t>局長和常任秘書長在領導教育工作的表現，將會直接地影響他們的民望基礎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被訪者個人</a:t>
            </a:r>
            <a:br>
              <a:rPr sz="1000"/>
            </a:br>
            <a:br>
              <a:rPr sz="1000"/>
            </a:br>
            <a:r>
              <a:rPr b="1" lang="zh-TW" sz="4400" spc="-1" strike="noStrike">
                <a:solidFill>
                  <a:srgbClr val="ccffff"/>
                </a:solidFill>
                <a:latin typeface="新細明體"/>
              </a:rPr>
              <a:t>背景資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性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1828800"/>
          <a:ext cx="7724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24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62940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600200"/>
          <a:ext cx="775044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75044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4771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49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Webdings"/>
                <a:ea typeface="Webdings"/>
              </a:rPr>
              <a:t>教育程度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219320"/>
          <a:ext cx="8153280" cy="47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5328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29528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職業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576440"/>
          <a:ext cx="777240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6440"/>
                    <a:ext cx="77724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172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49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新細明體"/>
              </a:rPr>
              <a:t>子女就讀學校類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576440"/>
          <a:ext cx="777240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6440"/>
                    <a:ext cx="77724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172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8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新細明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研究背景及調查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0" algn="just">
              <a:lnSpc>
                <a:spcPct val="12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家長對教統局局長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李國章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的支持程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</a:rPr>
              <a:t>家長對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教統局常任秘書長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羅范椒芬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的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</a:rPr>
              <a:t>支持程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-474840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</a:rPr>
              <a:t>家長對香港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</a:rPr>
              <a:t>教育制度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</a:rPr>
              <a:t>的信心評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1415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簡單總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 algn="just">
              <a:lnSpc>
                <a:spcPct val="125000"/>
              </a:lnSpc>
              <a:spcBef>
                <a:spcPts val="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調查目的：探討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一般家長對教統局局長、常任秘書長及本地教育信心的評價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 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調查問卷由港大民研計劃諮詢家長關注教育政策聯盟（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CEP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）後獨立設計，所有操作、數據收集及分析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由民研計劃獨立進行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調查</a:t>
            </a: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方法和結果全面公開</a:t>
            </a:r>
            <a:r>
              <a:rPr b="1" lang="zh-TW" sz="28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新細明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600200"/>
            <a:ext cx="7543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訪問日期：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2006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24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日至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6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日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訪問對象：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香港家長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，即有子女即將入學（包括剛出生子女），或者是有子女正在就讀本港或外地幼稚園、小學、中學、大學、或者其他教育機構的家長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調查方法：由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訪問員直接進行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電話訪問，訪問員在成功接觸目標住戶後，再從住戶內符合條件的成員中以出生日期抽取一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樣本數目：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06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有效回應比率：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58.8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% (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以符合資格的目標對象計算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抽樣誤差：少於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+/- 2.2%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請你用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0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至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00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分評價你對教育統籌局局長李國章既支持程度</a:t>
            </a:r>
            <a:br>
              <a:rPr sz="2400"/>
            </a:b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( 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絕對唔支持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0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絕對支持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一半半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2057400"/>
          <a:ext cx="8610480" cy="45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76520" y="1981080"/>
          <a:ext cx="3047760" cy="15238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1.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.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9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429080" y="1752480"/>
          <a:ext cx="4638600" cy="25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752480"/>
                    <a:ext cx="46386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請你用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至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分評價你對教育統籌局常任秘書長羅范椒芬既支持程度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 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絕對唔支持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0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絕對支持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一半半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920" y="2057400"/>
          <a:ext cx="8610480" cy="45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76520" y="1981080"/>
          <a:ext cx="3047760" cy="15238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9.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.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429080" y="1752480"/>
          <a:ext cx="4638600" cy="25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752480"/>
                    <a:ext cx="46386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你對現時由教統局領導下既香港教育制度有冇信心？</a:t>
            </a:r>
            <a:br>
              <a:rPr sz="2400"/>
            </a:b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( 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非常冇信心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100 =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非常有信心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，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50 =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一半半 </a:t>
            </a: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2057400"/>
          <a:ext cx="8610480" cy="45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981080"/>
          <a:ext cx="3047760" cy="15238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6.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中位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.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429080" y="1752480"/>
          <a:ext cx="4638600" cy="25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752480"/>
                    <a:ext cx="46386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家長對教育制度信心 與 家長學歷 交叉分析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3276720"/>
          <a:ext cx="8610480" cy="33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861048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09480" y="137160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52480" y="1752480"/>
          <a:ext cx="5638680" cy="1076400"/>
        </p:xfrm>
        <a:graphic>
          <a:graphicData uri="http://schemas.openxmlformats.org/drawingml/2006/table">
            <a:tbl>
              <a:tblPr/>
              <a:tblGrid>
                <a:gridCol w="1523880"/>
                <a:gridCol w="1447920"/>
                <a:gridCol w="1371600"/>
                <a:gridCol w="1295280"/>
              </a:tblGrid>
              <a:tr h="3765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小學或以下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中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大專或以上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評分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49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3.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81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5.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319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9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1371600" y="2971800"/>
            <a:ext cx="64771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各項評分於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p = 0.01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水平下有顯著差異；括弧內數字為次樣本基數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三項評分 與 子女就讀學校類別 交叉分析</a:t>
            </a:r>
            <a:r>
              <a:rPr b="0" lang="zh-TW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76960" cy="4114800"/>
        </p:xfrm>
        <a:graphic>
          <a:graphicData uri="http://schemas.openxmlformats.org/drawingml/2006/table">
            <a:tbl>
              <a:tblPr/>
              <a:tblGrid>
                <a:gridCol w="2054160"/>
                <a:gridCol w="992160"/>
                <a:gridCol w="992160"/>
                <a:gridCol w="992160"/>
                <a:gridCol w="992160"/>
                <a:gridCol w="992160"/>
                <a:gridCol w="106200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官立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津貼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直資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私立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本地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外地 學校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李國章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23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4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8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1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35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6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3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羅范椒芬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07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2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6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27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.3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2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59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8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對教育制度評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總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37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87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239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4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73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60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.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5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80880" y="5943600"/>
            <a:ext cx="83822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各項評分於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p=0.05 </a:t>
            </a:r>
            <a:r>
              <a:rPr b="1" lang="zh-TW" sz="1600" spc="-1" strike="noStrike">
                <a:solidFill>
                  <a:srgbClr val="ccecff"/>
                </a:solidFill>
                <a:latin typeface="新細明體"/>
              </a:rPr>
              <a:t>水平並無顯著差異，統計數字只作定性參考；括弧內數字為次樣本基數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6-26T05:51:25Z</dcterms:modified>
  <cp:revision>892</cp:revision>
  <dc:subject/>
  <dc:title>無投影片標題</dc:title>
</cp:coreProperties>
</file>