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D22-C949-4D02-BC91-AF2C4500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B47-F144-43D6-A243-0C7037EB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512-E45B-48A4-ADD7-ACE27730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6688-A624-4030-A902-2E8D7DE1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2396-D49B-44D4-AB5D-A778ED1B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6A61-0886-460F-83E1-E7A099BA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F71-B0C2-4912-B82B-34B90049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88A-EB72-407C-8C4C-62100CDB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53E-D87D-40A1-94CE-36DABC9D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34F3-9012-4423-94EA-F71B1092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E214-01B3-40B3-8932-6EEC2680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3B70-E6D3-4B84-85C8-6763D299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6615-DA00-4735-9E68-2ECC41D9D78F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580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標楷體"/>
              </a:rPr>
              <a:t>保栢健康指標意見調查</a:t>
            </a: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標楷體"/>
              </a:rPr>
              <a:t>2006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br>
              <a:rPr sz="4000"/>
            </a:br>
            <a:br>
              <a:rPr sz="40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調查結果簡報</a:t>
            </a:r>
            <a:br>
              <a:rPr sz="2400"/>
            </a:b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鍾庭耀博士</a:t>
            </a:r>
            <a:br>
              <a:rPr sz="2400"/>
            </a:br>
            <a:br>
              <a:rPr sz="2400"/>
            </a:b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2006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年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7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月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20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日</a:t>
            </a:r>
            <a:br>
              <a:rPr sz="2400"/>
            </a:b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79380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219320" y="45720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04920" y="2590920"/>
            <a:ext cx="82296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191120"/>
            <a:ext cx="82296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[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包括有定期做運動之人士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運動類型的分佈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3657600"/>
          <a:ext cx="9207360" cy="40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657600"/>
                    <a:ext cx="920736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04920" y="762120"/>
          <a:ext cx="8458200" cy="5300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762120"/>
                    <a:ext cx="845820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BD00017_" descr=""/>
          <p:cNvPicPr/>
          <p:nvPr/>
        </p:nvPicPr>
        <p:blipFill>
          <a:blip r:embed="rId5"/>
          <a:stretch/>
        </p:blipFill>
        <p:spPr>
          <a:xfrm>
            <a:off x="533520" y="0"/>
            <a:ext cx="701640" cy="1905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84160" y="6019920"/>
            <a:ext cx="5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6600"/>
                </a:solidFill>
                <a:latin typeface="Times New Roman"/>
                <a:ea typeface="標楷體"/>
              </a:rPr>
              <a:t>* </a:t>
            </a:r>
            <a:r>
              <a:rPr b="0" lang="zh-TW" sz="1600" spc="-1" strike="noStrike">
                <a:solidFill>
                  <a:srgbClr val="ff6600"/>
                </a:solidFill>
                <a:latin typeface="Times New Roman"/>
                <a:ea typeface="標楷體"/>
              </a:rPr>
              <a:t>由於樣本人數極小，使抽樣誤差大幅增加，故此有關結果只能作粗略參考。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6521400"/>
            <a:ext cx="74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有效基數</a:t>
            </a:r>
            <a:r>
              <a:rPr b="1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=606</a:t>
            </a:r>
            <a:r>
              <a:rPr b="1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，佔總人數的</a:t>
            </a:r>
            <a:r>
              <a:rPr b="1" lang="zh-TW" sz="1600" spc="-1" strike="noStrike">
                <a:solidFill>
                  <a:srgbClr val="ccecff"/>
                </a:solidFill>
                <a:latin typeface="標楷體"/>
                <a:ea typeface="標楷體"/>
              </a:rPr>
              <a:t>60.2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1905120"/>
          <a:ext cx="897264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89726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問你宜家既身高同體重大約是幾多？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[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以計算身體質量指數，即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Body Mass Index(BMI)] BMI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計算方法為體重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公斤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)/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高度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米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)²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64612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96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562720" y="1828800"/>
          <a:ext cx="3049560" cy="2192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828800"/>
                    <a:ext cx="304956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2" name=""/>
          <p:cNvCxnSpPr/>
          <p:nvPr/>
        </p:nvCxnSpPr>
        <p:spPr>
          <a:xfrm flipH="1" rot="16200000">
            <a:off x="4486320" y="19047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93" name=""/>
          <p:cNvSpPr/>
          <p:nvPr/>
        </p:nvSpPr>
        <p:spPr>
          <a:xfrm>
            <a:off x="3733920" y="2438280"/>
            <a:ext cx="69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}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895480"/>
            <a:ext cx="838080" cy="304920"/>
          </a:xfrm>
          <a:custGeom>
            <a:avLst/>
            <a:gdLst>
              <a:gd name="textAreaLeft" fmla="*/ 0 w 838080"/>
              <a:gd name="textAreaRight" fmla="*/ 838440 w 8380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cap="rnd" w="936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48769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1905120"/>
          <a:ext cx="897264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89726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問你宜家既身高同體重大約是幾多？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[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以計算身體質量指數，即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Body Mass Index(BMI)] BMI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計算方法為體重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公斤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)/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高度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米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)²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64612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96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562720" y="1828800"/>
          <a:ext cx="3049560" cy="2192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828800"/>
                    <a:ext cx="304956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02" name=""/>
          <p:cNvCxnSpPr/>
          <p:nvPr/>
        </p:nvCxnSpPr>
        <p:spPr>
          <a:xfrm flipH="1" rot="16200000">
            <a:off x="4486320" y="19047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103" name=""/>
          <p:cNvSpPr/>
          <p:nvPr/>
        </p:nvSpPr>
        <p:spPr>
          <a:xfrm>
            <a:off x="3733920" y="2438280"/>
            <a:ext cx="69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}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2895480"/>
            <a:ext cx="838080" cy="304920"/>
          </a:xfrm>
          <a:custGeom>
            <a:avLst/>
            <a:gdLst>
              <a:gd name="textAreaLeft" fmla="*/ 0 w 838080"/>
              <a:gd name="textAreaRight" fmla="*/ 838440 w 8380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cap="rnd" w="936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189400" y="3886200"/>
          <a:ext cx="3954600" cy="2440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9400" y="3886200"/>
                    <a:ext cx="395460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114800" y="48769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181480" y="1828800"/>
          <a:ext cx="4114800" cy="20574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1828800"/>
                    <a:ext cx="4114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平均</a:t>
            </a:r>
            <a:r>
              <a:rPr b="1" lang="zh-TW" sz="3600" spc="-1" strike="noStrike" u="sng">
                <a:solidFill>
                  <a:srgbClr val="ccffff"/>
                </a:solidFill>
                <a:uFillTx/>
                <a:latin typeface="Times New Roman"/>
                <a:ea typeface="標楷體"/>
              </a:rPr>
              <a:t>每日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會用幾多時間做以下活動？</a:t>
            </a:r>
            <a:br>
              <a:rPr sz="3600"/>
            </a:b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總和不超過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24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小時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1752480"/>
          <a:ext cx="91440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805440" y="6172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974-1,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343400" y="685800"/>
          <a:ext cx="4800600" cy="2798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685800"/>
                    <a:ext cx="4800600" cy="27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除了工作以外，平均</a:t>
            </a:r>
            <a:r>
              <a:rPr b="1" lang="zh-TW" sz="3600" spc="-1" strike="noStrike" u="sng">
                <a:solidFill>
                  <a:srgbClr val="ccffff"/>
                </a:solidFill>
                <a:uFillTx/>
                <a:latin typeface="Times New Roman"/>
                <a:ea typeface="標楷體"/>
              </a:rPr>
              <a:t>每星期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會用</a:t>
            </a:r>
            <a:br>
              <a:rPr sz="3600"/>
            </a:b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幾多時間做以下家務？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-57240" y="1601640"/>
          <a:ext cx="9352080" cy="502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1601640"/>
                    <a:ext cx="935208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882120" y="6172200"/>
            <a:ext cx="17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973-99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4120" y="990720"/>
          <a:ext cx="3809880" cy="243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990720"/>
                    <a:ext cx="3809880" cy="24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除了工作以外，平均</a:t>
            </a:r>
            <a:r>
              <a:rPr b="1" lang="zh-TW" sz="3600" spc="-1" strike="noStrike" u="sng">
                <a:solidFill>
                  <a:srgbClr val="ccffff"/>
                </a:solidFill>
                <a:uFillTx/>
                <a:latin typeface="Times New Roman"/>
                <a:ea typeface="標楷體"/>
              </a:rPr>
              <a:t>每星期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會用</a:t>
            </a:r>
            <a:br>
              <a:rPr sz="3600"/>
            </a:b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幾多時間做以下家務？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-57240" y="1601640"/>
          <a:ext cx="9352080" cy="502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1601640"/>
                    <a:ext cx="935208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6882120" y="6172200"/>
            <a:ext cx="17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973-99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34120" y="990720"/>
          <a:ext cx="3809880" cy="243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990720"/>
                    <a:ext cx="3809880" cy="24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181480" y="914400"/>
          <a:ext cx="4329360" cy="25700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914400"/>
                    <a:ext cx="432936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除了工作以外，平均</a:t>
            </a:r>
            <a:r>
              <a:rPr b="1" lang="zh-TW" sz="3600" spc="-1" strike="noStrike" u="sng">
                <a:solidFill>
                  <a:srgbClr val="ccffff"/>
                </a:solidFill>
                <a:uFillTx/>
                <a:latin typeface="Times New Roman"/>
                <a:ea typeface="標楷體"/>
              </a:rPr>
              <a:t>每星期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會用</a:t>
            </a:r>
            <a:br>
              <a:rPr sz="3600"/>
            </a:b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幾多時間做以下家務？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40760" y="6248520"/>
            <a:ext cx="148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1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295280"/>
          <a:ext cx="89154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915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除了工作以外，平均</a:t>
            </a:r>
            <a:r>
              <a:rPr b="1" lang="zh-TW" sz="3600" spc="-1" strike="noStrike" u="sng">
                <a:solidFill>
                  <a:srgbClr val="ccffff"/>
                </a:solidFill>
                <a:uFillTx/>
                <a:latin typeface="Times New Roman"/>
                <a:ea typeface="標楷體"/>
              </a:rPr>
              <a:t>每星期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會用</a:t>
            </a:r>
            <a:br>
              <a:rPr sz="3600"/>
            </a:b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幾多時間做以下家務？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40760" y="6248520"/>
            <a:ext cx="148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1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0880" y="1295280"/>
          <a:ext cx="9799920" cy="525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9799920" cy="525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-228600" y="1905120"/>
          <a:ext cx="8211960" cy="512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905120"/>
                    <a:ext cx="821196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你用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0-10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評價一下你宜家生理既健康狀况。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0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非常差、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10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非常好、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5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一半半，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會俾幾多分自己既身體健康狀况呢？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4120" y="1752480"/>
          <a:ext cx="4190760" cy="2243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1752480"/>
                    <a:ext cx="419076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086600" y="6019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0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07200" y="2209680"/>
            <a:ext cx="177624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平均分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6.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標準誤差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0.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與你相同年齡，相同性別的人士作比較，你覺得你既生理健康狀况比佢地好、差、抑或差唔多？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97000" y="1371600"/>
          <a:ext cx="8847000" cy="502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1371600"/>
                    <a:ext cx="884700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7086600" y="6019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1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及樣本資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結果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「關於生理健康」的測試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被訪者一般的身體狀况及健康習慣的數據，當中包括他們吸煙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/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食雪茄、長期病患、活動能力、身體痛症、睡眠問題、疲累、運動及體重指標等 。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以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0-10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分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對自己的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身體健康狀况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作出評價，以及與同齡和性別相同的人士作比較 。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「關於心理健康」的測試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「生活品質問卷調查」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(Burckhardt, C. S. 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及</a:t>
            </a:r>
            <a:r>
              <a:rPr b="1" lang="zh-TW" sz="1600" spc="-1" strike="noStrike">
                <a:solidFill>
                  <a:srgbClr val="ccecff"/>
                </a:solidFill>
                <a:latin typeface="Times New Roman"/>
                <a:ea typeface="標楷體"/>
              </a:rPr>
              <a:t>Anderson, K. L., 2003)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以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0-10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分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評價自己的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精神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/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心理健康狀况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以及與被訪者相同年齡和性別的人士作比較 。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被訪者個人背景資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Times New Roman"/>
                <a:ea typeface="標楷體"/>
              </a:rPr>
              <a:t>「關於心理健康」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51" name="BD07175_" descr=""/>
          <p:cNvPicPr/>
          <p:nvPr/>
        </p:nvPicPr>
        <p:blipFill>
          <a:blip r:embed="rId1"/>
          <a:stretch/>
        </p:blipFill>
        <p:spPr>
          <a:xfrm>
            <a:off x="5029200" y="4219560"/>
            <a:ext cx="3429000" cy="22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「生活品質問卷調查」 </a:t>
            </a:r>
            <a:br>
              <a:rPr sz="3600"/>
            </a:b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5</a:t>
            </a: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個次範疇</a:t>
            </a: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(sub-scales)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以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0-10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分顯示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80880" y="1752480"/>
          <a:ext cx="828360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82836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705720" y="3124080"/>
            <a:ext cx="990360" cy="734040"/>
          </a:xfrm>
          <a:prstGeom prst="rect">
            <a:avLst/>
          </a:prstGeom>
          <a:solidFill>
            <a:srgbClr val="388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6.6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 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[2]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78440" y="2590920"/>
            <a:ext cx="980640" cy="368280"/>
          </a:xfrm>
          <a:prstGeom prst="rect">
            <a:avLst/>
          </a:prstGeom>
          <a:solidFill>
            <a:srgbClr val="388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7.4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[1]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93440" y="5943600"/>
            <a:ext cx="980640" cy="368280"/>
          </a:xfrm>
          <a:prstGeom prst="rect">
            <a:avLst/>
          </a:prstGeom>
          <a:solidFill>
            <a:srgbClr val="388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5.6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[5]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78440" y="4572000"/>
            <a:ext cx="980640" cy="368280"/>
          </a:xfrm>
          <a:prstGeom prst="rect">
            <a:avLst/>
          </a:prstGeom>
          <a:solidFill>
            <a:srgbClr val="388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6.2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[3]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5334120"/>
            <a:ext cx="990360" cy="368280"/>
          </a:xfrm>
          <a:prstGeom prst="rect">
            <a:avLst/>
          </a:prstGeom>
          <a:solidFill>
            <a:srgbClr val="388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6.1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</a:t>
            </a:r>
            <a:r>
              <a:rPr b="1" lang="zh-TW" sz="1800" spc="-1" strike="noStrike">
                <a:solidFill>
                  <a:srgbClr val="ccecff"/>
                </a:solidFill>
                <a:latin typeface="Times New Roman"/>
                <a:ea typeface="標楷體"/>
              </a:rPr>
              <a:t>[4]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「生活品質問卷調查」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(Quality of Life Scale)</a:t>
            </a: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以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0-10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分顯示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8600" y="1066680"/>
          <a:ext cx="8756640" cy="519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756640" cy="51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62481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[ ] </a:t>
            </a:r>
            <a:r>
              <a:rPr b="0" lang="zh-TW" sz="1000" spc="-1" strike="noStrike">
                <a:solidFill>
                  <a:srgbClr val="ff6600"/>
                </a:solidFill>
                <a:latin typeface="Times New Roman"/>
                <a:ea typeface="標楷體"/>
              </a:rPr>
              <a:t>括號內的數字為排名。請注意，香港數據所列出的排名乃根據未被調整</a:t>
            </a:r>
            <a:r>
              <a:rPr b="0" lang="zh-TW" sz="1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(</a:t>
            </a:r>
            <a:r>
              <a:rPr b="0" lang="zh-TW" sz="1000" spc="-1" strike="noStrike">
                <a:solidFill>
                  <a:srgbClr val="ff6600"/>
                </a:solidFill>
                <a:latin typeface="Times New Roman"/>
                <a:ea typeface="標楷體"/>
              </a:rPr>
              <a:t>即四捨五入前</a:t>
            </a:r>
            <a:r>
              <a:rPr b="0" lang="zh-TW" sz="1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)</a:t>
            </a:r>
            <a:r>
              <a:rPr b="0" lang="zh-TW" sz="1000" spc="-1" strike="noStrike">
                <a:solidFill>
                  <a:srgbClr val="ff6600"/>
                </a:solidFill>
                <a:latin typeface="Times New Roman"/>
                <a:ea typeface="標楷體"/>
              </a:rPr>
              <a:t>之數據而得出。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6600"/>
                </a:solidFill>
                <a:latin typeface="Times New Roman"/>
                <a:ea typeface="標楷體"/>
              </a:rPr>
              <a:t># </a:t>
            </a:r>
            <a:r>
              <a:rPr b="0" lang="zh-TW" sz="1000" spc="-1" strike="noStrike">
                <a:solidFill>
                  <a:srgbClr val="ff6600"/>
                </a:solidFill>
                <a:latin typeface="Times New Roman"/>
                <a:ea typeface="標楷體"/>
              </a:rPr>
              <a:t>不同國家的數據亦已按比例轉化為以</a:t>
            </a:r>
            <a:r>
              <a:rPr b="0" lang="zh-TW" sz="1000" spc="-1" strike="noStrike">
                <a:solidFill>
                  <a:srgbClr val="ff6600"/>
                </a:solidFill>
                <a:latin typeface="Times New Roman"/>
                <a:ea typeface="標楷體"/>
              </a:rPr>
              <a:t>0-10</a:t>
            </a:r>
            <a:r>
              <a:rPr b="0" lang="zh-TW" sz="1000" spc="-1" strike="noStrike">
                <a:solidFill>
                  <a:srgbClr val="ff6600"/>
                </a:solidFill>
                <a:latin typeface="Times New Roman"/>
                <a:ea typeface="標楷體"/>
              </a:rPr>
              <a:t>分排列，所有數據的相對排名沒有改變。不過因為民研計劃沒有這些國家的原始數據，故未能提供它們的標準誤差。</a:t>
            </a:r>
            <a:r>
              <a:rPr b="0" lang="zh-TW" sz="10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-228600" y="1752480"/>
          <a:ext cx="845820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752480"/>
                    <a:ext cx="84582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你用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0-10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評價一下你宜家</a:t>
            </a:r>
            <a:r>
              <a:rPr b="1" lang="zh-TW" sz="2700" spc="-1" strike="noStrike">
                <a:solidFill>
                  <a:srgbClr val="ccecff"/>
                </a:solidFill>
                <a:latin typeface="Times New Roman"/>
                <a:ea typeface="標楷體"/>
              </a:rPr>
              <a:t>心理或者精神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既健康狀况。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0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非常差、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10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非常好、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5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一半半，你會俾幾多分自己既</a:t>
            </a:r>
            <a:r>
              <a:rPr b="1" lang="zh-TW" sz="2700" spc="-1" strike="noStrike">
                <a:solidFill>
                  <a:srgbClr val="ccecff"/>
                </a:solidFill>
                <a:latin typeface="Times New Roman"/>
                <a:ea typeface="標楷體"/>
              </a:rPr>
              <a:t>心理或者精神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健康狀况呢？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486400" y="1600200"/>
          <a:ext cx="4267080" cy="2284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600200"/>
                    <a:ext cx="4267080" cy="22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7086600" y="6019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59840" y="2133720"/>
            <a:ext cx="177624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平均分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7.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標準誤差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0.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與你相同年齡，相同性別的人士作比較，你覺得你既心理或者精神健康健康狀况比佢地好、差、</a:t>
            </a:r>
            <a:br>
              <a:rPr sz="2800"/>
            </a:b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抑或差唔多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1600200"/>
          <a:ext cx="9524880" cy="502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524880" cy="50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7086600" y="6019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標楷體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標楷體"/>
                <a:ea typeface="標楷體"/>
              </a:rPr>
              <a:t>=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 1,01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Times New Roman"/>
                <a:ea typeface="標楷體"/>
              </a:rPr>
              <a:t>『生』、『心』健康之比較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6" name="PE01496_" descr=""/>
          <p:cNvPicPr/>
          <p:nvPr/>
        </p:nvPicPr>
        <p:blipFill>
          <a:blip r:embed="rId1"/>
          <a:stretch/>
        </p:blipFill>
        <p:spPr>
          <a:xfrm>
            <a:off x="6248520" y="3962520"/>
            <a:ext cx="2280960" cy="27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0-10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評價生理及</a:t>
            </a:r>
            <a:r>
              <a:rPr b="1" lang="zh-TW" sz="3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心理狀况之比較</a:t>
            </a:r>
            <a:br>
              <a:rPr sz="3200"/>
            </a:b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0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非常差、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10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非常好、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5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一半半，</a:t>
            </a:r>
            <a:endParaRPr b="0" lang="en-US" sz="27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1066680"/>
          <a:ext cx="9178920" cy="545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7892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068520" y="6248520"/>
            <a:ext cx="235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「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  <a:ea typeface="標楷體"/>
              </a:rPr>
              <a:t>心理健康」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4400" y="6248520"/>
            <a:ext cx="235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「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  <a:ea typeface="標楷體"/>
              </a:rPr>
              <a:t>生理健康」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0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9200" y="2971800"/>
            <a:ext cx="21726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生理狀况平均分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6.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ff"/>
                </a:solidFill>
                <a:latin typeface="Times New Roman"/>
                <a:ea typeface="標楷體"/>
              </a:rPr>
              <a:t>心理狀况平均分</a:t>
            </a:r>
            <a:r>
              <a:rPr b="1" lang="zh-TW" sz="24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9933ff"/>
                </a:solidFill>
                <a:latin typeface="Times New Roman"/>
              </a:rPr>
              <a:t>: 7.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生理健康指標及身體狀况類別的分佈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03120" y="995400"/>
          <a:ext cx="4388040" cy="163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995400"/>
                    <a:ext cx="438804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762120" y="54864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0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666880" y="2438280"/>
          <a:ext cx="6477120" cy="4745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438280"/>
                    <a:ext cx="64771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5388840" y="1371600"/>
            <a:ext cx="177624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平均分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6.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標準誤差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0.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63720" y="2590920"/>
            <a:ext cx="15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*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p &lt; 0.01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。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心理健康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指標及身體狀况類別的分佈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8600" y="990720"/>
          <a:ext cx="4387680" cy="176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438768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762120" y="54864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514600" y="2514600"/>
          <a:ext cx="6416640" cy="4745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514600"/>
                    <a:ext cx="641664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846040" y="1371600"/>
            <a:ext cx="177624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平均分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7.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標準誤差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0.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63720" y="2590920"/>
            <a:ext cx="15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*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p &lt; 0.01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。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生活品質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及生理狀况類別的分佈</a:t>
            </a:r>
            <a:br>
              <a:rPr sz="3600"/>
            </a:b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以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0-10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分顯示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066680"/>
          <a:ext cx="4388040" cy="176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388040" cy="17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762120" y="54864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1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14600" y="2514600"/>
          <a:ext cx="6416640" cy="4745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514600"/>
                    <a:ext cx="641664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5846040" y="1371600"/>
            <a:ext cx="177624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平均分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6.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標準誤差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0.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81952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ccecff"/>
                </a:solidFill>
                <a:latin typeface="Arial Unicode MS"/>
                <a:ea typeface="標楷體"/>
              </a:rPr>
              <a:t>* </a:t>
            </a:r>
            <a:r>
              <a:rPr b="0" i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</a:t>
            </a:r>
            <a:r>
              <a:rPr b="0" i="1" lang="zh-TW" sz="1200" spc="-1" strike="noStrike">
                <a:solidFill>
                  <a:srgbClr val="ccecff"/>
                </a:solidFill>
                <a:latin typeface="Arial Unicode MS"/>
                <a:ea typeface="標楷體"/>
              </a:rPr>
              <a:t> </a:t>
            </a:r>
            <a:r>
              <a:rPr b="0" i="1" lang="zh-TW" sz="1200" spc="-1" strike="noStrike">
                <a:solidFill>
                  <a:srgbClr val="ccecff"/>
                </a:solidFill>
                <a:latin typeface="Arial Unicode MS"/>
                <a:ea typeface="標楷體"/>
              </a:rPr>
              <a:t>p &lt; 0.05 </a:t>
            </a:r>
            <a:r>
              <a:rPr b="0" i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</a:t>
            </a:r>
            <a:r>
              <a:rPr b="0" i="1" lang="zh-TW" sz="1200" spc="-1" strike="noStrike">
                <a:solidFill>
                  <a:srgbClr val="ccecff"/>
                </a:solidFill>
                <a:latin typeface="Arial Unicode MS"/>
                <a:ea typeface="Arial Unicode MS"/>
              </a:rPr>
              <a:t>。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ccecff"/>
                </a:solidFill>
                <a:latin typeface="Arial Unicode MS"/>
                <a:ea typeface="標楷體"/>
              </a:rPr>
              <a:t>** </a:t>
            </a:r>
            <a:r>
              <a:rPr b="0" i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結果在</a:t>
            </a:r>
            <a:r>
              <a:rPr b="0" i="1" lang="zh-TW" sz="1200" spc="-1" strike="noStrike">
                <a:solidFill>
                  <a:srgbClr val="ccecff"/>
                </a:solidFill>
                <a:latin typeface="Arial Unicode MS"/>
                <a:ea typeface="標楷體"/>
              </a:rPr>
              <a:t> </a:t>
            </a:r>
            <a:r>
              <a:rPr b="0" i="1" lang="zh-TW" sz="1200" spc="-1" strike="noStrike">
                <a:solidFill>
                  <a:srgbClr val="ccecff"/>
                </a:solidFill>
                <a:latin typeface="Arial Unicode MS"/>
                <a:ea typeface="標楷體"/>
              </a:rPr>
              <a:t>p &lt; 0.01 </a:t>
            </a:r>
            <a:r>
              <a:rPr b="0" i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之內變化顯著。</a:t>
            </a:r>
            <a:r>
              <a:rPr b="0" i="1" lang="zh-TW" sz="1200" spc="-1" strike="noStrike">
                <a:solidFill>
                  <a:srgbClr val="ccecff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健康指標調查意義重大。調查結合了不同測量方法，評估香港市民的生理和心理健康狀況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以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0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至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10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計，成年巿民平均給予自己的生理健康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6.6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分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心理健康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7.0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分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換言之，巿民的心理健康程度似乎比生理健康程度較為理想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生理健康方面，調查分析了被訪者的身體質量指數、家務參與、運動參與和一般生活模式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調查顯示，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運動參與者在身心健康都比非參與者高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而病患者和受生理困擾的人士，在身心兩方面的健康都比其他人差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心理健康方面，調查採用了由外國學者開發的「生活品質問卷調查」問卷，分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5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個範疇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16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個項目進行調查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5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個範疇包括「物質生活情況」、「與他人關係」、「公民活動」、「個人發展」和「閒遐活動」。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香港巿民在「與他人關係」得分最高，在「公民活動」方面得分最低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以單項計，得分最高的三項分別是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「與配偶或重要人士的關係」、「獨立自主」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和「與好朋友的關係」，而得分最低的三項分別是「參與公共事務」、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「發揮創意」和「參加動態消遣活動」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民研計劃希望有關研究和分析能夠持之以恆，為提升香港巿民的生活質素提供有用的參考數據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參考資料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Williams, P. T. </a:t>
            </a:r>
            <a:r>
              <a:rPr b="1" i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Online National Health Survey</a:t>
            </a: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. Lawrence Berkeley National Laboratory, University of California. Information can be obtained from http://www.healthsurvey.org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Duke Health Profile</a:t>
            </a: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(1989-2002), copyrighted by the Department of Community and Family Medicine, Duke University Medical Centre, Durham. Additional information can be obtained from http://healthmeasures.mc.duke.edu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EUROQOL EQ-5D</a:t>
            </a: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, copyrighted by EuroQol Business Management. Additional information can be found at http://www.euroqol.org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Flanagan, J. C. (1978). A research approach to improving our quality of life. </a:t>
            </a:r>
            <a:r>
              <a:rPr b="1" i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American Psychologist</a:t>
            </a: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, 33, 138-147.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Flanagan J. C. (1982). Measurement of quality of life: Current state of the art. </a:t>
            </a:r>
            <a:r>
              <a:rPr b="1" i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Archives of  Physical Medicine and Rehabilitation</a:t>
            </a: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, 63, 56-59.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Burckhardt, C. S. &amp; Anderson, K. L. (2003). The Quality of Life Scale (QOLS): Reliability, validity, and utilization. </a:t>
            </a:r>
            <a:r>
              <a:rPr b="1" i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Health and Quality of Life Outcomes</a:t>
            </a: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, 1, 60. The article is available from http://www.hqlo.com/content/1/1/60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Burckhardt, C. S., Anderson, K. L., Archenholtz, B., &amp; Hagg, O. (2003). The Flanagan quality of life scale: Evidence of construct validity. </a:t>
            </a:r>
            <a:r>
              <a:rPr b="1" i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Health and Quality of Life Outcomes</a:t>
            </a: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, 1, 59. The article is available from http://www.hqlo.com/content/1/1/59. 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Han, S-H (1995). Quality of life of persons with spinal cord injury living in Taipei: A psychometric study. </a:t>
            </a:r>
            <a:r>
              <a:rPr b="1" i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MS Thesis Oregon Health Sciences University</a:t>
            </a:r>
            <a:r>
              <a:rPr b="1" lang="zh-TW" sz="1900" spc="-1" strike="noStrike">
                <a:solidFill>
                  <a:srgbClr val="ccecff"/>
                </a:solidFill>
                <a:latin typeface="Times New Roman"/>
                <a:ea typeface="標楷體"/>
              </a:rPr>
              <a:t>.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Times New Roman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0" y="41911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Times New Roman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7560" indent="-1717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日期：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2006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3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月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22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至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4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月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12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日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717560" indent="-1717560"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1717560" indent="-1717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對象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18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歲或以上操粵語的香港居民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717560" indent="-171756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1717560" indent="-1717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：由訪問員直接進行電話訪問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717560" indent="-1717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樣本數目：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1,016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成功個案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717560" indent="-1717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回應比率：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55.8%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717560" indent="-1717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抽樣誤差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少於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1.6% 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在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95%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置信水平下，各個百分比的抽樣誤差為少於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+/-3.1% 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717560" indent="-1717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結果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0-10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評價生理及</a:t>
            </a:r>
            <a:r>
              <a:rPr b="1" lang="zh-TW" sz="3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心理狀况之比較</a:t>
            </a:r>
            <a:br>
              <a:rPr sz="3200"/>
            </a:b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0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非常差、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10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非常好、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5</a:t>
            </a:r>
            <a:r>
              <a:rPr b="1" lang="zh-TW" sz="27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代表一半半，</a:t>
            </a:r>
            <a:endParaRPr b="0" lang="en-US" sz="27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066680"/>
          <a:ext cx="9178920" cy="545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7892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068520" y="6248520"/>
            <a:ext cx="235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「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  <a:ea typeface="標楷體"/>
              </a:rPr>
              <a:t>心理健康」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4400" y="6248520"/>
            <a:ext cx="235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「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  <a:ea typeface="標楷體"/>
              </a:rPr>
              <a:t>生理健康」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0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9200" y="2971800"/>
            <a:ext cx="21726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生理狀况平均分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: 6.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ff"/>
                </a:solidFill>
                <a:latin typeface="Times New Roman"/>
                <a:ea typeface="標楷體"/>
              </a:rPr>
              <a:t>心理狀况平均分</a:t>
            </a:r>
            <a:r>
              <a:rPr b="1" lang="zh-TW" sz="24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9933ff"/>
                </a:solidFill>
                <a:latin typeface="Times New Roman"/>
              </a:rPr>
              <a:t>: 7.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標楷體"/>
              </a:rPr>
              <a:t>「關於生理健康」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5" name="BD06529_" descr=""/>
          <p:cNvPicPr/>
          <p:nvPr/>
        </p:nvPicPr>
        <p:blipFill>
          <a:blip r:embed="rId1"/>
          <a:stretch/>
        </p:blipFill>
        <p:spPr>
          <a:xfrm>
            <a:off x="5334120" y="3657600"/>
            <a:ext cx="312408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被訪者吸煙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/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食雪茄、長期病患、活動能力、身體痛症、睡眠問題及疲累情況之分佈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447920"/>
          <a:ext cx="914400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371600" y="62485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1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  <a:ea typeface="標楷體"/>
              </a:rPr>
              <a:t>被訪者定期運動情況之分佈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3962520"/>
          <a:ext cx="7101000" cy="226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7101000" cy="22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371600" y="62485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1,01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04920" y="1066680"/>
          <a:ext cx="4093920" cy="3086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066680"/>
                    <a:ext cx="409392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419720" y="1066680"/>
          <a:ext cx="4343400" cy="2900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1066680"/>
                    <a:ext cx="4343400" cy="29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7-20T09:10:33Z</dcterms:modified>
  <cp:revision>910</cp:revision>
  <dc:subject/>
  <dc:title>無投影片標題</dc:title>
</cp:coreProperties>
</file>