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8E6C2E-3824-4AA9-96F9-8310E4E40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ECA99D-05FA-473D-A2E9-27F96DF6070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F1F7DE-F9A0-46E9-AFDF-9F84236BD46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33C2EF-6AC3-4391-ABEC-E953A80CCA1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FC062D-8605-4B8D-A6FC-CB4008EFBC7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E8F1A2-86F5-479B-939A-787F80C33B1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0A375F-D7EC-4A61-ABE8-1C2C80E75EA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D49E2A-A22F-4341-A454-B2B5C2EAECD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1BA76B-180D-49C9-B508-BA3F5E5E8F4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673FB9-78FE-4993-AEBA-EC2F2E23A40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55C87E-EE72-4792-B443-E295DECE73C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C398A0-3FD0-4D32-958A-821EAFE0CCA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3080F9-BF31-4E91-8FDA-F55CFAF74F5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23E81D-0572-43FE-8D59-58268FDE4DD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10E35A-451C-4709-AE0D-8303A1DA992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2D6D25-68E5-43A9-A111-FA8BCC754A1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6964AE-3E96-4C27-A676-CD349502DCE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67D5D9-28FB-4278-8551-6CB0B3613BC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25C856-7ED9-4D72-9201-5F5629FF3C4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F43E09-9090-4788-BB02-C6524D407CE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203B51-865D-42CD-85E3-3F426CF1CAF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C767D0-B088-43F2-BD5F-35191EA7F94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4A3753-3EF4-4DB5-9244-8C5319B1A0D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5840" y="4738680"/>
            <a:ext cx="502632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B2A-BDAB-4E48-8910-B22B406D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DFB-53C6-40E0-B418-EE2E6788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FD6-9928-4F5F-80E1-D037BD76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36D-4C3F-402E-9EAF-CA3863AC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E3DA-9BD5-4E6F-BABB-4AA95003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E1D3-BE39-4319-93A7-613739E2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5014-7DEE-4D2C-B385-A27EB978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07D9-574C-42C0-8683-CF0877EA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3C60-37FC-4F67-907C-BC22FF2B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CD74-C72A-4ADF-86E0-65887D95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4FE5-D34A-42B6-8A2A-E3F5643C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05A-4FBB-4804-8943-B4E296F2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BDF0-2253-44AA-896F-141E770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44F2-E586-43E5-A218-5B01AC67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594D-9B97-4BCE-93F4-7908C187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1434-1F4E-4FF4-8B9E-2977457D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719B-91B9-48B6-94ED-7F0DFF8F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DEB-061B-49B8-95CB-DA1F63E2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E60-328D-4F43-AB3C-EA63C637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A12-826E-42F6-B3DC-7FC03B3D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263-055A-4631-8B53-CB98EF6B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477-16F9-454C-9051-4DA10659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705-5BAB-4236-8B62-DD97C6A3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24F-4C4D-4AEF-8F2F-3934D801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74BB-7B12-410C-939E-15EAEE8D2DC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035" descr="C:\Documents and Settings\frank\Desktop\index_01.jpg"/>
          <p:cNvPicPr/>
          <p:nvPr/>
        </p:nvPicPr>
        <p:blipFill>
          <a:blip r:embed="rId2"/>
          <a:stretch/>
        </p:blipFill>
        <p:spPr>
          <a:xfrm>
            <a:off x="7391520" y="152280"/>
            <a:ext cx="1504800" cy="36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Object 2053"/>
          <p:cNvGraphicFramePr/>
          <p:nvPr/>
        </p:nvGraphicFramePr>
        <p:xfrm>
          <a:off x="304920" y="152280"/>
          <a:ext cx="4395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Object 20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280"/>
                    <a:ext cx="439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5856-8469-4576-8BD8-51E2607B748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052"/>
          <p:cNvSpPr/>
          <p:nvPr/>
        </p:nvSpPr>
        <p:spPr>
          <a:xfrm>
            <a:off x="2286000" y="112716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Opinion Program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University of Hong Ko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2" name="Object 2053"/>
          <p:cNvGraphicFramePr/>
          <p:nvPr/>
        </p:nvGraphicFramePr>
        <p:xfrm>
          <a:off x="1407960" y="1143000"/>
          <a:ext cx="8780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20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7960" y="1143000"/>
                    <a:ext cx="878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職人士對照顧家人及社區支援服務需求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意見調查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2057"/>
          <p:cNvSpPr/>
          <p:nvPr/>
        </p:nvSpPr>
        <p:spPr>
          <a:xfrm>
            <a:off x="762120" y="4643280"/>
            <a:ext cx="7848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鍾庭耀博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 民意研究計劃 總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Line 2058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Line 2059"/>
          <p:cNvSpPr/>
          <p:nvPr/>
        </p:nvSpPr>
        <p:spPr>
          <a:xfrm>
            <a:off x="1143000" y="4149720"/>
            <a:ext cx="7086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8" name="Picture 9" descr="C:\Documents and Settings\frank\Desktop\index_01.jpg"/>
          <p:cNvPicPr/>
          <p:nvPr/>
        </p:nvPicPr>
        <p:blipFill>
          <a:blip r:embed="rId4"/>
          <a:stretch/>
        </p:blipFill>
        <p:spPr>
          <a:xfrm>
            <a:off x="5638680" y="1284120"/>
            <a:ext cx="2571840" cy="62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7510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6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擔心家人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耐以黎，你有冇試過未能及時或者冇妥善照顧呢位屋企人而出現問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Object 0" descr=""/>
          <p:cNvPicPr/>
          <p:nvPr/>
        </p:nvPicPr>
        <p:blipFill>
          <a:blip r:embed="rId1"/>
          <a:stretch/>
        </p:blipFill>
        <p:spPr>
          <a:xfrm>
            <a:off x="853920" y="2066760"/>
            <a:ext cx="8082000" cy="41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2565720" y="22147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5920" y="928800"/>
            <a:ext cx="71438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7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擔心家人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整體黎講，你認為現時對呢位屋企人既照顧足唔足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Object 0" descr=""/>
          <p:cNvPicPr/>
          <p:nvPr/>
        </p:nvPicPr>
        <p:blipFill>
          <a:blip r:embed="rId1"/>
          <a:stretch/>
        </p:blipFill>
        <p:spPr>
          <a:xfrm>
            <a:off x="828720" y="1779480"/>
            <a:ext cx="7961400" cy="4767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5985720" y="21430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999720"/>
            <a:ext cx="750096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Q8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知唔知道現時係有社區資源可以協助你照顧屋企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例如起居照顧、社工服務、緊急支援、接送及復康服務等。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Object 0" descr=""/>
          <p:cNvPicPr/>
          <p:nvPr/>
        </p:nvPicPr>
        <p:blipFill>
          <a:blip r:embed="rId1"/>
          <a:stretch/>
        </p:blipFill>
        <p:spPr>
          <a:xfrm>
            <a:off x="853920" y="1852560"/>
            <a:ext cx="7723440" cy="4511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6066000" y="235728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1,0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4280" y="857160"/>
            <a:ext cx="7143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 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9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知悉有關服務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係從乜野途徑得知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資源同服務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[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Object 0" descr=""/>
          <p:cNvPicPr/>
          <p:nvPr/>
        </p:nvPicPr>
        <p:blipFill>
          <a:blip r:embed="rId1"/>
          <a:stretch/>
        </p:blipFill>
        <p:spPr>
          <a:xfrm>
            <a:off x="853920" y="1920960"/>
            <a:ext cx="7796520" cy="4357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92308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030000" y="6286680"/>
            <a:ext cx="191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篇幅所限，只列出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7%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928800"/>
            <a:ext cx="72867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0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知悉有關服務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或者你既家人有冇試過使用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資源協助去照顧你既家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br>
              <a:rPr sz="20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Object 0" descr=""/>
          <p:cNvPicPr/>
          <p:nvPr/>
        </p:nvPicPr>
        <p:blipFill>
          <a:blip r:embed="rId1"/>
          <a:stretch/>
        </p:blipFill>
        <p:spPr>
          <a:xfrm>
            <a:off x="871560" y="1852560"/>
            <a:ext cx="7705800" cy="4797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341388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6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7734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 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1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使用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認為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資源同服務可唔可以幫到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Object 0" descr=""/>
          <p:cNvPicPr/>
          <p:nvPr/>
        </p:nvPicPr>
        <p:blipFill>
          <a:blip r:embed="rId1"/>
          <a:stretch/>
        </p:blipFill>
        <p:spPr>
          <a:xfrm>
            <a:off x="853920" y="1920960"/>
            <a:ext cx="7869240" cy="4357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6558840" y="2357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11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1360" y="856800"/>
            <a:ext cx="77295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2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撇除沒有家人需要照顧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假如日後有需要，你會唔會考慮使用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資源協助照顧你既家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Object 0" descr=""/>
          <p:cNvPicPr/>
          <p:nvPr/>
        </p:nvPicPr>
        <p:blipFill>
          <a:blip r:embed="rId1"/>
          <a:stretch/>
        </p:blipFill>
        <p:spPr>
          <a:xfrm>
            <a:off x="901800" y="2066760"/>
            <a:ext cx="7888320" cy="4437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656604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97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85560" y="856800"/>
            <a:ext cx="7443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3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考慮使用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每個月計，你大約願意付出幾多錢去獲取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服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Object 0" descr=""/>
          <p:cNvPicPr/>
          <p:nvPr/>
        </p:nvPicPr>
        <p:blipFill>
          <a:blip r:embed="rId1"/>
          <a:stretch/>
        </p:blipFill>
        <p:spPr>
          <a:xfrm>
            <a:off x="781200" y="1920960"/>
            <a:ext cx="7729560" cy="44434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6057000" y="19288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6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357280" y="2428920"/>
          <a:ext cx="2743200" cy="124920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平均數字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,915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抽樣誤差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$172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回答人數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撇除不知者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920" y="857160"/>
            <a:ext cx="7781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4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被訪者對新服務關愛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K Link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興趣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員沒有提及「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關愛鈴」，只描述有關服務的內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Object 0" descr=""/>
          <p:cNvPicPr/>
          <p:nvPr/>
        </p:nvPicPr>
        <p:blipFill>
          <a:blip r:embed="rId1"/>
          <a:stretch/>
        </p:blipFill>
        <p:spPr>
          <a:xfrm>
            <a:off x="920880" y="1566720"/>
            <a:ext cx="7656480" cy="4662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6351840" y="20718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99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3920" y="928800"/>
            <a:ext cx="7572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5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你認為呢項新服務既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功能或支援最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[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]</a:t>
            </a:r>
            <a:br>
              <a:rPr sz="2000"/>
            </a:br>
            <a:br>
              <a:rPr sz="20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Object 0" descr=""/>
          <p:cNvPicPr/>
          <p:nvPr/>
        </p:nvPicPr>
        <p:blipFill>
          <a:blip r:embed="rId1"/>
          <a:stretch/>
        </p:blipFill>
        <p:spPr>
          <a:xfrm>
            <a:off x="853920" y="1852560"/>
            <a:ext cx="8008920" cy="444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5923080" y="20001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99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172920" y="6286680"/>
            <a:ext cx="191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篇幅所限，只列出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6%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9720" y="1143000"/>
            <a:ext cx="7915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研究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5920" y="2142720"/>
            <a:ext cx="70200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目的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探討在職人士對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照顧家人的擔憂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對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現時社區支援服務的認知及使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及對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新服務關愛鈴 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OK Link) 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的需求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等意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問卷由港大民研計劃諮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浸會愛羣社會服務處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後獨立設計，所有操作、數據收集及分析由民研計劃獨立進行，結果亦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民研計劃全面負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方法和結果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全面公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0080" y="1142640"/>
            <a:ext cx="76104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214280" y="2983680"/>
            <a:ext cx="73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在職人士普遍最擔心的家庭成員是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父母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，其次是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子女和配偶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。他們主要擔心家人的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健康情況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，如長期病患、行動不便等，其次是擔心家人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發生意外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時缺乏緊急支援和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外出安全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的問題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論到照顧家人的模式，超過四成被訪者表示目前是由「自己親自照顧」，其次是由「其他家人」或「家庭傭工」照顧。整體來說，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七成被訪者認為現時對家人的照顧足夠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七成被訪者表示知道現時有社區資源可以協助照顧其家人，但真正有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使用過這些資源的卻只有一成半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，大部分主要是透過電視、報章及親友等途徑得知。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9720" y="1356840"/>
            <a:ext cx="7643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總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214280" y="2143080"/>
            <a:ext cx="73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近八成表示會考慮使用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這些社區資源協助照顧家人，反映出在職人士對社區支援服務的需求頗大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近半數在職人士表示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浸會愛羣社會服務處一項全新服務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「關愛鈴」感到興趣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64960" indent="-2649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他們最感興趣的服務次序為：「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緊急支援」、「醫療護理服務」、「護送服務」、「轉介服務」、「以手機短訊通知家人最新情況」和「定期電話慰問」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詳細報告結果，請瀏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ttp://hkupop.hku.h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990720" y="32767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樣本資料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4280" y="2143080"/>
            <a:ext cx="735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16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9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7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至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至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操粵語的全職人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訪員直接進行電話訪問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訪員在成功接觸目標住戶後，再從住戶內找出符合條件的人士接受訪問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1,0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回應比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9.2%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616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61604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置信水平下，少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+/- 3.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9720" y="785520"/>
            <a:ext cx="7572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1.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問係你既屋企人之中，你現時最擔心邊一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928800" y="1714680"/>
          <a:ext cx="7715160" cy="47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714680"/>
                    <a:ext cx="771516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5"/>
          <p:cNvSpPr/>
          <p:nvPr/>
        </p:nvSpPr>
        <p:spPr>
          <a:xfrm>
            <a:off x="5780160" y="20001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99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1360" y="1000080"/>
            <a:ext cx="74293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2.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擔心家人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會擔心佢邊方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[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857160" y="1614600"/>
            <a:ext cx="7643880" cy="4814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06600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1720" y="1143000"/>
            <a:ext cx="6572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.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擔心家人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係咪同佢一齊住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715520" cy="45655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592308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7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1214280"/>
            <a:ext cx="750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a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與有關家人同住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果唔同佢一齊住會唔會令你更加擔心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993600" y="2097000"/>
            <a:ext cx="7656840" cy="4267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5923080" y="278604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48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85920" y="1285560"/>
            <a:ext cx="6929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b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沒與有關家人同住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有冇因為唔同佢一齊住而令你更加擔心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1066680" y="2139840"/>
            <a:ext cx="7444080" cy="4200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5851800" y="235728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19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1000080"/>
            <a:ext cx="7224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擔心家人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現時主要係用乜野方式照顧呢位屋企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? [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選多項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Object 4" descr=""/>
          <p:cNvPicPr/>
          <p:nvPr/>
        </p:nvPicPr>
        <p:blipFill>
          <a:blip r:embed="rId1"/>
          <a:stretch/>
        </p:blipFill>
        <p:spPr>
          <a:xfrm>
            <a:off x="1133640" y="1994040"/>
            <a:ext cx="7377120" cy="4297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4320" y="2428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回答人數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標楷體"/>
              </a:rPr>
              <a:t>= 69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030000" y="6215040"/>
            <a:ext cx="191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* 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篇幅所限，只列出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3%</a:t>
            </a:r>
            <a:r>
              <a:rPr b="1" lang="zh-TW" sz="1200" spc="-1" strike="noStrike">
                <a:solidFill>
                  <a:srgbClr val="003366"/>
                </a:solidFill>
                <a:latin typeface="Times New Roman"/>
                <a:ea typeface="標楷體"/>
              </a:rPr>
              <a:t>或以上的答案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frank</cp:lastModifiedBy>
  <cp:lastPrinted>2001-04-04T10:00:24Z</cp:lastPrinted>
  <dcterms:modified xsi:type="dcterms:W3CDTF">2010-01-28T10:20:27Z</dcterms:modified>
  <cp:revision>1512</cp:revision>
  <dc:subject/>
  <dc:title>無投影片標題</dc:title>
</cp:coreProperties>
</file>