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CEB1E0-D8F7-4C1A-A67C-550538CC2B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736C01-6B8F-4676-8DF3-8DDE3C49C02C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E7D4F8-D42D-4494-AC65-FF3AC198CCD8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0C19A6-2906-44CE-8DB4-16A3FC1C966E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C4EDB1-8A31-4F1B-B0B6-904CA81FE439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012A68-115F-4741-AEB6-F75294C6DFE8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6CB168-F146-4847-B533-F28E3DBB0EA2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4EA680-A996-4FF2-988A-B8210ED5E5E4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C1D02D-3514-4B70-A343-A011B49F6E55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D29835-A10D-4DC6-B3BC-F8BBCD654AF3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7B7D8E-C509-4049-9BBF-3206B57169F2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CD68A0-49F3-4CC3-BB83-79ADECBB0D7A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FFC378-32A5-423F-AEEE-928519748DEB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23EA6F-DE60-45D2-97D2-91A5FB7411F4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48B939-05D7-4537-96ED-AB68E3A942A6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BEDFF1-1155-43B2-A9D0-0F2717D38D4D}" type="slidenum">
              <a:rPr b="0" lang="en-US" sz="12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FB0-2722-4737-A205-3E277612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2F9-9FE2-4038-B8AE-C0ADB234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F08-22C5-405D-85B4-6887F733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061-BAC9-4DC5-BFC7-D0397DF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603-F036-466D-B330-610191A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E22-2924-4F65-8CC5-C497ABEF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726-9FFD-48CF-9EE7-66C0D3C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621-BCFC-48DC-A6F9-40B4F18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2A5-5ABE-4C2C-BD21-6F4D612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245-DC42-4EC8-92B5-35CDCE2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DED-6536-4F65-8E33-B5B6562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9A6-C10E-42D9-9141-AFC554BF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26E6-0A8B-46E8-8638-210DCA0A8FAB}" type="slidenum">
              <a:rPr b="0" lang="en-US" sz="1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香港大學民意研究計劃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University of Hong Kong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ublic Opinion Programme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對貧窮問題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</a:rPr>
              <a:t>鍾庭耀博士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</a:rPr>
              <a:t>內一切內容與香港大學立場無關，內容由民意研究計劃主任鍾庭耀博士負責。</a:t>
            </a:r>
            <a:endParaRPr b="1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7.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一般露宿者為什麼要露宿街頭呢？</a:t>
            </a:r>
            <a:r>
              <a:rPr b="1" lang="zh-TW" sz="2800" spc="-1" strike="noStrike">
                <a:solidFill>
                  <a:srgbClr val="ccecff"/>
                </a:solidFill>
                <a:latin typeface="Arial Unicode MS"/>
                <a:ea typeface="標楷體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84240" y="1765440"/>
          <a:ext cx="8939160" cy="37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1765440"/>
                    <a:ext cx="893916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4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066680" y="533412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精神病患／長期病患，失去工作能力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2057400" y="53341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被家人遺棄／無人照顧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3276720" y="5334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低收入／唔夠錢租屋住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4343400" y="5334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與家人關係不和，不願與家人同住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54864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失業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6553080" y="53341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個人性格問題／不思進取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7772400" y="5334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有不良嗜好：吸毒、酗酒、嗜賭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3"/>
          <p:cNvSpPr/>
          <p:nvPr/>
        </p:nvSpPr>
        <p:spPr>
          <a:xfrm>
            <a:off x="990720" y="1494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480" y="1812960"/>
          <a:ext cx="8878680" cy="388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812960"/>
                    <a:ext cx="88786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6604920" y="19350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54864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個人選擇，喜歡自由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057400" y="54864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唔識求助</a:t>
            </a:r>
            <a:br>
              <a:rPr sz="1200"/>
            </a:br>
            <a:r>
              <a:rPr b="1" lang="en-US" sz="1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如：找社會福利署</a:t>
            </a:r>
            <a:r>
              <a:rPr b="1" lang="en-US" sz="1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)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505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年老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343400" y="54864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因其他問題而沒有工作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562720" y="5486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運氣／際遇不佳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781680" y="5486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其他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772400" y="5486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唔知／難講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80880" y="304920"/>
            <a:ext cx="8534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一般露宿者為什麼要露宿街頭呢？</a:t>
            </a:r>
            <a:r>
              <a:rPr b="1" lang="zh-TW" sz="2800" spc="-1" strike="noStrike">
                <a:solidFill>
                  <a:srgbClr val="ccecff"/>
                </a:solidFill>
                <a:latin typeface="Arial Unicode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可選多項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(2)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8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政府最需要為貧窮人士提供以下那種援助？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員讀出答案，可選多項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)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0" y="1523880"/>
          <a:ext cx="900108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0010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"/>
          <p:cNvSpPr/>
          <p:nvPr/>
        </p:nvSpPr>
        <p:spPr>
          <a:xfrm>
            <a:off x="1905120" y="5181480"/>
            <a:ext cx="914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托管服務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38080" y="5181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再培訓課程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971800" y="5181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提供設施以防止跨代貧窮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876920" y="518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提高綜援金額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620120" y="5181480"/>
            <a:ext cx="1143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唔知／難講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376320" y="16765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2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886200" y="5181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提供交通津貼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5791320" y="5197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提供免費文娛康樂、表演藝術等活動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Rectangle 46"/>
          <p:cNvSpPr/>
          <p:nvPr/>
        </p:nvSpPr>
        <p:spPr>
          <a:xfrm>
            <a:off x="6781680" y="5181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以上皆否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9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現今廿一世紀的貧窮問題跟以往六、七十年代的貧窮問題比較有沒有分別？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304920" y="2533680"/>
          <a:ext cx="8229600" cy="33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3680"/>
                    <a:ext cx="822960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5"/>
          <p:cNvSpPr/>
          <p:nvPr/>
        </p:nvSpPr>
        <p:spPr>
          <a:xfrm>
            <a:off x="6223680" y="19810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2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什麼分別呢？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只問上題答「有分別」者，可選多項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304920" y="1971720"/>
          <a:ext cx="8439120" cy="33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71720"/>
                    <a:ext cx="843912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5"/>
          <p:cNvSpPr/>
          <p:nvPr/>
        </p:nvSpPr>
        <p:spPr>
          <a:xfrm>
            <a:off x="6604920" y="19810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416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715000" y="5094360"/>
            <a:ext cx="685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現時社會太多誘感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952880" y="5105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港人比從前追求享受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162920" y="5075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現時物價高漲，人工低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6400800" y="5105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港人適應能力較從前低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7924680" y="509112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對貧窮人士的了解及同情較從前少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1981080" y="512136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從前社會貧窮現象較普遍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1143000" y="51516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港人比從前較懶惰，依賴政府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00160" y="624852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或以上的答案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Text Box 69"/>
          <p:cNvSpPr/>
          <p:nvPr/>
        </p:nvSpPr>
        <p:spPr>
          <a:xfrm>
            <a:off x="4191120" y="5105520"/>
            <a:ext cx="83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社會環境轉變，令現時脫貧或找工作的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機會較少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Text Box 69"/>
          <p:cNvSpPr/>
          <p:nvPr/>
        </p:nvSpPr>
        <p:spPr>
          <a:xfrm>
            <a:off x="3505320" y="510552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現時物資太豐富，凸顯貧窮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Text Box 69"/>
          <p:cNvSpPr/>
          <p:nvPr/>
        </p:nvSpPr>
        <p:spPr>
          <a:xfrm>
            <a:off x="2819520" y="512136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現時貧富懸殊問題較大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性別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06320" y="1882800"/>
          <a:ext cx="806796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882800"/>
                    <a:ext cx="8067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齡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706320" y="1882800"/>
          <a:ext cx="806796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882800"/>
                    <a:ext cx="8067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教育程度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523800" y="2035080"/>
          <a:ext cx="8096400" cy="32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035080"/>
                    <a:ext cx="809640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職業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517680" y="1963800"/>
          <a:ext cx="8105760" cy="40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1963800"/>
                    <a:ext cx="810576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Line 4"/>
          <p:cNvSpPr/>
          <p:nvPr/>
        </p:nvSpPr>
        <p:spPr>
          <a:xfrm>
            <a:off x="838080" y="152388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 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12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5.8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少於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+/- 4.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次調查主要探討市民對貧窮的看法，而非他們的貧窮經驗。事實上，調查並沒有界定貧窮的定義，和調查被訪者屬於富有還是貧窮。因此，調查結果主要是反映一般巿民對有關問題的觀感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明確顯示，絕大部分巿民都認為「貧窮」的定義是無法應付衣、食、住、行等生活基本需要，而性格、教育、工資和年紀，都是一般巿民認為導致貧窮的原因，而跨代貧窮，則只有少數巿民提及。至於通脤壓力對貧窮人士的影響，巿民一般都認為影響次序是食、住、行、衣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與貧窮相關的問題，是領取綜援的問題。調查發現，一般巿民都認為，半數領取綜援的人士實際上沒有這個必要，主要因為有關人士不願找尋工作。當被問及本港現今貧窮問題跟以往的分別時，不少巿民認為港人開始依賴政府。換言之，不論實際情況是否如此，一般巿民似乎不太同情領取綜援人士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政府應該如何解決貧窮問題？扶貧政策是否適得其所？怎樣才能幫助貧窮人士自己脫貧？似乎都不單止是政策的問題，還是巿民認知和大眾形象的問題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(2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市民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貧窮的原因和對本港貧窮問題的觀點等意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電台電視部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對你來說，窮是什麼意思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員讀出答案，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選多項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3" name="Object 0"/>
          <p:cNvGraphicFramePr/>
          <p:nvPr/>
        </p:nvGraphicFramePr>
        <p:xfrm>
          <a:off x="9360" y="1695600"/>
          <a:ext cx="9172800" cy="383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695600"/>
                    <a:ext cx="917280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8"/>
          <p:cNvSpPr/>
          <p:nvPr/>
        </p:nvSpPr>
        <p:spPr>
          <a:xfrm>
            <a:off x="914400" y="5327640"/>
            <a:ext cx="83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未能應付衣、食、住、行等生活基本需要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981080" y="5334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享受不到社會權益、社會資源、資訊、教育</a:t>
            </a:r>
            <a:r>
              <a:rPr b="1" lang="zh-TW" sz="1200" spc="-1" strike="noStrike">
                <a:solidFill>
                  <a:srgbClr val="ccecff"/>
                </a:solidFill>
                <a:latin typeface="Arial Unicode MS"/>
              </a:rPr>
              <a:t>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048120" y="5327640"/>
            <a:ext cx="7617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身體不健全／不健康／缺乏生產力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962520" y="5327640"/>
            <a:ext cx="8380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缺乏人際網絡，感到孤獨／沒有人理會，心靈空虛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029200" y="532764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未能享受生活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例如買奢侈品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)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6604920" y="1959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1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164"/>
          <p:cNvSpPr/>
          <p:nvPr/>
        </p:nvSpPr>
        <p:spPr>
          <a:xfrm>
            <a:off x="6172200" y="53341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以上皆否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165"/>
          <p:cNvSpPr/>
          <p:nvPr/>
        </p:nvSpPr>
        <p:spPr>
          <a:xfrm>
            <a:off x="7162920" y="5403960"/>
            <a:ext cx="60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其他答案 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– “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懶惰”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166"/>
          <p:cNvSpPr/>
          <p:nvPr/>
        </p:nvSpPr>
        <p:spPr>
          <a:xfrm>
            <a:off x="8153280" y="53276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唔知／難講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一個人為什麼會窮？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員讀出答案，</a:t>
            </a:r>
            <a:br>
              <a:rPr sz="2800"/>
            </a:b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可選多項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Line 1027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6" name="Object 1028"/>
          <p:cNvGraphicFramePr/>
          <p:nvPr/>
        </p:nvGraphicFramePr>
        <p:xfrm>
          <a:off x="0" y="1905120"/>
          <a:ext cx="9150480" cy="345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50480" cy="34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029"/>
          <p:cNvSpPr/>
          <p:nvPr/>
        </p:nvSpPr>
        <p:spPr>
          <a:xfrm>
            <a:off x="762120" y="5181480"/>
            <a:ext cx="99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ccecff"/>
                </a:solidFill>
                <a:latin typeface="Times New Roman"/>
              </a:rPr>
              <a:t>性格問題，例如：個性懶惰、不思進取、好高騖遠，不知足 </a:t>
            </a:r>
            <a:endParaRPr b="1" lang="en-US" sz="1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Text Box 1030"/>
          <p:cNvSpPr/>
          <p:nvPr/>
        </p:nvSpPr>
        <p:spPr>
          <a:xfrm>
            <a:off x="1828800" y="5187960"/>
            <a:ext cx="762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教育程度低／低技術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Text Box 1031"/>
          <p:cNvSpPr/>
          <p:nvPr/>
        </p:nvSpPr>
        <p:spPr>
          <a:xfrm>
            <a:off x="2743200" y="518796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工資低，不夠應付日常開支</a:t>
            </a:r>
            <a:r>
              <a:rPr b="1" lang="zh-TW" sz="1200" spc="-1" strike="noStrike">
                <a:solidFill>
                  <a:srgbClr val="ccecff"/>
                </a:solidFill>
                <a:latin typeface="Arial Unicode MS"/>
              </a:rPr>
              <a:t>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Text Box 1032"/>
          <p:cNvSpPr/>
          <p:nvPr/>
        </p:nvSpPr>
        <p:spPr>
          <a:xfrm>
            <a:off x="3657600" y="5187960"/>
            <a:ext cx="762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年紀問題／身體有缺陷／患有重病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Text Box 1033"/>
          <p:cNvSpPr/>
          <p:nvPr/>
        </p:nvSpPr>
        <p:spPr>
          <a:xfrm>
            <a:off x="4572000" y="5187960"/>
            <a:ext cx="762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來自貧困家庭背景／須供養家人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Text Box 1034"/>
          <p:cNvSpPr/>
          <p:nvPr/>
        </p:nvSpPr>
        <p:spPr>
          <a:xfrm>
            <a:off x="5486400" y="518796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運氣唔好，無機會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604920" y="20048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1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477120" y="518796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以上皆否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1038"/>
          <p:cNvSpPr/>
          <p:nvPr/>
        </p:nvSpPr>
        <p:spPr>
          <a:xfrm>
            <a:off x="7315200" y="51879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其他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1039"/>
          <p:cNvSpPr/>
          <p:nvPr/>
        </p:nvSpPr>
        <p:spPr>
          <a:xfrm>
            <a:off x="8229600" y="518796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唔知／難講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3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你認為貧窮人士在現時通脹情況下，以下哪一項開支影響最大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291960" y="2133720"/>
          <a:ext cx="8558280" cy="32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133720"/>
                    <a:ext cx="85582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14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2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295280" y="5257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食物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2286000" y="5257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住屋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2971800" y="52578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交通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3962520" y="52578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衣物及日常家庭開支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105520" y="5257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娛樂消費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5867280" y="5257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以上皆否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6781680" y="5257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其他</a:t>
            </a:r>
            <a:r>
              <a:rPr b="1" lang="zh-TW" sz="1200" spc="-1" strike="noStrike">
                <a:solidFill>
                  <a:srgbClr val="ccecff"/>
                </a:solidFill>
                <a:latin typeface="Arial Unicode MS"/>
              </a:rPr>
              <a:t> 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Rectangle 80"/>
          <p:cNvSpPr/>
          <p:nvPr/>
        </p:nvSpPr>
        <p:spPr>
          <a:xfrm>
            <a:off x="77724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唔知</a:t>
            </a:r>
            <a:r>
              <a:rPr b="1" lang="en-US" sz="1200" spc="-1" strike="noStrike">
                <a:solidFill>
                  <a:srgbClr val="ccecff"/>
                </a:solidFill>
                <a:latin typeface="Times New Roman"/>
              </a:rPr>
              <a:t>/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難講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5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2" name="Object 0"/>
          <p:cNvGraphicFramePr/>
          <p:nvPr/>
        </p:nvGraphicFramePr>
        <p:xfrm>
          <a:off x="324000" y="1809720"/>
          <a:ext cx="8391240" cy="45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09720"/>
                    <a:ext cx="839124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8"/>
          <p:cNvSpPr/>
          <p:nvPr/>
        </p:nvSpPr>
        <p:spPr>
          <a:xfrm>
            <a:off x="1499400" y="1828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2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83808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4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你認為現今香港領取綜援人士當中，真正需要幫助的佔百分之幾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81480" y="1752480"/>
          <a:ext cx="3353040" cy="1062000"/>
        </p:xfrm>
        <a:graphic>
          <a:graphicData uri="http://schemas.openxmlformats.org/drawingml/2006/table">
            <a:tbl>
              <a:tblPr/>
              <a:tblGrid>
                <a:gridCol w="968760"/>
                <a:gridCol w="2384280"/>
              </a:tblGrid>
              <a:tr h="3373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8.7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1.15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400 (</a:t>
                      </a:r>
                      <a:r>
                        <a:rPr b="1" lang="zh-TW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撇除不知道者</a:t>
                      </a:r>
                      <a:r>
                        <a:rPr b="1" lang="zh-TW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075"/>
          <p:cNvSpPr/>
          <p:nvPr/>
        </p:nvSpPr>
        <p:spPr>
          <a:xfrm>
            <a:off x="990720" y="15238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Object 3076"/>
          <p:cNvGraphicFramePr/>
          <p:nvPr/>
        </p:nvGraphicFramePr>
        <p:xfrm>
          <a:off x="0" y="1447920"/>
          <a:ext cx="900108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0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001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36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如果不是真正有需要，他們為什麼仍領取綜援呢？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只問上題答「少於百分之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」者，可選多項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Rectangle 3085"/>
          <p:cNvSpPr/>
          <p:nvPr/>
        </p:nvSpPr>
        <p:spPr>
          <a:xfrm>
            <a:off x="6300000" y="17524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391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3266"/>
          <p:cNvSpPr/>
          <p:nvPr/>
        </p:nvSpPr>
        <p:spPr>
          <a:xfrm>
            <a:off x="1143000" y="54100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Arial Unicode MS"/>
              </a:rPr>
              <a:t>懶惰／不願找工作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3268"/>
          <p:cNvSpPr/>
          <p:nvPr/>
        </p:nvSpPr>
        <p:spPr>
          <a:xfrm>
            <a:off x="3048120" y="54100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Arial Unicode MS"/>
              </a:rPr>
              <a:t>工資低，遠不及取綜援多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3269"/>
          <p:cNvSpPr/>
          <p:nvPr/>
        </p:nvSpPr>
        <p:spPr>
          <a:xfrm>
            <a:off x="2133720" y="54100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欺騙政府／攞着數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3271"/>
          <p:cNvSpPr/>
          <p:nvPr/>
        </p:nvSpPr>
        <p:spPr>
          <a:xfrm>
            <a:off x="3886200" y="54100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Arial Unicode MS"/>
              </a:rPr>
              <a:t>因要照顧家人，所以沒有工作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Rectangle 3272"/>
          <p:cNvSpPr/>
          <p:nvPr/>
        </p:nvSpPr>
        <p:spPr>
          <a:xfrm>
            <a:off x="4876920" y="5410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Arial Unicode MS"/>
              </a:rPr>
              <a:t>長期病患，失去工作能力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3276"/>
          <p:cNvSpPr/>
          <p:nvPr/>
        </p:nvSpPr>
        <p:spPr>
          <a:xfrm>
            <a:off x="5791320" y="5410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申請綜援手續方便，沒有困難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3278"/>
          <p:cNvSpPr/>
          <p:nvPr/>
        </p:nvSpPr>
        <p:spPr>
          <a:xfrm>
            <a:off x="6781680" y="54100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新移民來港不適應新環境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3279"/>
          <p:cNvSpPr/>
          <p:nvPr/>
        </p:nvSpPr>
        <p:spPr>
          <a:xfrm>
            <a:off x="7772400" y="54100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因其他問題而沒有工作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或以上的答案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47520" y="1495440"/>
          <a:ext cx="872496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1495440"/>
                    <a:ext cx="872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6.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目前社會上哪一類貧窮人士最被忽略／</a:t>
            </a:r>
            <a:br>
              <a:rPr sz="2800"/>
            </a:b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最需要照顧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604920" y="16765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回答人數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= 511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066680" y="5486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長者／獨居長者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057400" y="5486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傷殘人士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895480" y="5486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單親家庭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809880" y="54864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缺乏生產力／生產力較低者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4800600" y="5486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長期病患者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638680" y="5486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失業人士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629400" y="5486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以上皆否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74674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唔知／難講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00160" y="624852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</a:rPr>
              <a:t>或以上的答案</a:t>
            </a:r>
            <a:endParaRPr b="1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08-04-03T09:44:45Z</dcterms:modified>
  <cp:revision>1351</cp:revision>
  <dc:subject/>
  <dc:title>無投影片標題</dc:title>
</cp:coreProperties>
</file>