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8.wmf" ContentType="image/x-wmf"/>
  <Override PartName="/ppt/media/image3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9.wmf" ContentType="image/x-wmf"/>
  <Override PartName="/ppt/media/image11.wmf" ContentType="image/x-wmf"/>
  <Override PartName="/ppt/media/image24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8.wmf" ContentType="image/x-wmf"/>
  <Override PartName="/ppt/media/image32.jpeg" ContentType="image/jpeg"/>
  <Override PartName="/ppt/media/image17.png" ContentType="image/png"/>
  <Override PartName="/ppt/media/image19.wmf" ContentType="image/x-wmf"/>
  <Override PartName="/ppt/media/image21.wmf" ContentType="image/x-wmf"/>
  <Override PartName="/ppt/media/image2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907588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728280" y="747720"/>
            <a:ext cx="54054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947700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4400" y="947700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258-468F-48E8-958C-9176FE56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F1ED-F58F-45B3-B2C2-1632D6B5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B62-4E8A-4036-BEFF-5BD8C1F7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2367-70A7-4010-8980-1CEBDEAB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93ED-1456-4482-8D74-D06DC292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EC35-9259-4BA2-B4CC-E70024AA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758-8520-46A5-82BA-441A1C31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EA30-CFE4-4B3D-8EAE-5283A33A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F01-08DF-44B5-8415-689FD508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4419-0A71-4A49-A71E-74E7F2B8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B117-DE66-43CE-8393-A60A47B3D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935B-AE7E-445D-8340-FAF1110F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E981-407A-42B8-B8C3-70D955F8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68B6-D107-4CFB-9FAF-668D8B26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8B1-2776-46D8-BD15-75D9E371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13A1-62AB-4A9F-8EC9-9C6079E3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AA32-A99D-4E1F-A8E3-19CDF396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D368-321E-4A97-8A99-341D0895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6BAD-9993-4DA8-94E6-54C55E18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4E3-959A-4F2B-9A18-B6B7F818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A248-73D6-4571-BB97-DA84E2CEE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396D-12F0-4448-8ABE-28BA41D1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E73-6268-41E7-B66B-AFC94F5A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6DA-E680-4087-9F1D-3AC63F6D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6C8-6955-4CD6-BC6F-D816818F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3ACD-EA5F-427B-9F7E-FFB8E0A8C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6A84-DD1C-425E-ACC5-1A2C816A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0ED-507E-4E71-A784-9DEF15E3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7E77-1545-4D7C-87FF-FA5C034B3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2E8-B88F-4D3F-9F89-188388D9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50C-A1D3-4826-936F-9BDA7D47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317E-5981-4CFF-98BD-A096758C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9D2F-924C-407B-AC02-CB9A08A4A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DF77-08EA-4958-B5D5-F7ECC2246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A435-D85B-4C0C-B898-897C03620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86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488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86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BC63-0ADF-4E67-BAA5-574FAC6D8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366BF-EE8E-4EAD-B132-3D2C636E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AADE3-B731-4389-BDDB-D50F3D7B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FFD6E-FB96-491A-8A7E-15196A68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852FA-D74B-4AC2-B51B-ED1FFD32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ED49-42D1-45C3-92E2-2E4E640B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31800" y="476280"/>
            <a:ext cx="5834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9F627-4B20-4FF9-A854-0C3A38B3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E07AB-7096-46DF-8E9E-3643FB2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7F63-2CA0-44C3-A984-0662ED61A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0CE2-77AA-42EC-9DD7-056465D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4AEF2-7AD2-4C1F-ACBA-E26AF7E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029A0-4632-42AF-B0D9-5D27E960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0309C-4AF9-42F1-86ED-438B7EC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86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488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86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A5728-A56A-47A5-9849-75D0BA09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0E98-E2B9-4FBF-907A-FF006262FF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1800" y="476280"/>
            <a:ext cx="5834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860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486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488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860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486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486D-D12D-4283-BC20-AB71CBD9A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394A-76BB-41A5-B4DD-BAE40F898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1800" y="476280"/>
            <a:ext cx="5834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8F9D-DCB6-486C-9A54-C42F9D777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65C2-D6B2-48F6-A894-6A58834E1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7F16-6769-46C0-A8BD-96C60D89B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8654-EC49-47DE-8B8F-81F22C2F4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6524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91360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A1D-2D19-49AB-9498-B86AB0285E7A}" type="slidenum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2"/>
          <p:cNvSpPr/>
          <p:nvPr/>
        </p:nvSpPr>
        <p:spPr>
          <a:xfrm>
            <a:off x="200160" y="260280"/>
            <a:ext cx="9505800" cy="612144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9" descr=""/>
          <p:cNvPicPr/>
          <p:nvPr/>
        </p:nvPicPr>
        <p:blipFill>
          <a:blip r:embed="rId2"/>
          <a:stretch/>
        </p:blipFill>
        <p:spPr>
          <a:xfrm>
            <a:off x="128520" y="5950080"/>
            <a:ext cx="1368360" cy="785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33"/>
          <p:cNvSpPr/>
          <p:nvPr/>
        </p:nvSpPr>
        <p:spPr>
          <a:xfrm>
            <a:off x="1412640" y="6467400"/>
            <a:ext cx="25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Quality Workplace Index 2009H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Sing Tao Research and Development Dept (Nov 0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A77-A92F-4CBE-B403-42FD2F7FD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415800" y="333360"/>
            <a:ext cx="9145800" cy="619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2073240" y="5229360"/>
            <a:ext cx="2114640" cy="997200"/>
            <a:chOff x="2073240" y="5229360"/>
            <a:chExt cx="2114640" cy="997200"/>
          </a:xfrm>
        </p:grpSpPr>
        <p:pic>
          <p:nvPicPr>
            <p:cNvPr id="86" name="Picture 23" descr=""/>
            <p:cNvPicPr/>
            <p:nvPr/>
          </p:nvPicPr>
          <p:blipFill>
            <a:blip r:embed="rId2"/>
            <a:stretch/>
          </p:blipFill>
          <p:spPr>
            <a:xfrm>
              <a:off x="2073240" y="5229360"/>
              <a:ext cx="133776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5"/>
            <p:cNvSpPr/>
            <p:nvPr/>
          </p:nvSpPr>
          <p:spPr>
            <a:xfrm>
              <a:off x="2129760" y="5980320"/>
              <a:ext cx="205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777777"/>
                  </a:solidFill>
                  <a:latin typeface="Arial"/>
                </a:rPr>
                <a:t>Stop Searching, Start Matching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0"/>
          <p:cNvGrpSpPr/>
          <p:nvPr/>
        </p:nvGrpSpPr>
        <p:grpSpPr>
          <a:xfrm>
            <a:off x="1424160" y="5373720"/>
            <a:ext cx="574560" cy="783360"/>
            <a:chOff x="1424160" y="5373720"/>
            <a:chExt cx="574560" cy="783360"/>
          </a:xfrm>
        </p:grpSpPr>
        <p:graphicFrame>
          <p:nvGraphicFramePr>
            <p:cNvPr id="89" name="Object 13"/>
            <p:cNvGraphicFramePr/>
            <p:nvPr/>
          </p:nvGraphicFramePr>
          <p:xfrm>
            <a:off x="1424160" y="5373720"/>
            <a:ext cx="530640" cy="58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4160" y="5373720"/>
                      <a:ext cx="530640" cy="58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Text Box 14"/>
            <p:cNvSpPr/>
            <p:nvPr/>
          </p:nvSpPr>
          <p:spPr>
            <a:xfrm>
              <a:off x="1424160" y="5941440"/>
              <a:ext cx="57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5f5f"/>
                  </a:solidFill>
                  <a:latin typeface="Arial Narrow"/>
                </a:rPr>
                <a:t>HKUPOP 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31" descr="j0411828"/>
          <p:cNvPicPr/>
          <p:nvPr/>
        </p:nvPicPr>
        <p:blipFill>
          <a:blip r:embed="rId5"/>
          <a:stretch/>
        </p:blipFill>
        <p:spPr>
          <a:xfrm>
            <a:off x="560520" y="658800"/>
            <a:ext cx="4608360" cy="39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image" Target="../media/image15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95680" y="4214880"/>
            <a:ext cx="5965920" cy="1085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b Satisfaction and Staff Reten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lineJobs Quality Workplace Index (2009H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309560" y="5300640"/>
            <a:ext cx="51469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Dr CHUNG Ting-yiu Robert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irector, Public Opinion Programme, the University of Hong Ko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6ED-00EC-4AA4-9E2A-C356097BF304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767880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5 Main Drivers and 16 Facto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j0316807"/>
          <p:cNvPicPr/>
          <p:nvPr/>
        </p:nvPicPr>
        <p:blipFill>
          <a:blip r:embed="rId1"/>
          <a:stretch/>
        </p:blipFill>
        <p:spPr>
          <a:xfrm>
            <a:off x="2576520" y="3284640"/>
            <a:ext cx="1368360" cy="91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j0382634"/>
          <p:cNvPicPr/>
          <p:nvPr/>
        </p:nvPicPr>
        <p:blipFill>
          <a:blip r:embed="rId2"/>
          <a:stretch/>
        </p:blipFill>
        <p:spPr>
          <a:xfrm>
            <a:off x="1281240" y="1339920"/>
            <a:ext cx="1368360" cy="9777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2289240" y="16286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pen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j0078616"/>
          <p:cNvPicPr/>
          <p:nvPr/>
        </p:nvPicPr>
        <p:blipFill>
          <a:blip r:embed="rId3"/>
          <a:stretch/>
        </p:blipFill>
        <p:spPr>
          <a:xfrm>
            <a:off x="1928880" y="2347920"/>
            <a:ext cx="1368360" cy="9144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7"/>
          <p:cNvSpPr/>
          <p:nvPr/>
        </p:nvSpPr>
        <p:spPr>
          <a:xfrm>
            <a:off x="2936880" y="2563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4"/>
          <a:stretch/>
        </p:blipFill>
        <p:spPr>
          <a:xfrm>
            <a:off x="3225960" y="4221000"/>
            <a:ext cx="1368360" cy="10162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/>
          <p:cNvSpPr/>
          <p:nvPr/>
        </p:nvSpPr>
        <p:spPr>
          <a:xfrm>
            <a:off x="3441600" y="3571920"/>
            <a:ext cx="187344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4160880" y="4579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Job 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5"/>
          <a:stretch/>
        </p:blipFill>
        <p:spPr>
          <a:xfrm>
            <a:off x="3728880" y="530064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4737240" y="558792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dvanc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4233960" y="1339920"/>
            <a:ext cx="3240000" cy="1009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fe Working Environ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Job Secur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lary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Benef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Work Flexibil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4808520" y="2492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Supervisor/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Management Recogni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Full play to Potentials and Autonom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5313240" y="3429000"/>
            <a:ext cx="3095640" cy="792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Co-work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Network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ntribution to the Organiza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6033960" y="4437000"/>
            <a:ext cx="273528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Nature and Meaningfulnes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Varie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rporate Cul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537240" y="544500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Professional Develop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areer Advancement Opportuniti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F518-CB14-47C2-ABDA-10054095F8E4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of Job Satisf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1095480" y="12859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2859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248"/>
          <p:cNvSpPr/>
          <p:nvPr/>
        </p:nvSpPr>
        <p:spPr>
          <a:xfrm>
            <a:off x="633240" y="4508640"/>
            <a:ext cx="8928360" cy="14414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59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4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5"/>
          <p:cNvSpPr/>
          <p:nvPr/>
        </p:nvSpPr>
        <p:spPr>
          <a:xfrm>
            <a:off x="8768520" y="9079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s. 09H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80920" y="1357200"/>
          <a:ext cx="871236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3280"/>
                <a:gridCol w="36036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3"/>
          <p:cNvSpPr/>
          <p:nvPr/>
        </p:nvSpPr>
        <p:spPr>
          <a:xfrm>
            <a:off x="7024680" y="357120"/>
            <a:ext cx="1643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19044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c000"/>
                </a:solidFill>
                <a:latin typeface="Arial"/>
                <a:ea typeface="新細明體"/>
              </a:rPr>
              <a:t>compensa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190440">
              <a:lnSpc>
                <a:spcPct val="100000"/>
              </a:lnSpc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ccff"/>
                </a:solidFill>
                <a:latin typeface="Arial"/>
                <a:ea typeface="新細明體"/>
              </a:rPr>
              <a:t>recogni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190440">
              <a:lnSpc>
                <a:spcPct val="10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cc00"/>
                </a:solidFill>
                <a:latin typeface="Arial"/>
                <a:ea typeface="新細明體"/>
              </a:rPr>
              <a:t>relationshi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19044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新細明體"/>
              </a:rPr>
              <a:t>job na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190440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cc"/>
                </a:solidFill>
                <a:latin typeface="Arial"/>
                <a:ea typeface="新細明體"/>
              </a:rPr>
              <a:t>advanc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C9C-FDC3-48A2-A6B5-79FC9E972396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38210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Job Retention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880920" y="1785960"/>
            <a:ext cx="3357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4524480" y="2071800"/>
            <a:ext cx="1143000" cy="647640"/>
          </a:xfrm>
          <a:prstGeom prst="rightArrow">
            <a:avLst>
              <a:gd name="adj1" fmla="val 51454"/>
              <a:gd name="adj2" fmla="val 54743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952960" y="1785960"/>
            <a:ext cx="309888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3E0-AD22-4C04-9369-DC0FA7A70056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3374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and Staff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1568520" y="1052640"/>
          <a:ext cx="70358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052640"/>
                    <a:ext cx="7035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Line 4"/>
          <p:cNvSpPr/>
          <p:nvPr/>
        </p:nvSpPr>
        <p:spPr>
          <a:xfrm flipV="1">
            <a:off x="1855800" y="1844640"/>
            <a:ext cx="0" cy="345600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208160" y="2995560"/>
            <a:ext cx="1368360" cy="9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Job change in next 3 month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2289240" y="5732640"/>
            <a:ext cx="5688000" cy="14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944880" y="5516640"/>
            <a:ext cx="201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DF8-C516-4299-B649-C55B415C13D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38210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Job Retention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80920" y="1785960"/>
            <a:ext cx="3357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95680" y="4286160"/>
            <a:ext cx="331164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4524480" y="2071800"/>
            <a:ext cx="1143000" cy="647640"/>
          </a:xfrm>
          <a:prstGeom prst="rightArrow">
            <a:avLst>
              <a:gd name="adj1" fmla="val 51454"/>
              <a:gd name="adj2" fmla="val 54743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2973200">
            <a:off x="3710160" y="331416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1402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52960" y="1785960"/>
            <a:ext cx="309888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 rot="18732600">
            <a:off x="5848920" y="333000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826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頁尾版面配置區 3"/>
          <p:cNvSpPr/>
          <p:nvPr/>
        </p:nvSpPr>
        <p:spPr>
          <a:xfrm>
            <a:off x="4665600" y="664056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4"/>
          <p:cNvSpPr/>
          <p:nvPr/>
        </p:nvSpPr>
        <p:spPr>
          <a:xfrm>
            <a:off x="8913960" y="657072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0E1-4DFD-46F8-8D80-76CDC51BAECD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624996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ee Engagement: 4 Main Facto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738360" y="171468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or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309680" y="292896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2095560" y="41432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2381400" y="5286240"/>
            <a:ext cx="250020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2595600" y="1473120"/>
            <a:ext cx="4357800" cy="928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Overall speaking, are your associ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mitted to doing quality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4"/>
          <p:cNvSpPr/>
          <p:nvPr/>
        </p:nvSpPr>
        <p:spPr>
          <a:xfrm>
            <a:off x="3381480" y="2643120"/>
            <a:ext cx="4500360" cy="936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the mission/purpose of your compa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you feel your job importa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>
            <a:off x="4452840" y="375912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work, do your opin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seem to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4881600" y="4973760"/>
            <a:ext cx="4500360" cy="107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last month, have you recei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gnition or praise from your supervi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doing good wor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3DAD-B62B-491C-8DE1-AC057760C2E8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41047"/>
          <p:cNvPicPr/>
          <p:nvPr/>
        </p:nvPicPr>
        <p:blipFill>
          <a:blip r:embed="rId1"/>
          <a:stretch/>
        </p:blipFill>
        <p:spPr>
          <a:xfrm>
            <a:off x="5457960" y="1628640"/>
            <a:ext cx="4176720" cy="45370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76108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631800" y="1557360"/>
            <a:ext cx="46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Verdana"/>
              </a:rPr>
              <a:t>Q: Overall speaking, are your associates committed to doing quality work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136520" y="2421000"/>
            <a:ext cx="2305080" cy="22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dc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3225960" y="3787920"/>
            <a:ext cx="1657080" cy="1582560"/>
          </a:xfrm>
          <a:prstGeom prst="ellipse">
            <a:avLst/>
          </a:prstGeom>
          <a:gradFill rotWithShape="0">
            <a:gsLst>
              <a:gs pos="0">
                <a:srgbClr val="004d00"/>
              </a:gs>
              <a:gs pos="50000">
                <a:srgbClr val="008000"/>
              </a:gs>
              <a:gs pos="100000">
                <a:srgbClr val="004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-ha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2073240" y="4724280"/>
            <a:ext cx="936720" cy="93672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4d00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1A55-8B0B-42A5-BBF0-FEBBD4CFFCD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0357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Morale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91"/>
          <p:cNvSpPr/>
          <p:nvPr/>
        </p:nvSpPr>
        <p:spPr>
          <a:xfrm>
            <a:off x="631800" y="1628640"/>
            <a:ext cx="8567640" cy="2876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2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4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3F58-ADEA-497D-93A2-B901709E88CF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j0439360"/>
          <p:cNvPicPr/>
          <p:nvPr/>
        </p:nvPicPr>
        <p:blipFill>
          <a:blip r:embed="rId1"/>
          <a:stretch/>
        </p:blipFill>
        <p:spPr>
          <a:xfrm>
            <a:off x="6392880" y="1628640"/>
            <a:ext cx="331452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6898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631800" y="1557360"/>
            <a:ext cx="554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Verdana"/>
              </a:rPr>
              <a:t>Q: Does the mission/purpose of your company make you feel your job important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Organization Chart 24"/>
          <p:cNvGrpSpPr/>
          <p:nvPr/>
        </p:nvGrpSpPr>
        <p:grpSpPr>
          <a:xfrm>
            <a:off x="560520" y="2421000"/>
            <a:ext cx="6695280" cy="3312000"/>
            <a:chOff x="560520" y="2421000"/>
            <a:chExt cx="6695280" cy="3312000"/>
          </a:xfrm>
        </p:grpSpPr>
        <p:cxnSp>
          <p:nvCxnSpPr>
            <p:cNvPr id="311" name="_s992287"/>
            <p:cNvCxnSpPr>
              <a:stCxn id="312" idx="0"/>
              <a:endCxn id="313" idx="2"/>
            </p:cNvCxnSpPr>
            <p:nvPr/>
          </p:nvCxnSpPr>
          <p:spPr>
            <a:xfrm flipV="1" rot="16200000">
              <a:off x="4748040" y="2904840"/>
              <a:ext cx="663120" cy="2343960"/>
            </a:xfrm>
            <a:prstGeom prst="bentConnector3">
              <a:avLst>
                <a:gd name="adj1" fmla="val 20912"/>
              </a:avLst>
            </a:prstGeom>
            <a:ln w="19080">
              <a:solidFill>
                <a:srgbClr val="969696"/>
              </a:solidFill>
              <a:miter/>
            </a:ln>
          </p:spPr>
        </p:cxnSp>
        <p:cxnSp>
          <p:nvCxnSpPr>
            <p:cNvPr id="314" name="_s992286"/>
            <p:cNvCxnSpPr>
              <a:stCxn id="315" idx="0"/>
              <a:endCxn id="313" idx="2"/>
            </p:cNvCxnSpPr>
            <p:nvPr/>
          </p:nvCxnSpPr>
          <p:spPr>
            <a:xfrm flipV="1">
              <a:off x="3907800" y="3745440"/>
              <a:ext cx="3240" cy="66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6" name="_s992285"/>
            <p:cNvCxnSpPr>
              <a:stCxn id="317" idx="0"/>
              <a:endCxn id="313" idx="2"/>
            </p:cNvCxnSpPr>
            <p:nvPr/>
          </p:nvCxnSpPr>
          <p:spPr>
            <a:xfrm flipH="1" flipV="1" rot="5400000">
              <a:off x="2404440" y="2904840"/>
              <a:ext cx="663120" cy="2343960"/>
            </a:xfrm>
            <a:prstGeom prst="bentConnector3">
              <a:avLst>
                <a:gd name="adj1" fmla="val 20912"/>
              </a:avLst>
            </a:prstGeom>
            <a:ln w="19080">
              <a:solidFill>
                <a:srgbClr val="969696"/>
              </a:solidFill>
              <a:miter/>
            </a:ln>
          </p:spPr>
        </p:cxnSp>
        <p:sp>
          <p:nvSpPr>
            <p:cNvPr id="313" name="_s992281"/>
            <p:cNvSpPr/>
            <p:nvPr/>
          </p:nvSpPr>
          <p:spPr>
            <a:xfrm>
              <a:off x="2903760" y="24210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e3e3e3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mportant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992282"/>
            <p:cNvSpPr/>
            <p:nvPr/>
          </p:nvSpPr>
          <p:spPr>
            <a:xfrm>
              <a:off x="560520" y="44082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3b600"/>
                </a:gs>
                <a:gs pos="50000">
                  <a:srgbClr val="ffcc00"/>
                </a:gs>
                <a:gs pos="100000">
                  <a:srgbClr val="e3b6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o idea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( 8% 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992283"/>
            <p:cNvSpPr/>
            <p:nvPr/>
          </p:nvSpPr>
          <p:spPr>
            <a:xfrm>
              <a:off x="2903760" y="44082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688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mporta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( 60% 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992284"/>
            <p:cNvSpPr/>
            <p:nvPr/>
          </p:nvSpPr>
          <p:spPr>
            <a:xfrm>
              <a:off x="5247360" y="44082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65098"/>
                  </a:srgbClr>
                </a:gs>
                <a:gs pos="100000">
                  <a:srgbClr val="7a007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ot Importa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( 33% 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33"/>
          <p:cNvSpPr/>
          <p:nvPr/>
        </p:nvSpPr>
        <p:spPr>
          <a:xfrm>
            <a:off x="1424160" y="5786280"/>
            <a:ext cx="44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* No idea includes “Don’t know/hard to say”, “No missions” and No idea with the company mission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902-5B91-49BC-8113-40EF8D2BF08C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626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Ethos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74"/>
          <p:cNvSpPr/>
          <p:nvPr/>
        </p:nvSpPr>
        <p:spPr>
          <a:xfrm>
            <a:off x="560520" y="2492280"/>
            <a:ext cx="8567640" cy="28728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5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6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C7C-523C-4B9D-9671-C1E08885CFD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j0433150"/>
          <p:cNvPicPr/>
          <p:nvPr/>
        </p:nvPicPr>
        <p:blipFill>
          <a:blip r:embed="rId1"/>
          <a:stretch/>
        </p:blipFill>
        <p:spPr>
          <a:xfrm>
            <a:off x="4962600" y="1969920"/>
            <a:ext cx="4743360" cy="3162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line of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8360" y="1557360"/>
            <a:ext cx="4719600" cy="405936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tudy Desig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urvey Finding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Job seeking / staff reten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Job satisfa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Employee engagemen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357-C494-4B63-839F-A320AFFCEAD1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54508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13" descr="j0431735"/>
          <p:cNvPicPr/>
          <p:nvPr/>
        </p:nvPicPr>
        <p:blipFill>
          <a:blip r:embed="rId1"/>
          <a:stretch/>
        </p:blipFill>
        <p:spPr>
          <a:xfrm>
            <a:off x="5889600" y="170028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631800" y="17002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Verdana"/>
              </a:rPr>
              <a:t>Q: At work, do your opinions usually seem to count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2217240" y="25653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863520" y="25653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2404800" y="31258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842280" y="3125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1334880" y="371628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3813480" y="3716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2301840" y="4581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d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828240" y="4581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2647800" y="5222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3900960" y="52228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6" descr="arrow-yellow"/>
          <p:cNvPicPr/>
          <p:nvPr/>
        </p:nvPicPr>
        <p:blipFill>
          <a:blip r:embed="rId2"/>
          <a:srcRect l="61942" t="0" r="0" b="27367"/>
          <a:stretch/>
        </p:blipFill>
        <p:spPr>
          <a:xfrm rot="931800">
            <a:off x="3730320" y="3981240"/>
            <a:ext cx="1008000" cy="6951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7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619-7388-4562-8699-4E759E32D976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3216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Respect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74"/>
          <p:cNvSpPr/>
          <p:nvPr/>
        </p:nvSpPr>
        <p:spPr>
          <a:xfrm>
            <a:off x="560520" y="3645000"/>
            <a:ext cx="8567640" cy="28728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5"/>
          <p:cNvSpPr/>
          <p:nvPr/>
        </p:nvSpPr>
        <p:spPr>
          <a:xfrm rot="16200000">
            <a:off x="-360" y="359640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6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頁尾版面配置區 4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投影片編號版面配置區 5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CB6-4B68-440A-8E5B-E8A8ADC17AA8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6392880" y="2421000"/>
            <a:ext cx="2663640" cy="259236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1839960" y="476100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cc"/>
                </a:solidFill>
                <a:latin typeface="Wingdings"/>
                <a:ea typeface="Wingdings"/>
              </a:rPr>
              <a:t>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7384680" y="4851360"/>
            <a:ext cx="75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3" descr="j0409628"/>
          <p:cNvPicPr/>
          <p:nvPr/>
        </p:nvPicPr>
        <p:blipFill>
          <a:blip r:embed="rId1"/>
          <a:stretch/>
        </p:blipFill>
        <p:spPr>
          <a:xfrm>
            <a:off x="3417840" y="2635200"/>
            <a:ext cx="2830680" cy="30258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08160" y="1801800"/>
            <a:ext cx="73324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Verdana"/>
              </a:rPr>
              <a:t>Q: In the last month, have you received recognition or praise from your supervisor for doing good work?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1281240" y="2852640"/>
            <a:ext cx="2087280" cy="20163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4" descr="arrow-yellow"/>
          <p:cNvPicPr/>
          <p:nvPr/>
        </p:nvPicPr>
        <p:blipFill>
          <a:blip r:embed="rId2"/>
          <a:srcRect l="61942" t="0" r="0" b="27367"/>
          <a:stretch/>
        </p:blipFill>
        <p:spPr>
          <a:xfrm rot="534000">
            <a:off x="6896160" y="3894120"/>
            <a:ext cx="1511280" cy="6955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5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A37-90A0-449A-AD96-AC9EA7E23427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689292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Recognition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74"/>
          <p:cNvSpPr/>
          <p:nvPr/>
        </p:nvSpPr>
        <p:spPr>
          <a:xfrm>
            <a:off x="560520" y="5084640"/>
            <a:ext cx="8567640" cy="2876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5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6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5DB9-1D12-419F-8E04-078394AC829E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ale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Object 3"/>
          <p:cNvGraphicFramePr/>
          <p:nvPr/>
        </p:nvGraphicFramePr>
        <p:xfrm>
          <a:off x="1523880" y="1214280"/>
          <a:ext cx="69976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4280"/>
                    <a:ext cx="69976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Line 4"/>
          <p:cNvSpPr/>
          <p:nvPr/>
        </p:nvSpPr>
        <p:spPr>
          <a:xfrm flipV="1">
            <a:off x="1523880" y="1500120"/>
            <a:ext cx="34920" cy="367200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23800" y="3000240"/>
            <a:ext cx="180036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>
            <a:off x="1809720" y="5786280"/>
            <a:ext cx="619272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2595600" y="5572080"/>
            <a:ext cx="446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Associates committed to doing quality wor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"/>
          <p:cNvSpPr/>
          <p:nvPr/>
        </p:nvSpPr>
        <p:spPr>
          <a:xfrm flipV="1">
            <a:off x="8453520" y="1643040"/>
            <a:ext cx="34920" cy="367200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7738920" y="3143160"/>
            <a:ext cx="180036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15F8-5603-4803-8633-7D0736DBCE1A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6786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os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Object 3"/>
          <p:cNvGraphicFramePr/>
          <p:nvPr/>
        </p:nvGraphicFramePr>
        <p:xfrm>
          <a:off x="1576440" y="1265400"/>
          <a:ext cx="666108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265400"/>
                    <a:ext cx="666108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Line 4"/>
          <p:cNvSpPr/>
          <p:nvPr/>
        </p:nvSpPr>
        <p:spPr>
          <a:xfrm flipV="1">
            <a:off x="1309680" y="1714680"/>
            <a:ext cx="0" cy="331128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80880" y="2928960"/>
            <a:ext cx="18734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"/>
          <p:cNvSpPr/>
          <p:nvPr/>
        </p:nvSpPr>
        <p:spPr>
          <a:xfrm>
            <a:off x="1595520" y="5786280"/>
            <a:ext cx="676728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2095560" y="5572080"/>
            <a:ext cx="58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Does company mission make you feel your job importa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 flipV="1">
            <a:off x="8381880" y="1642680"/>
            <a:ext cx="0" cy="33116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7453440" y="3000240"/>
            <a:ext cx="180000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2EF-3483-4DDE-9460-A5D1E0EA236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6898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ect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1568520" y="1197000"/>
          <a:ext cx="69976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197000"/>
                    <a:ext cx="69976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4"/>
          <p:cNvSpPr/>
          <p:nvPr/>
        </p:nvSpPr>
        <p:spPr>
          <a:xfrm flipV="1">
            <a:off x="1238400" y="1571400"/>
            <a:ext cx="34920" cy="36716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3840" y="2928960"/>
            <a:ext cx="174420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1881360" y="5805360"/>
            <a:ext cx="571500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2666880" y="5572080"/>
            <a:ext cx="381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Do your opinions cou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453520" y="1643040"/>
            <a:ext cx="34920" cy="367200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7667640" y="3143160"/>
            <a:ext cx="172872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9C7-C5E0-467E-B40E-F42349CFFA8B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40872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1309680" y="1285920"/>
          <a:ext cx="69976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285920"/>
                    <a:ext cx="69976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Line 4"/>
          <p:cNvSpPr/>
          <p:nvPr/>
        </p:nvSpPr>
        <p:spPr>
          <a:xfrm flipV="1">
            <a:off x="1380960" y="1643040"/>
            <a:ext cx="0" cy="367200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80880" y="3000240"/>
            <a:ext cx="20163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2023920" y="5857920"/>
            <a:ext cx="525312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309840" y="5643720"/>
            <a:ext cx="280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raise in last month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8024760" y="1643040"/>
            <a:ext cx="0" cy="367200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7310520" y="3071880"/>
            <a:ext cx="172872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ACEF-A22A-43ED-B675-A585999ABE8E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7500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ee Engagement and Staff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95480" y="1214280"/>
            <a:ext cx="7488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2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ult of discriminant analysi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pect – opinion treasur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cognition – praise from supervis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orale – commitment to quality wor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thos – company mis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2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頁尾版面配置區 3"/>
          <p:cNvSpPr/>
          <p:nvPr/>
        </p:nvSpPr>
        <p:spPr>
          <a:xfrm>
            <a:off x="4667400" y="650088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投影片編號版面配置區 4"/>
          <p:cNvSpPr/>
          <p:nvPr/>
        </p:nvSpPr>
        <p:spPr>
          <a:xfrm>
            <a:off x="8881920" y="642924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7C1-04B2-427F-80F2-4DB70AA18D65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32176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isfaction, Engagement, Retention (aggregat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3" descr="j0316807"/>
          <p:cNvPicPr/>
          <p:nvPr/>
        </p:nvPicPr>
        <p:blipFill>
          <a:blip r:embed="rId1"/>
          <a:stretch/>
        </p:blipFill>
        <p:spPr>
          <a:xfrm>
            <a:off x="1238400" y="3143160"/>
            <a:ext cx="1368360" cy="1000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j0382634"/>
          <p:cNvPicPr/>
          <p:nvPr/>
        </p:nvPicPr>
        <p:blipFill>
          <a:blip r:embed="rId2"/>
          <a:stretch/>
        </p:blipFill>
        <p:spPr>
          <a:xfrm>
            <a:off x="1595520" y="5429160"/>
            <a:ext cx="868320" cy="66060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5"/>
          <p:cNvSpPr/>
          <p:nvPr/>
        </p:nvSpPr>
        <p:spPr>
          <a:xfrm>
            <a:off x="2309760" y="5572080"/>
            <a:ext cx="142884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Compens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6" descr="j0078616"/>
          <p:cNvPicPr/>
          <p:nvPr/>
        </p:nvPicPr>
        <p:blipFill>
          <a:blip r:embed="rId3"/>
          <a:stretch/>
        </p:blipFill>
        <p:spPr>
          <a:xfrm>
            <a:off x="666720" y="1357200"/>
            <a:ext cx="1857240" cy="1357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7"/>
          <p:cNvSpPr/>
          <p:nvPr/>
        </p:nvSpPr>
        <p:spPr>
          <a:xfrm>
            <a:off x="2023920" y="1785960"/>
            <a:ext cx="165924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"/>
          <p:cNvPicPr/>
          <p:nvPr/>
        </p:nvPicPr>
        <p:blipFill>
          <a:blip r:embed="rId4"/>
          <a:stretch/>
        </p:blipFill>
        <p:spPr>
          <a:xfrm>
            <a:off x="2166840" y="4357800"/>
            <a:ext cx="1225800" cy="78588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9"/>
          <p:cNvSpPr/>
          <p:nvPr/>
        </p:nvSpPr>
        <p:spPr>
          <a:xfrm>
            <a:off x="2238480" y="342900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3238560" y="4643280"/>
            <a:ext cx="1428840" cy="297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Job Na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"/>
          <p:cNvPicPr/>
          <p:nvPr/>
        </p:nvPicPr>
        <p:blipFill>
          <a:blip r:embed="rId5"/>
          <a:stretch/>
        </p:blipFill>
        <p:spPr>
          <a:xfrm>
            <a:off x="5595840" y="5429160"/>
            <a:ext cx="868320" cy="66528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2"/>
          <p:cNvSpPr/>
          <p:nvPr/>
        </p:nvSpPr>
        <p:spPr>
          <a:xfrm>
            <a:off x="6310440" y="5643720"/>
            <a:ext cx="1214280" cy="2142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Advanc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>
            <a:off x="3738600" y="542916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Safe Working Environ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Job Secur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Salary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Benef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Work Flexibil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4"/>
          <p:cNvSpPr/>
          <p:nvPr/>
        </p:nvSpPr>
        <p:spPr>
          <a:xfrm>
            <a:off x="3595680" y="1428840"/>
            <a:ext cx="5286240" cy="1071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Full play to Potentials and Autono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d0d0d"/>
                </a:solidFill>
                <a:latin typeface="Arial"/>
              </a:rPr>
              <a:t>Relationship with Supervisor/Manag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Arial"/>
              </a:rPr>
              <a:t>-    Management Recogni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5"/>
          <p:cNvSpPr/>
          <p:nvPr/>
        </p:nvSpPr>
        <p:spPr>
          <a:xfrm>
            <a:off x="3952800" y="321480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Relationship with Co-wor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    Network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    Contribution to the Organiz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6"/>
          <p:cNvSpPr/>
          <p:nvPr/>
        </p:nvSpPr>
        <p:spPr>
          <a:xfrm>
            <a:off x="4595760" y="4357800"/>
            <a:ext cx="2786040" cy="714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Arial"/>
              </a:rPr>
              <a:t>-  Job Nature and Meaningfuln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-   Job Vari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-   Corporate Cultur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7"/>
          <p:cNvSpPr/>
          <p:nvPr/>
        </p:nvSpPr>
        <p:spPr>
          <a:xfrm>
            <a:off x="7596360" y="5429160"/>
            <a:ext cx="2000160" cy="663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Professional Develop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Career Advancement Opportunit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9"/>
          <p:cNvSpPr/>
          <p:nvPr/>
        </p:nvSpPr>
        <p:spPr>
          <a:xfrm>
            <a:off x="7601040" y="4429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Eth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0"/>
          <p:cNvSpPr/>
          <p:nvPr/>
        </p:nvSpPr>
        <p:spPr>
          <a:xfrm>
            <a:off x="7886160" y="3429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Mor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2"/>
          <p:cNvSpPr/>
          <p:nvPr/>
        </p:nvSpPr>
        <p:spPr>
          <a:xfrm>
            <a:off x="5400720" y="25002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ect and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24B-EF57-4DEE-B8DE-969F53D635FA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321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imple Model of Staff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80920" y="1785960"/>
            <a:ext cx="3357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524480" y="2071800"/>
            <a:ext cx="1143000" cy="647640"/>
          </a:xfrm>
          <a:prstGeom prst="rightArrow">
            <a:avLst>
              <a:gd name="adj1" fmla="val 51454"/>
              <a:gd name="adj2" fmla="val 54743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952960" y="1785960"/>
            <a:ext cx="309888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23840" y="3357720"/>
            <a:ext cx="3214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mpen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job 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dvanc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952960" y="3357720"/>
            <a:ext cx="3098880" cy="1313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: Will you consider looking for a new job in the coming three month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A8A0-1E76-4B09-911A-0118F8DBF768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77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48880" y="1285560"/>
            <a:ext cx="8155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Quality Workplace Index surveys have repeatedly shown that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job satisfaction and staff retention are closely related, both during economic recession or recovery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Our latest survey introduces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employee engagement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as a variable of job satisfaction and staff retention, yielding very useful result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When sufficient data is collected over time, more sophisticated analyses on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different job and industrial sectors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could be performed, on the relationships among job satisfaction, employee engagement and staff retention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Customized tests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can also be developed to suit the need of individual firms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to facilitate the retention of talents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頁尾版面配置區 1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投影片編號版面配置區 2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27C-5883-4E6F-B1E4-F445524653EF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0520" y="2492280"/>
            <a:ext cx="5106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0727-109C-4676-AF57-7F2362B8DE75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80920" y="1785960"/>
            <a:ext cx="3357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595680" y="4286160"/>
            <a:ext cx="331164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524480" y="2071800"/>
            <a:ext cx="1143000" cy="647640"/>
          </a:xfrm>
          <a:prstGeom prst="rightArrow">
            <a:avLst>
              <a:gd name="adj1" fmla="val 51454"/>
              <a:gd name="adj2" fmla="val 54743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 rot="12973200">
            <a:off x="3710160" y="331416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1402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952960" y="1785960"/>
            <a:ext cx="309888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18732600">
            <a:off x="5848920" y="333000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826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631800" y="476280"/>
            <a:ext cx="5321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imple Model of Staff Re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472A-0A7D-43FA-A627-1F4D89F27346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y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000160" y="2328480"/>
            <a:ext cx="2303640" cy="42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urvey Appro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48160" y="2322000"/>
            <a:ext cx="4248000" cy="44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ndom telephone survey using CATI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448160" y="2819160"/>
            <a:ext cx="4248000" cy="407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ct 5-16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000160" y="2819520"/>
            <a:ext cx="2303640" cy="40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Fieldwork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000160" y="3321000"/>
            <a:ext cx="2303640" cy="3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arget Respond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448160" y="3321000"/>
            <a:ext cx="4248000" cy="36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K working population of age 18 or abo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000160" y="3820320"/>
            <a:ext cx="2303640" cy="34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ample Siz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448160" y="3820320"/>
            <a:ext cx="4248000" cy="344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= 1,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023920" y="1359000"/>
            <a:ext cx="2279880" cy="42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urvey Des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449600" y="1322280"/>
            <a:ext cx="4248360" cy="61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-developed by HKUPOP and HeadlineJobs, present’n prepared by Sing Tao Research &amp; Development Dep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073240" y="5695560"/>
            <a:ext cx="2303640" cy="38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arget Respond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4521240" y="5671080"/>
            <a:ext cx="4248000" cy="42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adlineJobs visitors (N=526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073240" y="5228640"/>
            <a:ext cx="2303640" cy="38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urvey Appro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4521240" y="5228280"/>
            <a:ext cx="4248000" cy="40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line survey (conducted by HeadlineJob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2000160" y="4302000"/>
            <a:ext cx="2303640" cy="3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Weigh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4448160" y="4323240"/>
            <a:ext cx="4248000" cy="363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urced  from C&amp;SD - General Household Survey (Apr-Jun 2009) on HK working population of age 15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1784520" y="2100240"/>
            <a:ext cx="7129440" cy="273528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4119480" y="1968480"/>
            <a:ext cx="2633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Survey: Working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1784520" y="4941720"/>
            <a:ext cx="7129440" cy="1224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584520" y="4853160"/>
            <a:ext cx="3889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ementary Survey: Active Job-Seek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76EB-C6E0-4D5E-91F5-371C5915FF1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1070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eeking Rate for Employees</a:t>
            </a:r>
            <a:br>
              <a:rPr sz="24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job market leading indica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485640" y="1357200"/>
          <a:ext cx="619632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357200"/>
                    <a:ext cx="619632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5"/>
          <p:cNvSpPr/>
          <p:nvPr/>
        </p:nvSpPr>
        <p:spPr>
          <a:xfrm>
            <a:off x="1496880" y="595008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2" descr=""/>
          <p:cNvPicPr/>
          <p:nvPr/>
        </p:nvPicPr>
        <p:blipFill>
          <a:blip r:embed="rId3"/>
          <a:stretch/>
        </p:blipFill>
        <p:spPr>
          <a:xfrm>
            <a:off x="6465960" y="1700280"/>
            <a:ext cx="3217680" cy="3921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4"/>
          <p:cNvSpPr/>
          <p:nvPr/>
        </p:nvSpPr>
        <p:spPr>
          <a:xfrm>
            <a:off x="4523400" y="458136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Apr-Jun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524560" y="4572360"/>
            <a:ext cx="1441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Provisional figures for Aug-Oct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E8F9-2746-4E85-9BE1-33CD82DA9D5E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8215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Level for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72880" y="1197000"/>
          <a:ext cx="64486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197000"/>
                    <a:ext cx="64486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424160" y="5756400"/>
            <a:ext cx="51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Satisfied” refers to the percentage of respondents who were very satisfied or quite satisfied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Dissatisfied” refers to the percentage of respondents who were not quite satisfied or not satisfied at all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j0401003"/>
          <p:cNvPicPr/>
          <p:nvPr/>
        </p:nvPicPr>
        <p:blipFill>
          <a:blip r:embed="rId3"/>
          <a:stretch/>
        </p:blipFill>
        <p:spPr>
          <a:xfrm>
            <a:off x="6753240" y="692280"/>
            <a:ext cx="278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04B-A7C4-49F3-A822-FF29B61614A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8928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Levels Comp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380880" y="1357200"/>
          <a:ext cx="64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57200"/>
                    <a:ext cx="64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4"/>
          <p:cNvSpPr/>
          <p:nvPr/>
        </p:nvSpPr>
        <p:spPr>
          <a:xfrm>
            <a:off x="1279440" y="587844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% Satisfied” refers to the percentage of respondents who were very satisfied or quite satisfied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281240" y="6021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1: HeadlineJobs visitors, HeadlineJobs Online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2: Employees of age 18 or above,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j0442491"/>
          <p:cNvPicPr/>
          <p:nvPr/>
        </p:nvPicPr>
        <p:blipFill>
          <a:blip r:embed="rId3"/>
          <a:stretch/>
        </p:blipFill>
        <p:spPr>
          <a:xfrm>
            <a:off x="6681960" y="1484280"/>
            <a:ext cx="28828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C50-DD3F-48C9-B970-D8B8322BC4F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7816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of Your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Object 3"/>
          <p:cNvGraphicFramePr/>
          <p:nvPr/>
        </p:nvGraphicFramePr>
        <p:xfrm>
          <a:off x="272880" y="1476360"/>
          <a:ext cx="615960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476360"/>
                    <a:ext cx="61596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1568520" y="6021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Target: Employers and employees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568520" y="5878440"/>
            <a:ext cx="511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% Satisfied” refers to the percentage of respondents who were very satisfied or quite satisfied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j0423037"/>
          <p:cNvPicPr/>
          <p:nvPr/>
        </p:nvPicPr>
        <p:blipFill>
          <a:blip r:embed="rId3"/>
          <a:stretch/>
        </p:blipFill>
        <p:spPr>
          <a:xfrm>
            <a:off x="6345360" y="2060640"/>
            <a:ext cx="336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0:36:53Z</dcterms:created>
  <dc:creator>Lee Lap Yin</dc:creator>
  <dc:description/>
  <dc:language>en-US</dc:language>
  <cp:lastModifiedBy>joseph</cp:lastModifiedBy>
  <dcterms:modified xsi:type="dcterms:W3CDTF">2009-12-09T04:58:15Z</dcterms:modified>
  <cp:revision>879</cp:revision>
  <dc:subject>Event Presentation</dc:subject>
  <dc:title>HeadlineJobs Quality Workplace Index 09H1</dc:title>
</cp:coreProperties>
</file>