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3.jpeg" ContentType="image/jpeg"/>
  <Override PartName="/ppt/media/image6.jpeg" ContentType="image/jpeg"/>
  <Override PartName="/ppt/media/image8.png" ContentType="image/png"/>
  <Override PartName="/ppt/media/image16.wmf" ContentType="image/x-wmf"/>
  <Override PartName="/ppt/media/image12.wmf" ContentType="image/x-wmf"/>
  <Override PartName="/ppt/media/image4.jpeg" ContentType="image/jpeg"/>
  <Override PartName="/ppt/media/image10.wmf" ContentType="image/x-wmf"/>
  <Override PartName="/ppt/media/image25.jpeg" ContentType="image/jpeg"/>
  <Override PartName="/ppt/media/image2.png" ContentType="image/png"/>
  <Override PartName="/ppt/media/image32.png" ContentType="image/png"/>
  <Override PartName="/ppt/media/image7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26.wmf" ContentType="image/x-wmf"/>
  <Override PartName="/ppt/media/image17.jpeg" ContentType="image/jpeg"/>
  <Override PartName="/ppt/media/image19.wmf" ContentType="image/x-wmf"/>
  <Override PartName="/ppt/media/image21.jpeg" ContentType="image/jpeg"/>
  <Override PartName="/ppt/media/image22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907588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728280" y="747720"/>
            <a:ext cx="54054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7"/>
          </p:nvPr>
        </p:nvSpPr>
        <p:spPr>
          <a:xfrm>
            <a:off x="-360" y="947700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8"/>
          </p:nvPr>
        </p:nvSpPr>
        <p:spPr>
          <a:xfrm>
            <a:off x="3884400" y="947700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8A48-CACE-406E-B937-B4A8BF0D1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70CE-DEF7-4449-9D6B-E0A841C8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48AF-C625-460F-96E2-88D90F7B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E48B-CB04-4AE3-BDB6-B29B64B00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E60-E1B9-4E2F-814F-7682AFD04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55F4-92E1-4DD4-BDDB-5D7F7E76B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F524-6413-45CE-A02A-31927358D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B95D-E5CF-4F38-B276-31C61DBB2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2197-89F1-45D9-9D40-C43902B9B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CE2D-90D6-41B6-AE2E-5D5D663F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5B49-4049-448D-B30F-938E37AE8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D827-E13B-4749-92B9-B756D77D3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C5F8-E629-4B52-B57D-A033C6DCC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91E8-1E9F-4C43-9628-D8144BEC8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4A6C-AE95-4022-B4A9-21FEC8976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0347-0CE0-4069-9265-C5F1752AF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7DBF-2CAA-44A3-9E0A-D16A68B30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9DFE-46BD-490E-9736-400B9534D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27EC-AE8F-4683-BDC7-E1D99CEB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6FDE-4660-48D6-B590-E9B6A2150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02D0-642E-4518-AE15-6FC6D1525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0FAF-603F-4917-888E-8BFC42CC0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9AAE-1C7E-4BAB-8E80-3EEB30717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C972-8E81-48D5-861E-7B35AA035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CFBB-D383-4D72-A25D-F185BC47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F9AA-AC10-48A5-8FB0-E1ED2E2B2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49B6-28C3-40EB-AC66-1FC8542D1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FC85-24B5-4AB4-B582-8A3210B2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DEF-F45D-4C2C-8E75-EC83A440C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51CA-B071-4D1A-B8B2-C45778CB4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9B93-4B31-47D8-A3EA-6DD9953D1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ACEA-93FA-4DA3-A41A-9697B3B43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9EEC-CA5D-4AA6-9091-486B9BA4A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25400" y="747720"/>
            <a:ext cx="5408640" cy="374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C66B-F6B9-4A31-A725-12176CBA0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25400" y="747720"/>
            <a:ext cx="5408640" cy="3743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3D48-6F7C-4EDB-88F9-C090C4526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25400" y="747720"/>
            <a:ext cx="5408640" cy="37432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CE52-6CA3-4ADB-8BF4-CD046CFD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25400" y="747720"/>
            <a:ext cx="5408640" cy="3743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947736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D587-491E-4507-9E40-9BD29345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28640" y="74772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7240" y="4740120"/>
            <a:ext cx="548496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7211-2135-46C2-9243-C02EEA543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C29D-6F71-4903-8E22-0E7120461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D7FF-6E48-490B-83FE-1346FEA0C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86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488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86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06BB-5AD6-438F-98A1-E134D412D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B87B9-9934-4B3A-8CE0-310A28ED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75BA6-EC7C-4C48-9F4E-71FD270A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AF65E-C52C-49CD-A057-7BF3C711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E93EF-6F2E-4935-B6B7-1570A07B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37E9E-04AF-4FE8-93A6-ABE5C0B0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31800" y="476280"/>
            <a:ext cx="58341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77E17-552B-4990-B080-80B27AC2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1F89D-8FCE-4F19-BFBA-1BFF830A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6D597-E81B-4CC9-AE74-24DFBF08D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980DC-F3AA-4BB4-B578-2CCA1CE3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70FD5-DF89-4646-BA14-3A1CAB7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F88F6-7115-4BA4-AE24-FCBCF34B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5FD2D-EFAA-4515-ACD5-440EF771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86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488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86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A35FD-03D5-40B8-8E50-583ABEA9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3A18-EC71-4F53-8CDF-CC6BBC00AB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1800" y="476280"/>
            <a:ext cx="58341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860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48680" y="134136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488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860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48680" y="3748680"/>
            <a:ext cx="26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D7A7-C14F-484E-88C2-53ADF865B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BDFC-38B4-4A44-A676-A6F6283A1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1800" y="476280"/>
            <a:ext cx="58341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BAE2-34E3-4390-BE44-2C125F93D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0834-F952-4020-B148-6F888D393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1840" y="374868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DA9C-3041-4962-A9E3-EB93B0036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4888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1840" y="1341360"/>
            <a:ext cx="4040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48880" y="3748680"/>
            <a:ext cx="8280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0C0E-1EE6-44F1-8B80-D56D7B92F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6524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91360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7BF-201A-4EE3-A951-DB8CC04025A3}" type="slidenum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32"/>
          <p:cNvSpPr/>
          <p:nvPr/>
        </p:nvSpPr>
        <p:spPr>
          <a:xfrm>
            <a:off x="200160" y="260280"/>
            <a:ext cx="9505800" cy="6121440"/>
          </a:xfrm>
          <a:prstGeom prst="rect">
            <a:avLst/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9" descr=""/>
          <p:cNvPicPr/>
          <p:nvPr/>
        </p:nvPicPr>
        <p:blipFill>
          <a:blip r:embed="rId2"/>
          <a:stretch/>
        </p:blipFill>
        <p:spPr>
          <a:xfrm>
            <a:off x="128520" y="5950080"/>
            <a:ext cx="1368360" cy="785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33"/>
          <p:cNvSpPr/>
          <p:nvPr/>
        </p:nvSpPr>
        <p:spPr>
          <a:xfrm>
            <a:off x="1412640" y="6467400"/>
            <a:ext cx="25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Quality Workplace Index 2009H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d by Sing Tao Research and Development Dept (Nov 0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088C-C865-4512-BB94-0E9681658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415800" y="333360"/>
            <a:ext cx="9145800" cy="619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9"/>
          <p:cNvGrpSpPr/>
          <p:nvPr/>
        </p:nvGrpSpPr>
        <p:grpSpPr>
          <a:xfrm>
            <a:off x="2073240" y="5229360"/>
            <a:ext cx="2114640" cy="997200"/>
            <a:chOff x="2073240" y="5229360"/>
            <a:chExt cx="2114640" cy="997200"/>
          </a:xfrm>
        </p:grpSpPr>
        <p:pic>
          <p:nvPicPr>
            <p:cNvPr id="86" name="Picture 23" descr=""/>
            <p:cNvPicPr/>
            <p:nvPr/>
          </p:nvPicPr>
          <p:blipFill>
            <a:blip r:embed="rId2"/>
            <a:stretch/>
          </p:blipFill>
          <p:spPr>
            <a:xfrm>
              <a:off x="2073240" y="5229360"/>
              <a:ext cx="1337760" cy="77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25"/>
            <p:cNvSpPr/>
            <p:nvPr/>
          </p:nvSpPr>
          <p:spPr>
            <a:xfrm>
              <a:off x="2129760" y="5980320"/>
              <a:ext cx="205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777777"/>
                  </a:solidFill>
                  <a:latin typeface="Arial"/>
                </a:rPr>
                <a:t>Stop Searching, Start Matching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0"/>
          <p:cNvGrpSpPr/>
          <p:nvPr/>
        </p:nvGrpSpPr>
        <p:grpSpPr>
          <a:xfrm>
            <a:off x="1424160" y="5373720"/>
            <a:ext cx="574560" cy="783360"/>
            <a:chOff x="1424160" y="5373720"/>
            <a:chExt cx="574560" cy="783360"/>
          </a:xfrm>
        </p:grpSpPr>
        <p:graphicFrame>
          <p:nvGraphicFramePr>
            <p:cNvPr id="89" name="Object 13"/>
            <p:cNvGraphicFramePr/>
            <p:nvPr/>
          </p:nvGraphicFramePr>
          <p:xfrm>
            <a:off x="1424160" y="5373720"/>
            <a:ext cx="530640" cy="58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0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24160" y="5373720"/>
                      <a:ext cx="530640" cy="58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Text Box 14"/>
            <p:cNvSpPr/>
            <p:nvPr/>
          </p:nvSpPr>
          <p:spPr>
            <a:xfrm>
              <a:off x="1424160" y="5941440"/>
              <a:ext cx="57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5f5f"/>
                  </a:solidFill>
                  <a:latin typeface="Arial Narrow"/>
                </a:rPr>
                <a:t>HKUPOP 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31" descr="j0411828"/>
          <p:cNvPicPr/>
          <p:nvPr/>
        </p:nvPicPr>
        <p:blipFill>
          <a:blip r:embed="rId5"/>
          <a:stretch/>
        </p:blipFill>
        <p:spPr>
          <a:xfrm>
            <a:off x="560520" y="658800"/>
            <a:ext cx="4608360" cy="3922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4888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7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95680" y="4214880"/>
            <a:ext cx="5965920" cy="1085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b Satisfaction and Employment Engagemen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lineJobs Quality Workplace Index (2009H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92520" y="5300640"/>
            <a:ext cx="48643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Public Opinion Programme at the University of Hong Kong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Sing Tao Research and Development Departmen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0CDB-211A-4B08-ADC7-44C0B921C923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393040" cy="66024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5 Main Drivers and 16 Factors (recap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j0316807"/>
          <p:cNvPicPr/>
          <p:nvPr/>
        </p:nvPicPr>
        <p:blipFill>
          <a:blip r:embed="rId1"/>
          <a:stretch/>
        </p:blipFill>
        <p:spPr>
          <a:xfrm>
            <a:off x="2576520" y="3284640"/>
            <a:ext cx="1368360" cy="911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j0382634"/>
          <p:cNvPicPr/>
          <p:nvPr/>
        </p:nvPicPr>
        <p:blipFill>
          <a:blip r:embed="rId2"/>
          <a:stretch/>
        </p:blipFill>
        <p:spPr>
          <a:xfrm>
            <a:off x="1281240" y="1339920"/>
            <a:ext cx="1368360" cy="97776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2289240" y="162864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ompen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j0078616"/>
          <p:cNvPicPr/>
          <p:nvPr/>
        </p:nvPicPr>
        <p:blipFill>
          <a:blip r:embed="rId3"/>
          <a:stretch/>
        </p:blipFill>
        <p:spPr>
          <a:xfrm>
            <a:off x="1928880" y="2347920"/>
            <a:ext cx="1368360" cy="9144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7"/>
          <p:cNvSpPr/>
          <p:nvPr/>
        </p:nvSpPr>
        <p:spPr>
          <a:xfrm>
            <a:off x="2936880" y="25639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4"/>
          <a:stretch/>
        </p:blipFill>
        <p:spPr>
          <a:xfrm>
            <a:off x="3225960" y="4221000"/>
            <a:ext cx="1368360" cy="101628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9"/>
          <p:cNvSpPr/>
          <p:nvPr/>
        </p:nvSpPr>
        <p:spPr>
          <a:xfrm>
            <a:off x="3441600" y="3571920"/>
            <a:ext cx="187344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4160880" y="45799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Job N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5"/>
          <a:stretch/>
        </p:blipFill>
        <p:spPr>
          <a:xfrm>
            <a:off x="3728880" y="5300640"/>
            <a:ext cx="144000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2"/>
          <p:cNvSpPr/>
          <p:nvPr/>
        </p:nvSpPr>
        <p:spPr>
          <a:xfrm>
            <a:off x="4737240" y="558792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dvanc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4233960" y="1339920"/>
            <a:ext cx="3240000" cy="1009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Safe Working Environ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Job Securi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Salary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Benef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Work Flexibili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4808520" y="2492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Relationship with Supervisor/Manag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Management Recogni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Full play to Potentials and Autonom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5313240" y="3429000"/>
            <a:ext cx="3095640" cy="792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Relationship with Co-work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Network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ontribution to the Organiza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6"/>
          <p:cNvSpPr/>
          <p:nvPr/>
        </p:nvSpPr>
        <p:spPr>
          <a:xfrm>
            <a:off x="6033960" y="4437000"/>
            <a:ext cx="2735280" cy="792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Job Nature and Meaningfulness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Job Varie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orporate Cul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6537240" y="5445000"/>
            <a:ext cx="2664000" cy="7192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Professional Develop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areer Advancement Opportuniti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56DB-80F2-4411-8814-AB149D4AAC84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s of Job Satisf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Object 5"/>
          <p:cNvGraphicFramePr/>
          <p:nvPr/>
        </p:nvGraphicFramePr>
        <p:xfrm>
          <a:off x="1095480" y="12859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2859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248"/>
          <p:cNvSpPr/>
          <p:nvPr/>
        </p:nvSpPr>
        <p:spPr>
          <a:xfrm>
            <a:off x="633240" y="4508640"/>
            <a:ext cx="8928360" cy="144144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9"/>
          <p:cNvSpPr/>
          <p:nvPr/>
        </p:nvSpPr>
        <p:spPr>
          <a:xfrm rot="16200000">
            <a:off x="104040" y="35942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04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05"/>
          <p:cNvSpPr/>
          <p:nvPr/>
        </p:nvSpPr>
        <p:spPr>
          <a:xfrm>
            <a:off x="8768520" y="9079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s. 09H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880920" y="1357200"/>
          <a:ext cx="871236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3280"/>
                <a:gridCol w="36036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60A7-EB71-4D95-895E-65EC3C615EE2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s of Job Satisfaction (reca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Object 5"/>
          <p:cNvGraphicFramePr/>
          <p:nvPr/>
        </p:nvGraphicFramePr>
        <p:xfrm>
          <a:off x="1089000" y="12733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2733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248"/>
          <p:cNvSpPr/>
          <p:nvPr/>
        </p:nvSpPr>
        <p:spPr>
          <a:xfrm>
            <a:off x="633240" y="4508640"/>
            <a:ext cx="8928360" cy="144144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59"/>
          <p:cNvSpPr/>
          <p:nvPr/>
        </p:nvSpPr>
        <p:spPr>
          <a:xfrm rot="16200000">
            <a:off x="104040" y="35942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04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5"/>
          <p:cNvSpPr/>
          <p:nvPr/>
        </p:nvSpPr>
        <p:spPr>
          <a:xfrm>
            <a:off x="8768520" y="9079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s. 09H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04880" y="1341360"/>
          <a:ext cx="871200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2920"/>
                <a:gridCol w="36036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2638-AE3A-470B-B37E-F970A27080C9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3374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 and Staff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1568520" y="1052640"/>
          <a:ext cx="703584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052640"/>
                    <a:ext cx="70358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Line 4"/>
          <p:cNvSpPr/>
          <p:nvPr/>
        </p:nvSpPr>
        <p:spPr>
          <a:xfrm flipV="1">
            <a:off x="1855800" y="1844640"/>
            <a:ext cx="0" cy="345600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208160" y="2995560"/>
            <a:ext cx="1368360" cy="9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Job change in next 3 month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2289240" y="5732640"/>
            <a:ext cx="5688000" cy="144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944880" y="5516640"/>
            <a:ext cx="201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F346-0AE2-4157-A1E6-EC9D59A1C7A1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38210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Job Retention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880920" y="1785960"/>
            <a:ext cx="3357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595680" y="4286160"/>
            <a:ext cx="331164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loy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4524480" y="2071800"/>
            <a:ext cx="1143000" cy="647640"/>
          </a:xfrm>
          <a:prstGeom prst="rightArrow">
            <a:avLst>
              <a:gd name="adj1" fmla="val 51454"/>
              <a:gd name="adj2" fmla="val 54743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 rot="12973200">
            <a:off x="3710160" y="3314160"/>
            <a:ext cx="792000" cy="647640"/>
          </a:xfrm>
          <a:prstGeom prst="rightArrow">
            <a:avLst>
              <a:gd name="adj1" fmla="val 52935"/>
              <a:gd name="adj2" fmla="val 55574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14028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952960" y="1785960"/>
            <a:ext cx="309888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8732600">
            <a:off x="5848920" y="3330000"/>
            <a:ext cx="792000" cy="647640"/>
          </a:xfrm>
          <a:prstGeom prst="rightArrow">
            <a:avLst>
              <a:gd name="adj1" fmla="val 52935"/>
              <a:gd name="adj2" fmla="val 55574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8268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頁尾版面配置區 3"/>
          <p:cNvSpPr/>
          <p:nvPr/>
        </p:nvSpPr>
        <p:spPr>
          <a:xfrm>
            <a:off x="4665600" y="664056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4"/>
          <p:cNvSpPr/>
          <p:nvPr/>
        </p:nvSpPr>
        <p:spPr>
          <a:xfrm>
            <a:off x="8913960" y="657072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EF02-110F-41F3-9FEA-DCC2874D392D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6249960" cy="66024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loyee Engagement: 4 Main Facto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738360" y="171468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or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1309680" y="292896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2095560" y="414324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Resp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0"/>
          <p:cNvSpPr/>
          <p:nvPr/>
        </p:nvSpPr>
        <p:spPr>
          <a:xfrm>
            <a:off x="2381400" y="5286240"/>
            <a:ext cx="250020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cog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2595600" y="1473120"/>
            <a:ext cx="4357800" cy="928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Overall speaking, are your associ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ommitted to doing quality work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4"/>
          <p:cNvSpPr/>
          <p:nvPr/>
        </p:nvSpPr>
        <p:spPr>
          <a:xfrm>
            <a:off x="3381480" y="2643120"/>
            <a:ext cx="4500360" cy="936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the mission/purpose of your compa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you feel your job importan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4452840" y="3759120"/>
            <a:ext cx="421488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work, do your opin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seem to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4881600" y="4973760"/>
            <a:ext cx="4500360" cy="1071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last month, have you recei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gnition or praise from your supervi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doing good wor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842B-5908-434A-8D9D-A7DB226028BA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j0441047"/>
          <p:cNvPicPr/>
          <p:nvPr/>
        </p:nvPicPr>
        <p:blipFill>
          <a:blip r:embed="rId1"/>
          <a:stretch/>
        </p:blipFill>
        <p:spPr>
          <a:xfrm>
            <a:off x="5457960" y="1628640"/>
            <a:ext cx="4176720" cy="45370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76108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631800" y="1557360"/>
            <a:ext cx="46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f5f5f"/>
                </a:solidFill>
                <a:latin typeface="Verdana"/>
              </a:rPr>
              <a:t>Q: Overall speaking, are your associates committed to doing quality work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1136520" y="2421000"/>
            <a:ext cx="2305080" cy="22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cdc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3225960" y="3787920"/>
            <a:ext cx="1657080" cy="1582560"/>
          </a:xfrm>
          <a:prstGeom prst="ellipse">
            <a:avLst/>
          </a:prstGeom>
          <a:gradFill rotWithShape="0">
            <a:gsLst>
              <a:gs pos="0">
                <a:srgbClr val="004d00"/>
              </a:gs>
              <a:gs pos="50000">
                <a:srgbClr val="008000"/>
              </a:gs>
              <a:gs pos="100000">
                <a:srgbClr val="004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-ha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2073240" y="4724280"/>
            <a:ext cx="936720" cy="93672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4d00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1424160" y="60213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F94-E34E-47A8-B66D-903C4213F62B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0357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Morale-related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0" name="Object 3"/>
          <p:cNvGraphicFramePr/>
          <p:nvPr/>
        </p:nvGraphicFramePr>
        <p:xfrm>
          <a:off x="1089000" y="12733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2733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91"/>
          <p:cNvSpPr/>
          <p:nvPr/>
        </p:nvSpPr>
        <p:spPr>
          <a:xfrm>
            <a:off x="631800" y="1628640"/>
            <a:ext cx="8567640" cy="28764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2"/>
          <p:cNvSpPr/>
          <p:nvPr/>
        </p:nvSpPr>
        <p:spPr>
          <a:xfrm rot="16200000">
            <a:off x="104040" y="35942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4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04880" y="1341360"/>
          <a:ext cx="835164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292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53B6-C999-4A67-A35B-991BCED353A2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1" descr="j0439360"/>
          <p:cNvPicPr/>
          <p:nvPr/>
        </p:nvPicPr>
        <p:blipFill>
          <a:blip r:embed="rId1"/>
          <a:stretch/>
        </p:blipFill>
        <p:spPr>
          <a:xfrm>
            <a:off x="6392880" y="1628640"/>
            <a:ext cx="3314520" cy="4464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68980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22"/>
          <p:cNvSpPr/>
          <p:nvPr/>
        </p:nvSpPr>
        <p:spPr>
          <a:xfrm>
            <a:off x="631800" y="1557360"/>
            <a:ext cx="5543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f5f5f"/>
                </a:solidFill>
                <a:latin typeface="Verdana"/>
              </a:rPr>
              <a:t>Q: Does the mission/purpose of your company make you feel your job important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Organization Chart 24"/>
          <p:cNvGrpSpPr/>
          <p:nvPr/>
        </p:nvGrpSpPr>
        <p:grpSpPr>
          <a:xfrm>
            <a:off x="560520" y="2421000"/>
            <a:ext cx="6695280" cy="3312000"/>
            <a:chOff x="560520" y="2421000"/>
            <a:chExt cx="6695280" cy="3312000"/>
          </a:xfrm>
        </p:grpSpPr>
        <p:cxnSp>
          <p:nvCxnSpPr>
            <p:cNvPr id="322" name="_s992287"/>
            <p:cNvCxnSpPr>
              <a:stCxn id="323" idx="0"/>
              <a:endCxn id="324" idx="2"/>
            </p:cNvCxnSpPr>
            <p:nvPr/>
          </p:nvCxnSpPr>
          <p:spPr>
            <a:xfrm flipV="1" rot="16200000">
              <a:off x="4748040" y="2904840"/>
              <a:ext cx="663120" cy="2343960"/>
            </a:xfrm>
            <a:prstGeom prst="bentConnector3">
              <a:avLst>
                <a:gd name="adj1" fmla="val 20912"/>
              </a:avLst>
            </a:prstGeom>
            <a:ln w="19080">
              <a:solidFill>
                <a:srgbClr val="969696"/>
              </a:solidFill>
              <a:miter/>
            </a:ln>
          </p:spPr>
        </p:cxnSp>
        <p:cxnSp>
          <p:nvCxnSpPr>
            <p:cNvPr id="325" name="_s992286"/>
            <p:cNvCxnSpPr>
              <a:stCxn id="326" idx="0"/>
              <a:endCxn id="324" idx="2"/>
            </p:cNvCxnSpPr>
            <p:nvPr/>
          </p:nvCxnSpPr>
          <p:spPr>
            <a:xfrm flipV="1">
              <a:off x="3907800" y="3745440"/>
              <a:ext cx="3240" cy="66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7" name="_s992285"/>
            <p:cNvCxnSpPr>
              <a:stCxn id="328" idx="0"/>
              <a:endCxn id="324" idx="2"/>
            </p:cNvCxnSpPr>
            <p:nvPr/>
          </p:nvCxnSpPr>
          <p:spPr>
            <a:xfrm flipH="1" flipV="1" rot="5400000">
              <a:off x="2404440" y="2904840"/>
              <a:ext cx="663120" cy="2343960"/>
            </a:xfrm>
            <a:prstGeom prst="bentConnector3">
              <a:avLst>
                <a:gd name="adj1" fmla="val 20912"/>
              </a:avLst>
            </a:prstGeom>
            <a:ln w="19080">
              <a:solidFill>
                <a:srgbClr val="969696"/>
              </a:solidFill>
              <a:miter/>
            </a:ln>
          </p:spPr>
        </p:cxnSp>
        <p:sp>
          <p:nvSpPr>
            <p:cNvPr id="324" name="_s992281"/>
            <p:cNvSpPr/>
            <p:nvPr/>
          </p:nvSpPr>
          <p:spPr>
            <a:xfrm>
              <a:off x="2903760" y="2421000"/>
              <a:ext cx="2008440" cy="132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e3e3e3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mportant?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992282"/>
            <p:cNvSpPr/>
            <p:nvPr/>
          </p:nvSpPr>
          <p:spPr>
            <a:xfrm>
              <a:off x="560520" y="4408200"/>
              <a:ext cx="2008440" cy="132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3b600"/>
                </a:gs>
                <a:gs pos="50000">
                  <a:srgbClr val="ffcc00"/>
                </a:gs>
                <a:gs pos="100000">
                  <a:srgbClr val="e3b60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o idea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( 8% 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992283"/>
            <p:cNvSpPr/>
            <p:nvPr/>
          </p:nvSpPr>
          <p:spPr>
            <a:xfrm>
              <a:off x="2903760" y="4408200"/>
              <a:ext cx="2008440" cy="132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6880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mportan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( 60% 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992284"/>
            <p:cNvSpPr/>
            <p:nvPr/>
          </p:nvSpPr>
          <p:spPr>
            <a:xfrm>
              <a:off x="5247360" y="4408200"/>
              <a:ext cx="2008440" cy="132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>
                    <a:alpha val="65098"/>
                  </a:srgbClr>
                </a:gs>
                <a:gs pos="100000">
                  <a:srgbClr val="7a007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ot Importan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( 33% 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33"/>
          <p:cNvSpPr/>
          <p:nvPr/>
        </p:nvSpPr>
        <p:spPr>
          <a:xfrm>
            <a:off x="1424160" y="5786280"/>
            <a:ext cx="44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* No idea includes “Don’t know/hard to say”, “No missions” and No idea with the company mission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3FE-6BF3-435D-958E-D8F58A90164F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626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Ethos-related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1089000" y="12733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2733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4"/>
          <p:cNvSpPr/>
          <p:nvPr/>
        </p:nvSpPr>
        <p:spPr>
          <a:xfrm>
            <a:off x="560520" y="2492280"/>
            <a:ext cx="8567640" cy="28728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5"/>
          <p:cNvSpPr/>
          <p:nvPr/>
        </p:nvSpPr>
        <p:spPr>
          <a:xfrm rot="16200000">
            <a:off x="104040" y="35942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6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04880" y="1341360"/>
          <a:ext cx="835164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292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35FA-3ACC-4B90-9B40-AA5F05BC7B1C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j0433150"/>
          <p:cNvPicPr/>
          <p:nvPr/>
        </p:nvPicPr>
        <p:blipFill>
          <a:blip r:embed="rId1"/>
          <a:stretch/>
        </p:blipFill>
        <p:spPr>
          <a:xfrm>
            <a:off x="4962600" y="1969920"/>
            <a:ext cx="4743360" cy="3162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line of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85960" y="1557360"/>
            <a:ext cx="4572000" cy="405936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urvey Methodolog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urvey Finding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Job Seeking R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Job Satisfaction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Employee Engagemen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Q&amp;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C74A-A15B-45B4-8B02-D7CFD5B9C9CF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54508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3" descr="j0431735"/>
          <p:cNvPicPr/>
          <p:nvPr/>
        </p:nvPicPr>
        <p:blipFill>
          <a:blip r:embed="rId1"/>
          <a:stretch/>
        </p:blipFill>
        <p:spPr>
          <a:xfrm>
            <a:off x="5889600" y="1700280"/>
            <a:ext cx="3745080" cy="4392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4"/>
          <p:cNvSpPr/>
          <p:nvPr/>
        </p:nvSpPr>
        <p:spPr>
          <a:xfrm>
            <a:off x="631800" y="170028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f5f5f"/>
                </a:solidFill>
                <a:latin typeface="Verdana"/>
              </a:rPr>
              <a:t>Q: At work, do your opinions usually seem to count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217240" y="256536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3863520" y="256536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7"/>
          <p:cNvSpPr/>
          <p:nvPr/>
        </p:nvSpPr>
        <p:spPr>
          <a:xfrm>
            <a:off x="2404800" y="31258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8"/>
          <p:cNvSpPr/>
          <p:nvPr/>
        </p:nvSpPr>
        <p:spPr>
          <a:xfrm>
            <a:off x="3842280" y="3125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1334880" y="371628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3813480" y="37162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1"/>
          <p:cNvSpPr/>
          <p:nvPr/>
        </p:nvSpPr>
        <p:spPr>
          <a:xfrm>
            <a:off x="2301840" y="45813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d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3828240" y="45813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2647800" y="5222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3900960" y="52228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6" descr="arrow-yellow"/>
          <p:cNvPicPr/>
          <p:nvPr/>
        </p:nvPicPr>
        <p:blipFill>
          <a:blip r:embed="rId2"/>
          <a:srcRect l="61942" t="0" r="0" b="27367"/>
          <a:stretch/>
        </p:blipFill>
        <p:spPr>
          <a:xfrm rot="931800">
            <a:off x="3730320" y="3981240"/>
            <a:ext cx="1008000" cy="69516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27"/>
          <p:cNvSpPr/>
          <p:nvPr/>
        </p:nvSpPr>
        <p:spPr>
          <a:xfrm>
            <a:off x="1424160" y="60213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CB33-2164-410C-B06F-5667E51CB6E6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32160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Respect-related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3"/>
          <p:cNvGraphicFramePr/>
          <p:nvPr/>
        </p:nvGraphicFramePr>
        <p:xfrm>
          <a:off x="1089000" y="12733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2733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74"/>
          <p:cNvSpPr/>
          <p:nvPr/>
        </p:nvSpPr>
        <p:spPr>
          <a:xfrm>
            <a:off x="560520" y="3645000"/>
            <a:ext cx="8567640" cy="28728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5"/>
          <p:cNvSpPr/>
          <p:nvPr/>
        </p:nvSpPr>
        <p:spPr>
          <a:xfrm rot="16200000">
            <a:off x="-360" y="359640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6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04880" y="1341360"/>
          <a:ext cx="835164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292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頁尾版面配置區 4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投影片編號版面配置區 5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A630-42E9-4E88-801C-3F61D04302CD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11"/>
          <p:cNvSpPr/>
          <p:nvPr/>
        </p:nvSpPr>
        <p:spPr>
          <a:xfrm>
            <a:off x="6392880" y="2421000"/>
            <a:ext cx="2663640" cy="259236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1839960" y="4761000"/>
            <a:ext cx="9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cc"/>
                </a:solidFill>
                <a:latin typeface="Wingdings"/>
                <a:ea typeface="Wingdings"/>
              </a:rPr>
              <a:t>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7384680" y="4851360"/>
            <a:ext cx="75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Wingdings"/>
                <a:ea typeface="Wingdings"/>
              </a:rPr>
              <a:t>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3" descr="j0409628"/>
          <p:cNvPicPr/>
          <p:nvPr/>
        </p:nvPicPr>
        <p:blipFill>
          <a:blip r:embed="rId1"/>
          <a:stretch/>
        </p:blipFill>
        <p:spPr>
          <a:xfrm>
            <a:off x="3417840" y="2635200"/>
            <a:ext cx="2830680" cy="30258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08160" y="1801800"/>
            <a:ext cx="73324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Verdana"/>
              </a:rPr>
              <a:t>Q: In the last month, have you received recognition or praise from your supervisor for doing good work?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Oval 7"/>
          <p:cNvSpPr/>
          <p:nvPr/>
        </p:nvSpPr>
        <p:spPr>
          <a:xfrm>
            <a:off x="1281240" y="2852640"/>
            <a:ext cx="2087280" cy="201636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42%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4" descr="arrow-yellow"/>
          <p:cNvPicPr/>
          <p:nvPr/>
        </p:nvPicPr>
        <p:blipFill>
          <a:blip r:embed="rId2"/>
          <a:srcRect l="61942" t="0" r="0" b="27367"/>
          <a:stretch/>
        </p:blipFill>
        <p:spPr>
          <a:xfrm rot="534000">
            <a:off x="6896160" y="3894120"/>
            <a:ext cx="1511280" cy="69552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25"/>
          <p:cNvSpPr/>
          <p:nvPr/>
        </p:nvSpPr>
        <p:spPr>
          <a:xfrm>
            <a:off x="1424160" y="60213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05E5-4DE2-4336-9A39-0E8AFCA42FDF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689292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Recognition-related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9" name="Object 3"/>
          <p:cNvGraphicFramePr/>
          <p:nvPr/>
        </p:nvGraphicFramePr>
        <p:xfrm>
          <a:off x="1089000" y="12733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2733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74"/>
          <p:cNvSpPr/>
          <p:nvPr/>
        </p:nvSpPr>
        <p:spPr>
          <a:xfrm>
            <a:off x="560520" y="5084640"/>
            <a:ext cx="8567640" cy="28764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5"/>
          <p:cNvSpPr/>
          <p:nvPr/>
        </p:nvSpPr>
        <p:spPr>
          <a:xfrm rot="16200000">
            <a:off x="104040" y="35942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6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04880" y="1341360"/>
          <a:ext cx="835164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292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AA38-7518-4445-9FFF-C8FADBC2972A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849240" y="1989000"/>
            <a:ext cx="4680000" cy="3960360"/>
            <a:chOff x="849240" y="1989000"/>
            <a:chExt cx="4680000" cy="3960360"/>
          </a:xfrm>
        </p:grpSpPr>
        <p:grpSp>
          <p:nvGrpSpPr>
            <p:cNvPr id="388" name="Group 3"/>
            <p:cNvGrpSpPr/>
            <p:nvPr/>
          </p:nvGrpSpPr>
          <p:grpSpPr>
            <a:xfrm>
              <a:off x="1712880" y="1989000"/>
              <a:ext cx="2952720" cy="2579760"/>
              <a:chOff x="1712880" y="1989000"/>
              <a:chExt cx="2952720" cy="2579760"/>
            </a:xfrm>
          </p:grpSpPr>
          <p:sp>
            <p:nvSpPr>
              <p:cNvPr id="389" name="Pyr1"/>
              <p:cNvSpPr/>
              <p:nvPr/>
            </p:nvSpPr>
            <p:spPr>
              <a:xfrm>
                <a:off x="2862720" y="1989000"/>
                <a:ext cx="661320" cy="573480"/>
              </a:xfrm>
              <a:custGeom>
                <a:avLst/>
                <a:gdLst>
                  <a:gd name="textAreaLeft" fmla="*/ 164880 w 661320"/>
                  <a:gd name="textAreaRight" fmla="*/ 496440 w 661320"/>
                  <a:gd name="textAreaTop" fmla="*/ 313560 h 573480"/>
                  <a:gd name="textAreaBottom" fmla="*/ 546840 h 57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21600" y="21600"/>
                    </a:lnTo>
                    <a:lnTo>
                      <a:pt x="0" y="21600"/>
                    </a:lnTo>
                    <a:lnTo>
                      <a:pt x="108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100000">
                    <a:srgbClr val="5e0047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Pyr2"/>
              <p:cNvSpPr/>
              <p:nvPr/>
            </p:nvSpPr>
            <p:spPr>
              <a:xfrm>
                <a:off x="2480040" y="2562480"/>
                <a:ext cx="1423800" cy="669600"/>
              </a:xfrm>
              <a:custGeom>
                <a:avLst/>
                <a:gdLst>
                  <a:gd name="textAreaLeft" fmla="*/ 381240 w 1423800"/>
                  <a:gd name="textAreaRight" fmla="*/ 1042560 w 1423800"/>
                  <a:gd name="textAreaTop" fmla="*/ 14760 h 669600"/>
                  <a:gd name="textAreaBottom" fmla="*/ 654840 h 66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787" y="0"/>
                    </a:moveTo>
                    <a:lnTo>
                      <a:pt x="15812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57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Pyr3"/>
              <p:cNvSpPr/>
              <p:nvPr/>
            </p:nvSpPr>
            <p:spPr>
              <a:xfrm>
                <a:off x="2099880" y="3232440"/>
                <a:ext cx="2183040" cy="669960"/>
              </a:xfrm>
              <a:custGeom>
                <a:avLst/>
                <a:gdLst>
                  <a:gd name="textAreaLeft" fmla="*/ 534600 w 2183040"/>
                  <a:gd name="textAreaRight" fmla="*/ 1648440 w 2183040"/>
                  <a:gd name="textAreaTop" fmla="*/ 14760 h 669960"/>
                  <a:gd name="textAreaBottom" fmla="*/ 655200 h 66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768" y="0"/>
                    </a:moveTo>
                    <a:lnTo>
                      <a:pt x="17831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376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Pyr4"/>
              <p:cNvSpPr/>
              <p:nvPr/>
            </p:nvSpPr>
            <p:spPr>
              <a:xfrm>
                <a:off x="1712880" y="3897720"/>
                <a:ext cx="2952720" cy="671040"/>
              </a:xfrm>
              <a:custGeom>
                <a:avLst/>
                <a:gdLst>
                  <a:gd name="textAreaLeft" fmla="*/ 449640 w 2952720"/>
                  <a:gd name="textAreaRight" fmla="*/ 2367000 w 2952720"/>
                  <a:gd name="textAreaTop" fmla="*/ 14760 h 671040"/>
                  <a:gd name="textAreaBottom" fmla="*/ 656280 h 67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793" y="0"/>
                    </a:moveTo>
                    <a:lnTo>
                      <a:pt x="18806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279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AutoShape 8"/>
            <p:cNvSpPr/>
            <p:nvPr/>
          </p:nvSpPr>
          <p:spPr>
            <a:xfrm rot="10800000">
              <a:off x="1280520" y="4569840"/>
              <a:ext cx="3816360" cy="659880"/>
            </a:xfrm>
            <a:custGeom>
              <a:avLst/>
              <a:gdLst>
                <a:gd name="textAreaLeft" fmla="*/ 517320 w 3816360"/>
                <a:gd name="textAreaRight" fmla="*/ 3299040 w 3816360"/>
                <a:gd name="textAreaTop" fmla="*/ 89640 h 659880"/>
                <a:gd name="textAreaBottom" fmla="*/ 570240 h 65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52" y="21600"/>
                  </a:lnTo>
                  <a:lnTo>
                    <a:pt x="1934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 rot="10800000">
              <a:off x="849240" y="5229720"/>
              <a:ext cx="4680000" cy="719640"/>
            </a:xfrm>
            <a:custGeom>
              <a:avLst/>
              <a:gdLst>
                <a:gd name="textAreaLeft" fmla="*/ 596880 w 4680000"/>
                <a:gd name="textAreaRight" fmla="*/ 4083120 w 4680000"/>
                <a:gd name="textAreaTop" fmla="*/ 91080 h 719640"/>
                <a:gd name="textAreaBottom" fmla="*/ 628560 h 71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" y="21600"/>
                  </a:lnTo>
                  <a:lnTo>
                    <a:pt x="196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 Box 10"/>
          <p:cNvSpPr/>
          <p:nvPr/>
        </p:nvSpPr>
        <p:spPr>
          <a:xfrm>
            <a:off x="1814760" y="2133720"/>
            <a:ext cx="2440800" cy="3682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nior Management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994320" y="2708280"/>
            <a:ext cx="4129560" cy="3682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Professional/Associate Profess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1642680" y="4076640"/>
            <a:ext cx="3137400" cy="3682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upervisor/Executive/Cl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1571400" y="3422520"/>
            <a:ext cx="3073320" cy="3682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Manager/Department 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6824160" y="2108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3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"/>
          <p:cNvSpPr/>
          <p:nvPr/>
        </p:nvSpPr>
        <p:spPr>
          <a:xfrm>
            <a:off x="4521240" y="2467080"/>
            <a:ext cx="223200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>
            <a:off x="4737240" y="3116160"/>
            <a:ext cx="201600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6827040" y="2755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4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4808520" y="3763800"/>
            <a:ext cx="201600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6827040" y="3403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952880" y="4437000"/>
            <a:ext cx="187164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6827040" y="407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8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1136520" y="4797360"/>
            <a:ext cx="4032360" cy="3682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echnician / Servicing Sta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849240" y="5445000"/>
            <a:ext cx="4537080" cy="3682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Non-skilled Work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4"/>
          <p:cNvSpPr/>
          <p:nvPr/>
        </p:nvSpPr>
        <p:spPr>
          <a:xfrm>
            <a:off x="5097600" y="5157720"/>
            <a:ext cx="172692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5"/>
          <p:cNvSpPr/>
          <p:nvPr/>
        </p:nvSpPr>
        <p:spPr>
          <a:xfrm>
            <a:off x="6827040" y="4797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36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6"/>
          <p:cNvSpPr/>
          <p:nvPr/>
        </p:nvSpPr>
        <p:spPr>
          <a:xfrm>
            <a:off x="5527800" y="5805360"/>
            <a:ext cx="136656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6897240" y="549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32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8"/>
          <p:cNvSpPr/>
          <p:nvPr/>
        </p:nvSpPr>
        <p:spPr>
          <a:xfrm>
            <a:off x="7977240" y="2565360"/>
            <a:ext cx="865080" cy="3309840"/>
          </a:xfrm>
          <a:prstGeom prst="upArrow">
            <a:avLst>
              <a:gd name="adj1" fmla="val 45324"/>
              <a:gd name="adj2" fmla="val 65503"/>
            </a:avLst>
          </a:prstGeom>
          <a:gradFill rotWithShape="0">
            <a:gsLst>
              <a:gs pos="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t different lev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30"/>
          <p:cNvSpPr/>
          <p:nvPr/>
        </p:nvSpPr>
        <p:spPr>
          <a:xfrm>
            <a:off x="1568520" y="595008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* Small sample size (&lt;30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1"/>
          <p:cNvSpPr/>
          <p:nvPr/>
        </p:nvSpPr>
        <p:spPr>
          <a:xfrm>
            <a:off x="631800" y="1268280"/>
            <a:ext cx="71294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Verdana"/>
              </a:rPr>
              <a:t>Q: In the last month, have you received recognition or praise from your supervisor for doing good work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025A-6945-42E9-99C2-A53491FFFA40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660708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 and Staff Retention (recap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1568520" y="1052640"/>
          <a:ext cx="703584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052640"/>
                    <a:ext cx="70358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Line 4"/>
          <p:cNvSpPr/>
          <p:nvPr/>
        </p:nvSpPr>
        <p:spPr>
          <a:xfrm flipV="1">
            <a:off x="1855800" y="1844640"/>
            <a:ext cx="0" cy="345600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208160" y="2995560"/>
            <a:ext cx="1368360" cy="9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Job change in next 3 month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2289240" y="5732640"/>
            <a:ext cx="5688000" cy="144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944880" y="5516640"/>
            <a:ext cx="201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AEB0-4AB3-4DAF-981B-B276CB694550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ale, Satisfaction and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0" name="Object 3"/>
          <p:cNvGraphicFramePr/>
          <p:nvPr/>
        </p:nvGraphicFramePr>
        <p:xfrm>
          <a:off x="1523880" y="1214280"/>
          <a:ext cx="699768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4280"/>
                    <a:ext cx="69976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4"/>
          <p:cNvSpPr/>
          <p:nvPr/>
        </p:nvSpPr>
        <p:spPr>
          <a:xfrm flipV="1">
            <a:off x="1523880" y="1500120"/>
            <a:ext cx="34920" cy="367200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523800" y="3000240"/>
            <a:ext cx="180036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Over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6"/>
          <p:cNvSpPr/>
          <p:nvPr/>
        </p:nvSpPr>
        <p:spPr>
          <a:xfrm>
            <a:off x="1809720" y="5786280"/>
            <a:ext cx="6192720" cy="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2595600" y="5572080"/>
            <a:ext cx="446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Associates committed to doing quality wor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"/>
          <p:cNvSpPr/>
          <p:nvPr/>
        </p:nvSpPr>
        <p:spPr>
          <a:xfrm flipV="1">
            <a:off x="8453520" y="1643040"/>
            <a:ext cx="34920" cy="367200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738920" y="3143160"/>
            <a:ext cx="1800360" cy="4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Staff Ret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5B16-7EF7-4214-B218-C0AFD7211FF9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6786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os, Satisfaction and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2" name="Object 3"/>
          <p:cNvGraphicFramePr/>
          <p:nvPr/>
        </p:nvGraphicFramePr>
        <p:xfrm>
          <a:off x="1576440" y="1265400"/>
          <a:ext cx="666108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265400"/>
                    <a:ext cx="666108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Line 4"/>
          <p:cNvSpPr/>
          <p:nvPr/>
        </p:nvSpPr>
        <p:spPr>
          <a:xfrm flipV="1">
            <a:off x="1309680" y="1714680"/>
            <a:ext cx="0" cy="331128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380880" y="2928960"/>
            <a:ext cx="187344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Over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6"/>
          <p:cNvSpPr/>
          <p:nvPr/>
        </p:nvSpPr>
        <p:spPr>
          <a:xfrm>
            <a:off x="1595520" y="5786280"/>
            <a:ext cx="6767280" cy="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2095560" y="5572080"/>
            <a:ext cx="583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Does company mission make you feel your job importan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"/>
          <p:cNvSpPr/>
          <p:nvPr/>
        </p:nvSpPr>
        <p:spPr>
          <a:xfrm flipV="1">
            <a:off x="8381880" y="1642680"/>
            <a:ext cx="0" cy="331164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453440" y="3000240"/>
            <a:ext cx="1800000" cy="4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Staff Ret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CBCF-6BB2-44C3-8ED0-9FA59D46C7C2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68980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ect, Satisfaction and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4" name="Object 3"/>
          <p:cNvGraphicFramePr/>
          <p:nvPr/>
        </p:nvGraphicFramePr>
        <p:xfrm>
          <a:off x="1568520" y="1197000"/>
          <a:ext cx="699768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197000"/>
                    <a:ext cx="69976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Line 4"/>
          <p:cNvSpPr/>
          <p:nvPr/>
        </p:nvSpPr>
        <p:spPr>
          <a:xfrm flipV="1">
            <a:off x="1238400" y="1571400"/>
            <a:ext cx="34920" cy="367164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393840" y="2928960"/>
            <a:ext cx="174420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Over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1881360" y="5805360"/>
            <a:ext cx="5715000" cy="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2666880" y="5572080"/>
            <a:ext cx="381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do your opinions coun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4"/>
          <p:cNvSpPr/>
          <p:nvPr/>
        </p:nvSpPr>
        <p:spPr>
          <a:xfrm flipV="1">
            <a:off x="8453520" y="1643040"/>
            <a:ext cx="34920" cy="367200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667640" y="3143160"/>
            <a:ext cx="1728720" cy="4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Staff Ret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65C8-EFF2-45DA-8656-C0C22951AD0D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40872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, Satisfaction and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Object 3"/>
          <p:cNvGraphicFramePr/>
          <p:nvPr/>
        </p:nvGraphicFramePr>
        <p:xfrm>
          <a:off x="1309680" y="1285920"/>
          <a:ext cx="699768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285920"/>
                    <a:ext cx="69976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Line 4"/>
          <p:cNvSpPr/>
          <p:nvPr/>
        </p:nvSpPr>
        <p:spPr>
          <a:xfrm flipV="1">
            <a:off x="1380960" y="1643040"/>
            <a:ext cx="0" cy="367200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000240"/>
            <a:ext cx="201636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Over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</a:rPr>
              <a:t>Job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023920" y="5857920"/>
            <a:ext cx="5253120" cy="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3309840" y="5643720"/>
            <a:ext cx="2808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Praise in last month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"/>
          <p:cNvSpPr/>
          <p:nvPr/>
        </p:nvSpPr>
        <p:spPr>
          <a:xfrm flipV="1">
            <a:off x="8024760" y="1643040"/>
            <a:ext cx="0" cy="3672000"/>
          </a:xfrm>
          <a:prstGeom prst="line">
            <a:avLst/>
          </a:prstGeom>
          <a:ln w="19080">
            <a:solidFill>
              <a:srgbClr val="0066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310520" y="3071880"/>
            <a:ext cx="1728720" cy="4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Staff Ret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2731-C2E0-48EA-A069-78AB9E19509C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y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000160" y="2217240"/>
            <a:ext cx="2303640" cy="42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urvey Appro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448160" y="2204280"/>
            <a:ext cx="4248000" cy="44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1260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andom telephone survey using CATI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448160" y="2708280"/>
            <a:ext cx="4248000" cy="407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ct 5-16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000160" y="2708280"/>
            <a:ext cx="2303640" cy="407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Fieldwork Peri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000160" y="3209760"/>
            <a:ext cx="2303640" cy="36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Target Respond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448160" y="3209760"/>
            <a:ext cx="4248000" cy="36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K working population of age 18 or abo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000160" y="3709080"/>
            <a:ext cx="2303640" cy="34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ample Siz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4448160" y="3709080"/>
            <a:ext cx="4248000" cy="344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 = 1,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000160" y="1320120"/>
            <a:ext cx="2303640" cy="42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urvey Des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4449600" y="1308600"/>
            <a:ext cx="4248360" cy="46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1260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-developed by HeadlineJobs and HKUP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073240" y="5695560"/>
            <a:ext cx="2303640" cy="38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Target Respond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4521240" y="5671080"/>
            <a:ext cx="4248000" cy="42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126000" anchor="ctr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adlineJobs visitors (N=526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2073240" y="5228640"/>
            <a:ext cx="2303640" cy="38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urvey Appro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4521240" y="5228280"/>
            <a:ext cx="4248000" cy="40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126000" anchor="ctr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nline survey (conducted by HeadlineJob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2000160" y="4190760"/>
            <a:ext cx="2303640" cy="36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Weigh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4448160" y="4212000"/>
            <a:ext cx="4248000" cy="363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urced  from C&amp;SD - General Household Survey (Apr-Jun 2009) on HK working population of age 15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0"/>
          <p:cNvSpPr/>
          <p:nvPr/>
        </p:nvSpPr>
        <p:spPr>
          <a:xfrm>
            <a:off x="1784520" y="1989000"/>
            <a:ext cx="7129440" cy="273528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4119480" y="1828800"/>
            <a:ext cx="2633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Survey: Working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1784520" y="4941720"/>
            <a:ext cx="7129440" cy="1224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584520" y="4853160"/>
            <a:ext cx="3889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ementary Survey: Active Job-Seek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6B63-0519-425C-9264-49DA09B32960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75000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loyee Engagement and Staff Re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95480" y="1214280"/>
            <a:ext cx="7488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2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sult of discriminant analysi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24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spect – opinion treasur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24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cognition – praise from supervis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24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orale – commitment to quality wor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24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thos – company miss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2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BE14-C60D-4D1A-AD28-32DF45BDDD10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48927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Job Retention Model (reca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880920" y="1785960"/>
            <a:ext cx="3357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3595680" y="4286160"/>
            <a:ext cx="331164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loy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4524480" y="2071800"/>
            <a:ext cx="1143000" cy="647640"/>
          </a:xfrm>
          <a:prstGeom prst="rightArrow">
            <a:avLst>
              <a:gd name="adj1" fmla="val 51454"/>
              <a:gd name="adj2" fmla="val 54743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6"/>
          <p:cNvSpPr/>
          <p:nvPr/>
        </p:nvSpPr>
        <p:spPr>
          <a:xfrm rot="12973200">
            <a:off x="3710160" y="3314160"/>
            <a:ext cx="792000" cy="647640"/>
          </a:xfrm>
          <a:prstGeom prst="rightArrow">
            <a:avLst>
              <a:gd name="adj1" fmla="val 52935"/>
              <a:gd name="adj2" fmla="val 55574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14028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5952960" y="1785960"/>
            <a:ext cx="309888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ff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1281240" y="602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 rot="18732600">
            <a:off x="5848920" y="3330000"/>
            <a:ext cx="792000" cy="647640"/>
          </a:xfrm>
          <a:prstGeom prst="rightArrow">
            <a:avLst>
              <a:gd name="adj1" fmla="val 52935"/>
              <a:gd name="adj2" fmla="val 55574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8268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6C37-D0B3-41F1-8C71-6F7A746B72C7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321760" cy="66024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5 Main Drivers and 16 Factors (recap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j0316807"/>
          <p:cNvPicPr/>
          <p:nvPr/>
        </p:nvPicPr>
        <p:blipFill>
          <a:blip r:embed="rId1"/>
          <a:stretch/>
        </p:blipFill>
        <p:spPr>
          <a:xfrm>
            <a:off x="2576520" y="3284640"/>
            <a:ext cx="1368360" cy="911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j0382634"/>
          <p:cNvPicPr/>
          <p:nvPr/>
        </p:nvPicPr>
        <p:blipFill>
          <a:blip r:embed="rId2"/>
          <a:stretch/>
        </p:blipFill>
        <p:spPr>
          <a:xfrm>
            <a:off x="1281240" y="1339920"/>
            <a:ext cx="1368360" cy="97776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5"/>
          <p:cNvSpPr/>
          <p:nvPr/>
        </p:nvSpPr>
        <p:spPr>
          <a:xfrm>
            <a:off x="2289240" y="162864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ompen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6" descr="j0078616"/>
          <p:cNvPicPr/>
          <p:nvPr/>
        </p:nvPicPr>
        <p:blipFill>
          <a:blip r:embed="rId3"/>
          <a:stretch/>
        </p:blipFill>
        <p:spPr>
          <a:xfrm>
            <a:off x="1928880" y="2347920"/>
            <a:ext cx="1368360" cy="9144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7"/>
          <p:cNvSpPr/>
          <p:nvPr/>
        </p:nvSpPr>
        <p:spPr>
          <a:xfrm>
            <a:off x="2936880" y="25639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"/>
          <p:cNvPicPr/>
          <p:nvPr/>
        </p:nvPicPr>
        <p:blipFill>
          <a:blip r:embed="rId4"/>
          <a:stretch/>
        </p:blipFill>
        <p:spPr>
          <a:xfrm>
            <a:off x="3225960" y="4221000"/>
            <a:ext cx="1368360" cy="101628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9"/>
          <p:cNvSpPr/>
          <p:nvPr/>
        </p:nvSpPr>
        <p:spPr>
          <a:xfrm>
            <a:off x="3441600" y="3571920"/>
            <a:ext cx="187344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0"/>
          <p:cNvSpPr/>
          <p:nvPr/>
        </p:nvSpPr>
        <p:spPr>
          <a:xfrm>
            <a:off x="4160880" y="45799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Job N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1" descr=""/>
          <p:cNvPicPr/>
          <p:nvPr/>
        </p:nvPicPr>
        <p:blipFill>
          <a:blip r:embed="rId5"/>
          <a:stretch/>
        </p:blipFill>
        <p:spPr>
          <a:xfrm>
            <a:off x="3728880" y="5300640"/>
            <a:ext cx="1440000" cy="100800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12"/>
          <p:cNvSpPr/>
          <p:nvPr/>
        </p:nvSpPr>
        <p:spPr>
          <a:xfrm>
            <a:off x="4737240" y="558792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dvanc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3"/>
          <p:cNvSpPr/>
          <p:nvPr/>
        </p:nvSpPr>
        <p:spPr>
          <a:xfrm>
            <a:off x="4233960" y="1339920"/>
            <a:ext cx="3240000" cy="1009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Safe Working Environ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Job Securi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Salary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Benef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Work Flexibili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4"/>
          <p:cNvSpPr/>
          <p:nvPr/>
        </p:nvSpPr>
        <p:spPr>
          <a:xfrm>
            <a:off x="4808520" y="2492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Relationship with Supervisor/Manag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Management Recogni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Full play to Potentials and Autonom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5"/>
          <p:cNvSpPr/>
          <p:nvPr/>
        </p:nvSpPr>
        <p:spPr>
          <a:xfrm>
            <a:off x="5313240" y="3429000"/>
            <a:ext cx="3095640" cy="792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Relationship with Co-work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Network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ontribution to the Organiza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6"/>
          <p:cNvSpPr/>
          <p:nvPr/>
        </p:nvSpPr>
        <p:spPr>
          <a:xfrm>
            <a:off x="6033960" y="4437000"/>
            <a:ext cx="2735280" cy="792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Job Nature and Meaningfulness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Job Varie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orporate Cul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7"/>
          <p:cNvSpPr/>
          <p:nvPr/>
        </p:nvSpPr>
        <p:spPr>
          <a:xfrm>
            <a:off x="6537240" y="5445000"/>
            <a:ext cx="2664000" cy="7192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Professional Develop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areer Advancement Opportuniti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頁尾版面配置區 3"/>
          <p:cNvSpPr/>
          <p:nvPr/>
        </p:nvSpPr>
        <p:spPr>
          <a:xfrm>
            <a:off x="4665600" y="664056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投影片編號版面配置區 4"/>
          <p:cNvSpPr/>
          <p:nvPr/>
        </p:nvSpPr>
        <p:spPr>
          <a:xfrm>
            <a:off x="8913960" y="657072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96F-67EF-4C0F-9F79-E68AB8713BB3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392880" cy="66024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Engagement: 4 Main Factors (recap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738360" y="171468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or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1309680" y="292896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9"/>
          <p:cNvSpPr/>
          <p:nvPr/>
        </p:nvSpPr>
        <p:spPr>
          <a:xfrm>
            <a:off x="2095560" y="414324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Resp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0"/>
          <p:cNvSpPr/>
          <p:nvPr/>
        </p:nvSpPr>
        <p:spPr>
          <a:xfrm>
            <a:off x="2381400" y="5286240"/>
            <a:ext cx="250020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cog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2595600" y="1473120"/>
            <a:ext cx="4357800" cy="928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Overall speaking, are your associ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ommitted to doing quality work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3381480" y="2643120"/>
            <a:ext cx="4500360" cy="936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the mission/purpose of your compa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you feel your job importan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5"/>
          <p:cNvSpPr/>
          <p:nvPr/>
        </p:nvSpPr>
        <p:spPr>
          <a:xfrm>
            <a:off x="4452840" y="3759120"/>
            <a:ext cx="421488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work, do your opin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seem to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6"/>
          <p:cNvSpPr/>
          <p:nvPr/>
        </p:nvSpPr>
        <p:spPr>
          <a:xfrm>
            <a:off x="4881600" y="4973760"/>
            <a:ext cx="4500360" cy="1071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last month, have you recei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gnition or praise from your supervi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doing good wor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頁尾版面配置區 3"/>
          <p:cNvSpPr/>
          <p:nvPr/>
        </p:nvSpPr>
        <p:spPr>
          <a:xfrm>
            <a:off x="4667400" y="650088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投影片編號版面配置區 4"/>
          <p:cNvSpPr/>
          <p:nvPr/>
        </p:nvSpPr>
        <p:spPr>
          <a:xfrm>
            <a:off x="8881920" y="642924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2548-7C1A-4E43-90A3-E43BE9807CF2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321760" cy="66024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isfaction, Engagement, Retention (aggregat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3" descr="j0316807"/>
          <p:cNvPicPr/>
          <p:nvPr/>
        </p:nvPicPr>
        <p:blipFill>
          <a:blip r:embed="rId1"/>
          <a:stretch/>
        </p:blipFill>
        <p:spPr>
          <a:xfrm>
            <a:off x="1238400" y="3143160"/>
            <a:ext cx="1368360" cy="1000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j0382634"/>
          <p:cNvPicPr/>
          <p:nvPr/>
        </p:nvPicPr>
        <p:blipFill>
          <a:blip r:embed="rId2"/>
          <a:stretch/>
        </p:blipFill>
        <p:spPr>
          <a:xfrm>
            <a:off x="1595520" y="5429160"/>
            <a:ext cx="868320" cy="66060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5"/>
          <p:cNvSpPr/>
          <p:nvPr/>
        </p:nvSpPr>
        <p:spPr>
          <a:xfrm>
            <a:off x="2309760" y="5572080"/>
            <a:ext cx="142884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Compens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j0078616"/>
          <p:cNvPicPr/>
          <p:nvPr/>
        </p:nvPicPr>
        <p:blipFill>
          <a:blip r:embed="rId3"/>
          <a:stretch/>
        </p:blipFill>
        <p:spPr>
          <a:xfrm>
            <a:off x="666720" y="1357200"/>
            <a:ext cx="1857240" cy="1357560"/>
          </a:xfrm>
          <a:prstGeom prst="rect">
            <a:avLst/>
          </a:prstGeom>
          <a:ln w="0">
            <a:noFill/>
          </a:ln>
        </p:spPr>
      </p:pic>
      <p:sp>
        <p:nvSpPr>
          <p:cNvPr id="526" name="AutoShape 7"/>
          <p:cNvSpPr/>
          <p:nvPr/>
        </p:nvSpPr>
        <p:spPr>
          <a:xfrm>
            <a:off x="2023920" y="1785960"/>
            <a:ext cx="165924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"/>
          <p:cNvPicPr/>
          <p:nvPr/>
        </p:nvPicPr>
        <p:blipFill>
          <a:blip r:embed="rId4"/>
          <a:stretch/>
        </p:blipFill>
        <p:spPr>
          <a:xfrm>
            <a:off x="2166840" y="4357800"/>
            <a:ext cx="1225800" cy="78588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9"/>
          <p:cNvSpPr/>
          <p:nvPr/>
        </p:nvSpPr>
        <p:spPr>
          <a:xfrm>
            <a:off x="2238480" y="342900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0"/>
          <p:cNvSpPr/>
          <p:nvPr/>
        </p:nvSpPr>
        <p:spPr>
          <a:xfrm>
            <a:off x="3238560" y="4643280"/>
            <a:ext cx="1428840" cy="297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</a:rPr>
              <a:t>Job Na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1" descr=""/>
          <p:cNvPicPr/>
          <p:nvPr/>
        </p:nvPicPr>
        <p:blipFill>
          <a:blip r:embed="rId5"/>
          <a:stretch/>
        </p:blipFill>
        <p:spPr>
          <a:xfrm>
            <a:off x="5595840" y="5429160"/>
            <a:ext cx="868320" cy="66528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12"/>
          <p:cNvSpPr/>
          <p:nvPr/>
        </p:nvSpPr>
        <p:spPr>
          <a:xfrm>
            <a:off x="6310440" y="5643720"/>
            <a:ext cx="1214280" cy="2142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Advanc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3"/>
          <p:cNvSpPr/>
          <p:nvPr/>
        </p:nvSpPr>
        <p:spPr>
          <a:xfrm>
            <a:off x="3738600" y="542916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Safe Working Environ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Job Securit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Salary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Benef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Work Flexibilit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4"/>
          <p:cNvSpPr/>
          <p:nvPr/>
        </p:nvSpPr>
        <p:spPr>
          <a:xfrm>
            <a:off x="3595680" y="1428840"/>
            <a:ext cx="5286240" cy="1071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Full play to Potentials and Autono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d0d0d"/>
                </a:solidFill>
                <a:latin typeface="Arial"/>
              </a:rPr>
              <a:t>Relationship with Supervisor/Manag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0d0d"/>
                </a:solidFill>
                <a:latin typeface="Arial"/>
              </a:rPr>
              <a:t>-    Management Recogni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5"/>
          <p:cNvSpPr/>
          <p:nvPr/>
        </p:nvSpPr>
        <p:spPr>
          <a:xfrm>
            <a:off x="3952800" y="3214800"/>
            <a:ext cx="3786120" cy="928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Relationship with Co-work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    Network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    Contribution to the Organiz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595760" y="4357800"/>
            <a:ext cx="2786040" cy="714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Arial"/>
              </a:rPr>
              <a:t>-  Job Nature and Meaningfuln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-   Job Vari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-   Corporate Cultur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7596360" y="5429160"/>
            <a:ext cx="2000160" cy="663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Professional Develop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62626"/>
                </a:solidFill>
                <a:latin typeface="Arial"/>
              </a:rPr>
              <a:t>-  Career Advancement Opportunit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9"/>
          <p:cNvSpPr/>
          <p:nvPr/>
        </p:nvSpPr>
        <p:spPr>
          <a:xfrm>
            <a:off x="7601040" y="4429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Eth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20"/>
          <p:cNvSpPr/>
          <p:nvPr/>
        </p:nvSpPr>
        <p:spPr>
          <a:xfrm>
            <a:off x="7886160" y="34290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Mor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22"/>
          <p:cNvSpPr/>
          <p:nvPr/>
        </p:nvSpPr>
        <p:spPr>
          <a:xfrm>
            <a:off x="5400720" y="250020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pect and Recog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E194-DC16-4FED-A62C-E6AB3E533B78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77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l 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48880" y="1285560"/>
            <a:ext cx="8155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Quality Workplace Index surveys have repeatedly shown that </a:t>
            </a:r>
            <a:r>
              <a:rPr b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job satisfaction and staff retention are closely related, amidst economic downturn or recovery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Our latest survey introduces </a:t>
            </a:r>
            <a:r>
              <a:rPr b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employee engagement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as a variable of job satisfaction and staff retention, yielding very useful result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Looking ahead, when sufficient data is collected over time, more sophisticated analyses on </a:t>
            </a:r>
            <a:r>
              <a:rPr b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different job and industrial sectors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could be performed, on the relationships among job satisfaction, employee engagement and staff retention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Customized tests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can also be developed to suit the need of individual firms </a:t>
            </a:r>
            <a:r>
              <a:rPr b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to facilitate the retention of talents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頁尾版面配置區 1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投影片編號版面配置區 2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2AF2-05ED-49EA-BED0-61AB90A36299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360520" y="2492280"/>
            <a:ext cx="5106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647A-3700-4EDE-8E3B-6A6507D84D3C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7678800" cy="66024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: 5 Main Drivers and 16 Facto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j0316807"/>
          <p:cNvPicPr/>
          <p:nvPr/>
        </p:nvPicPr>
        <p:blipFill>
          <a:blip r:embed="rId1"/>
          <a:stretch/>
        </p:blipFill>
        <p:spPr>
          <a:xfrm>
            <a:off x="2576520" y="3284640"/>
            <a:ext cx="1368360" cy="91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j0382634"/>
          <p:cNvPicPr/>
          <p:nvPr/>
        </p:nvPicPr>
        <p:blipFill>
          <a:blip r:embed="rId2"/>
          <a:stretch/>
        </p:blipFill>
        <p:spPr>
          <a:xfrm>
            <a:off x="1281240" y="1339920"/>
            <a:ext cx="1368360" cy="9777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2289240" y="162864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ompen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j0078616"/>
          <p:cNvPicPr/>
          <p:nvPr/>
        </p:nvPicPr>
        <p:blipFill>
          <a:blip r:embed="rId3"/>
          <a:stretch/>
        </p:blipFill>
        <p:spPr>
          <a:xfrm>
            <a:off x="1928880" y="2347920"/>
            <a:ext cx="136836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7"/>
          <p:cNvSpPr/>
          <p:nvPr/>
        </p:nvSpPr>
        <p:spPr>
          <a:xfrm>
            <a:off x="2936880" y="25639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3225960" y="4221000"/>
            <a:ext cx="1368360" cy="10162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9"/>
          <p:cNvSpPr/>
          <p:nvPr/>
        </p:nvSpPr>
        <p:spPr>
          <a:xfrm>
            <a:off x="3441600" y="3571920"/>
            <a:ext cx="187344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4160880" y="45799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Job N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3728880" y="5300640"/>
            <a:ext cx="1440000" cy="1008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2"/>
          <p:cNvSpPr/>
          <p:nvPr/>
        </p:nvSpPr>
        <p:spPr>
          <a:xfrm>
            <a:off x="4737240" y="558792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dvanc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4233960" y="1339920"/>
            <a:ext cx="3240000" cy="1009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Safe Working Environ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Job Securi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Salary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Benef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-  Work Flexibili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4808520" y="2492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Relationship with Supervisor/Manag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Management Recogni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Full play to Potentials and Autonom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5313240" y="3429000"/>
            <a:ext cx="3095640" cy="792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Relationship with Co-work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Network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ontribution to the Organiza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6033960" y="4437000"/>
            <a:ext cx="2735280" cy="792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Job Nature and Meaningfulness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Job Varie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orporate Cul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6537240" y="5445000"/>
            <a:ext cx="2664000" cy="7192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Professional Develop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Career Advancement Opportuniti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5793-C9F5-490D-9ECD-B587DF252DCC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61070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eeking Rate for Employees</a:t>
            </a:r>
            <a:br>
              <a:rPr sz="24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job market leading indica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3"/>
          <p:cNvGraphicFramePr/>
          <p:nvPr/>
        </p:nvGraphicFramePr>
        <p:xfrm>
          <a:off x="485640" y="1357200"/>
          <a:ext cx="619632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357200"/>
                    <a:ext cx="619632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5"/>
          <p:cNvSpPr/>
          <p:nvPr/>
        </p:nvSpPr>
        <p:spPr>
          <a:xfrm>
            <a:off x="1496880" y="595008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2" descr=""/>
          <p:cNvPicPr/>
          <p:nvPr/>
        </p:nvPicPr>
        <p:blipFill>
          <a:blip r:embed="rId3"/>
          <a:stretch/>
        </p:blipFill>
        <p:spPr>
          <a:xfrm>
            <a:off x="6465960" y="1700280"/>
            <a:ext cx="3217680" cy="39211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4"/>
          <p:cNvSpPr/>
          <p:nvPr/>
        </p:nvSpPr>
        <p:spPr>
          <a:xfrm>
            <a:off x="4523400" y="458136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(Apr-Jun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524560" y="4572360"/>
            <a:ext cx="1441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(Provisional figures for Aug-Oct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1D60-3165-4E12-AF9E-31CA89735FE4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8215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 Level for Employ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272880" y="1197000"/>
          <a:ext cx="644868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197000"/>
                    <a:ext cx="644868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4"/>
          <p:cNvSpPr/>
          <p:nvPr/>
        </p:nvSpPr>
        <p:spPr>
          <a:xfrm>
            <a:off x="1424160" y="60213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Employees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424160" y="5756400"/>
            <a:ext cx="51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“</a:t>
            </a: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Satisfied” refers to the percentage of respondents who were very satisfied or quite satisfied with their current post of work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“</a:t>
            </a: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Dissatisfied” refers to the percentage of respondents who were not quite satisfied or not satisfied at all with their current post of work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j0401003"/>
          <p:cNvPicPr/>
          <p:nvPr/>
        </p:nvPicPr>
        <p:blipFill>
          <a:blip r:embed="rId3"/>
          <a:stretch/>
        </p:blipFill>
        <p:spPr>
          <a:xfrm>
            <a:off x="6753240" y="692280"/>
            <a:ext cx="2786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8EC8-3A53-49EF-8E9A-91A539E3DCE9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589284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 Levels Comp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Object 3"/>
          <p:cNvGraphicFramePr/>
          <p:nvPr/>
        </p:nvGraphicFramePr>
        <p:xfrm>
          <a:off x="380880" y="1357200"/>
          <a:ext cx="6486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57200"/>
                    <a:ext cx="6486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4"/>
          <p:cNvSpPr/>
          <p:nvPr/>
        </p:nvSpPr>
        <p:spPr>
          <a:xfrm>
            <a:off x="1279440" y="587844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“</a:t>
            </a: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% Satisfied” refers to the percentage of respondents who were very satisfied or quite satisfied with their current post of work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281240" y="6021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1: HeadlineJobs visitors, HeadlineJobs Online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2: Employees of age 18 or above,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j0442491"/>
          <p:cNvPicPr/>
          <p:nvPr/>
        </p:nvPicPr>
        <p:blipFill>
          <a:blip r:embed="rId3"/>
          <a:stretch/>
        </p:blipFill>
        <p:spPr>
          <a:xfrm>
            <a:off x="6681960" y="1484280"/>
            <a:ext cx="28828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6071-5AFB-43A1-B6A1-A42BD7249BA3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78160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b Satisfaction of Your Employ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272880" y="1476360"/>
          <a:ext cx="615960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476360"/>
                    <a:ext cx="61596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4"/>
          <p:cNvSpPr/>
          <p:nvPr/>
        </p:nvSpPr>
        <p:spPr>
          <a:xfrm>
            <a:off x="1568520" y="6021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Target: Employers and employees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568520" y="5878440"/>
            <a:ext cx="511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“</a:t>
            </a:r>
            <a:r>
              <a:rPr b="0" i="1" lang="en-US" sz="800" spc="-1" strike="noStrike">
                <a:solidFill>
                  <a:srgbClr val="4d4d4d"/>
                </a:solidFill>
                <a:latin typeface="Arial Narrow"/>
              </a:rPr>
              <a:t>% Satisfied” refers to the percentage of respondents who were very satisfied or quite satisfied with their current post of work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j0423037"/>
          <p:cNvPicPr/>
          <p:nvPr/>
        </p:nvPicPr>
        <p:blipFill>
          <a:blip r:embed="rId3"/>
          <a:stretch/>
        </p:blipFill>
        <p:spPr>
          <a:xfrm>
            <a:off x="6345360" y="2060640"/>
            <a:ext cx="3360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頁尾版面配置區 3"/>
          <p:cNvSpPr/>
          <p:nvPr/>
        </p:nvSpPr>
        <p:spPr>
          <a:xfrm>
            <a:off x="4665600" y="6524640"/>
            <a:ext cx="4211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Narrow"/>
              </a:rPr>
              <a:t>Prepared by Sing Tao Research and Development Dept (Nov 09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投影片編號版面配置區 4"/>
          <p:cNvSpPr/>
          <p:nvPr/>
        </p:nvSpPr>
        <p:spPr>
          <a:xfrm>
            <a:off x="8913960" y="6454800"/>
            <a:ext cx="82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E64B-EE56-4E2A-90DB-B3368AB15ED6}" type="slidenum">
              <a:rPr b="1" lang="en-US" sz="9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5834160" cy="720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s of Job Satisf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5"/>
          <p:cNvGraphicFramePr/>
          <p:nvPr/>
        </p:nvGraphicFramePr>
        <p:xfrm>
          <a:off x="1089000" y="1273320"/>
          <a:ext cx="8543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273320"/>
                    <a:ext cx="8543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248"/>
          <p:cNvSpPr/>
          <p:nvPr/>
        </p:nvSpPr>
        <p:spPr>
          <a:xfrm>
            <a:off x="633240" y="4508640"/>
            <a:ext cx="8928360" cy="1441440"/>
          </a:xfrm>
          <a:prstGeom prst="rect">
            <a:avLst/>
          </a:prstGeom>
          <a:noFill/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9"/>
          <p:cNvSpPr/>
          <p:nvPr/>
        </p:nvSpPr>
        <p:spPr>
          <a:xfrm rot="16200000">
            <a:off x="104040" y="35942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mport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04"/>
          <p:cNvSpPr/>
          <p:nvPr/>
        </p:nvSpPr>
        <p:spPr>
          <a:xfrm>
            <a:off x="1281240" y="6093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Base: HK working population of age 18 or abo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Arial Narrow"/>
              </a:rPr>
              <a:t>Source: HKUPOP, HeadlineJobs Quality Workplace Inde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05"/>
          <p:cNvSpPr/>
          <p:nvPr/>
        </p:nvSpPr>
        <p:spPr>
          <a:xfrm>
            <a:off x="8768520" y="9079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s. 09H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04880" y="1341360"/>
          <a:ext cx="8712000" cy="4608720"/>
        </p:xfrm>
        <a:graphic>
          <a:graphicData uri="http://schemas.openxmlformats.org/drawingml/2006/table">
            <a:tbl>
              <a:tblPr/>
              <a:tblGrid>
                <a:gridCol w="360360"/>
                <a:gridCol w="2808360"/>
                <a:gridCol w="5182920"/>
                <a:gridCol w="36036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1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-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0:36:53Z</dcterms:created>
  <dc:creator>Lee Lap Yin</dc:creator>
  <dc:description/>
  <dc:language>en-US</dc:language>
  <cp:lastModifiedBy>joseph</cp:lastModifiedBy>
  <dcterms:modified xsi:type="dcterms:W3CDTF">2009-11-30T07:25:15Z</dcterms:modified>
  <cp:revision>867</cp:revision>
  <dc:subject>Event Presentation</dc:subject>
  <dc:title>HeadlineJobs Quality Workplace Index 09H1</dc:title>
</cp:coreProperties>
</file>