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907588" cy="6858000"/>
  <p:notesSz cx="9942513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943200" cy="68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1"/>
          </p:nvPr>
        </p:nvSpPr>
        <p:spPr>
          <a:xfrm>
            <a:off x="5632560" y="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3127320" y="510840"/>
            <a:ext cx="368928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2"/>
          </p:nvPr>
        </p:nvSpPr>
        <p:spPr>
          <a:xfrm>
            <a:off x="0" y="6471720"/>
            <a:ext cx="4308480" cy="3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13"/>
          </p:nvPr>
        </p:nvSpPr>
        <p:spPr>
          <a:xfrm>
            <a:off x="5632560" y="6471720"/>
            <a:ext cx="4308480" cy="3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5EA334-6C61-4969-A77C-229650AD4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271BEA-07D2-483D-AA3C-2A3B66492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0C814A-36F5-487E-8EA6-A95A28EE7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95040" y="3236760"/>
            <a:ext cx="795348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1C20B5-FC6A-4643-A254-BFA58AE45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23F0F7-4634-43AD-9081-B47B0729E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CFCDFE-74CC-4D30-9203-B30DCF28F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8168E6-8C0E-41CB-A79F-FC6DE778B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419276-2B62-4739-A26C-9A887AAEC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2126D9-CBFD-46F8-ABE8-89B5FCC1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43AB5A-8118-4591-B331-7DDE3E81E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C3E04A-BFC5-4DFD-9B74-AB2722F48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E4BF8A-BDFF-4B21-8036-16E577DF6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E78062-2521-4A6B-9423-ADA0232A8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95040" y="3236760"/>
            <a:ext cx="795348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95ABD0-A11E-4F9D-ABC1-4E4FBE280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2A0BDA-0666-4EC9-9385-DB3C03BBD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95040" y="3236760"/>
            <a:ext cx="795348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6AB8D0-59C1-45B9-BF41-34AE0294D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9280" cy="2554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19281C-5093-4376-86D9-A313CD04B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95040" y="3236760"/>
            <a:ext cx="795348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40519D-B0B9-46DE-B840-AC4468502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96480" y="3236760"/>
            <a:ext cx="795204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563256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61A00F-743B-4C40-A0B7-9897B85EA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3125880" y="511200"/>
            <a:ext cx="3692520" cy="2556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95040" y="3236760"/>
            <a:ext cx="795348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193F5-BBBF-414A-86A1-04792ACA0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C72C-D2F9-4E58-9367-3480390F2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17A78-99E5-4DB0-BD3F-E3C69FE02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1396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9952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2840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1396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9952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F762-3A2F-468F-B438-91BCA5DAD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5ECBF-135D-4DC9-83DB-CE96411D3B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E40D8-1CFB-40AF-8681-B402DA653B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E3B32-05BB-4F27-B59C-DFEB061E7F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BCEAB-F3E1-49B2-AA31-8B00EE33F0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1904E-43D9-4661-8A4A-E6CCE793B7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28760" y="115920"/>
            <a:ext cx="76197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DE3AB-DF06-499C-AA0F-E39830D4B9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9C48A-3B23-4C13-924B-40C41FDD0A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298F6-87C3-434B-BEA2-7DEA35CF9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BF156-364E-41EE-B77F-F0466827BB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D8D06-7380-490E-A8AE-DCC407CC16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0E6E0-7237-4B68-9FE2-97814CDC8F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55522-01CD-4B60-9478-19727E53FA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1396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9952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40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1396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9952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CA915-1528-4987-A8E5-F7FF92D3D9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06C14E-CA04-44A4-975F-51DA8913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8D2C48-7DD6-409E-BE98-B60D14E1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C1458A-93C8-4BFD-B2DA-B5C1E437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34E334-8F3F-4E66-8FD5-76B6EE6F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00CDB5-055B-402A-9639-2F190A65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4F37-0553-4FA8-B261-0D6D7555E1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28760" y="115920"/>
            <a:ext cx="76197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FD9558-2D26-4114-BADC-3E33781F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249D85-02AB-4C4A-8C2F-7BFB873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222A9B-6C12-48AA-9A5D-827D411A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659FD-7E0B-499B-A6BE-C77B3F19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752027-286C-48D0-A92B-21C7C9F3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8A0733-681C-4262-95D0-84AD9985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1396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9952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2840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1396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9952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90A5A-BE75-4D7E-A521-3D2330D8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832C4-142F-40D1-9220-DFC34DC6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444B2-0C56-444A-84D4-7A591DDC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1403A-4415-4A61-AF0C-3CA4F6BD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8CBE-C774-493E-9BF2-5C539061E3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949A0-367E-45F6-AC64-F35AC7B8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901FF-0EEC-4214-A3DF-10D8F11F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28760" y="115920"/>
            <a:ext cx="76197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A63397-7E7C-48E8-94B7-1169A169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CE5955-37A7-4E49-8122-06117750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D460FF-EAFE-4BE2-A88A-CFA17896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E037F4-D58E-4D36-9CBE-5D4203EC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67A252-9A53-4A8B-9188-2075CE7E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4F69C-874F-4FD6-A0F1-D00E453D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1396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599520" y="112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2840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1396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599520" y="3645360"/>
            <a:ext cx="2938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C14805-21DB-4E24-B741-B46F3333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6266-E18C-4384-A5CE-8B5A75AA7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115920"/>
            <a:ext cx="76197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F9C8-3386-43C0-9C06-3BC56E8E4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F802B-CDD5-4004-B1E0-3EDBBB2E2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5160" y="364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C565-FB71-4DB5-A277-4894979A5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40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5160" y="1125360"/>
            <a:ext cx="44535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400" y="3645360"/>
            <a:ext cx="9126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F737-9242-41B6-AE33-FBC203001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108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2b2b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(Sept 08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20200" y="6237000"/>
            <a:ext cx="82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AF92-6225-4B1C-AA89-8391EB041B75}" type="slidenum"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7"/>
          <p:cNvSpPr/>
          <p:nvPr/>
        </p:nvSpPr>
        <p:spPr>
          <a:xfrm>
            <a:off x="351000" y="6165720"/>
            <a:ext cx="9126360" cy="0"/>
          </a:xfrm>
          <a:prstGeom prst="line">
            <a:avLst/>
          </a:prstGeom>
          <a:ln w="158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8"/>
          <p:cNvSpPr/>
          <p:nvPr/>
        </p:nvSpPr>
        <p:spPr>
          <a:xfrm>
            <a:off x="236520" y="6249960"/>
            <a:ext cx="50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HeadlineJobs Quality Workplace Index 2008Q3 – Results High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20"/>
          <p:cNvSpPr/>
          <p:nvPr/>
        </p:nvSpPr>
        <p:spPr>
          <a:xfrm>
            <a:off x="507960" y="765000"/>
            <a:ext cx="7469280" cy="0"/>
          </a:xfrm>
          <a:prstGeom prst="line">
            <a:avLst/>
          </a:prstGeom>
          <a:ln w="442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9" descr=""/>
          <p:cNvPicPr/>
          <p:nvPr/>
        </p:nvPicPr>
        <p:blipFill>
          <a:blip r:embed="rId2"/>
          <a:stretch/>
        </p:blipFill>
        <p:spPr>
          <a:xfrm>
            <a:off x="8048520" y="104760"/>
            <a:ext cx="1150920" cy="660240"/>
          </a:xfrm>
          <a:prstGeom prst="rect">
            <a:avLst/>
          </a:prstGeom>
          <a:ln w="0">
            <a:noFill/>
          </a:ln>
        </p:spPr>
      </p:pic>
      <p:sp>
        <p:nvSpPr>
          <p:cNvPr id="8" name="Text Box 25"/>
          <p:cNvSpPr/>
          <p:nvPr/>
        </p:nvSpPr>
        <p:spPr>
          <a:xfrm>
            <a:off x="7905600" y="692280"/>
            <a:ext cx="1584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777777"/>
                </a:solidFill>
                <a:latin typeface="Arial"/>
              </a:rPr>
              <a:t>Stop Searching, Start Match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Object 13"/>
          <p:cNvGraphicFramePr/>
          <p:nvPr/>
        </p:nvGraphicFramePr>
        <p:xfrm>
          <a:off x="9345600" y="260280"/>
          <a:ext cx="4316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45600" y="260280"/>
                    <a:ext cx="431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Text Box 14"/>
          <p:cNvSpPr/>
          <p:nvPr/>
        </p:nvSpPr>
        <p:spPr>
          <a:xfrm>
            <a:off x="9231480" y="693720"/>
            <a:ext cx="67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HKUPO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27108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Times New Roman"/>
              </a:rPr>
              <a:t>Prepared by Research and Development Dept (Sept 08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620200" y="6310080"/>
            <a:ext cx="82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8022-D1C7-4A5F-959F-FDB9399D09D7}" type="slidenum"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51000" y="6165720"/>
            <a:ext cx="9126360" cy="0"/>
          </a:xfrm>
          <a:prstGeom prst="line">
            <a:avLst/>
          </a:prstGeom>
          <a:ln w="158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36520" y="6165720"/>
            <a:ext cx="50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HeadlineJobs Quality Workplace Index 2008Q3 – Results High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8048520" y="104760"/>
            <a:ext cx="1150920" cy="660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7905600" y="692280"/>
            <a:ext cx="1584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777777"/>
                </a:solidFill>
                <a:latin typeface="Arial"/>
              </a:rPr>
              <a:t>Stop Searching, Start Match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3"/>
          <p:cNvGraphicFramePr/>
          <p:nvPr/>
        </p:nvGraphicFramePr>
        <p:xfrm>
          <a:off x="9345600" y="260280"/>
          <a:ext cx="4316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45600" y="260280"/>
                    <a:ext cx="431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14"/>
          <p:cNvSpPr/>
          <p:nvPr/>
        </p:nvSpPr>
        <p:spPr>
          <a:xfrm>
            <a:off x="9231480" y="693720"/>
            <a:ext cx="67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HKUPO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2"/>
          <p:cNvSpPr/>
          <p:nvPr/>
        </p:nvSpPr>
        <p:spPr>
          <a:xfrm>
            <a:off x="271440" y="189000"/>
            <a:ext cx="9363240" cy="640872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3" descr=""/>
          <p:cNvPicPr/>
          <p:nvPr/>
        </p:nvPicPr>
        <p:blipFill>
          <a:blip r:embed="rId2"/>
          <a:stretch/>
        </p:blipFill>
        <p:spPr>
          <a:xfrm>
            <a:off x="5168880" y="1890720"/>
            <a:ext cx="2160720" cy="1239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3"/>
          <p:cNvSpPr/>
          <p:nvPr/>
        </p:nvSpPr>
        <p:spPr>
          <a:xfrm>
            <a:off x="271440" y="189000"/>
            <a:ext cx="9363240" cy="1584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5243040" y="3040200"/>
            <a:ext cx="205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77777"/>
                </a:solidFill>
                <a:latin typeface="Arial"/>
              </a:rPr>
              <a:t>Stop Searching, Start Mat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13"/>
          <p:cNvGraphicFramePr/>
          <p:nvPr/>
        </p:nvGraphicFramePr>
        <p:xfrm>
          <a:off x="7761240" y="2133720"/>
          <a:ext cx="74124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61240" y="2133720"/>
                    <a:ext cx="7412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4"/>
          <p:cNvSpPr/>
          <p:nvPr/>
        </p:nvSpPr>
        <p:spPr>
          <a:xfrm>
            <a:off x="7616880" y="29242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KUP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4094280" y="6381360"/>
            <a:ext cx="23112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>
            <a:off x="193680" y="6381720"/>
            <a:ext cx="3137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ed by Research and Development Dept (Sept 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7"/>
          </p:nvPr>
        </p:nvSpPr>
        <p:spPr>
          <a:xfrm>
            <a:off x="8695800" y="6381720"/>
            <a:ext cx="10652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6188-1A50-4E17-904D-E1A86E764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271440" y="189000"/>
            <a:ext cx="9363240" cy="640872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2"/>
          <a:stretch/>
        </p:blipFill>
        <p:spPr>
          <a:xfrm>
            <a:off x="5168880" y="1890720"/>
            <a:ext cx="2160720" cy="1239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271440" y="189000"/>
            <a:ext cx="9363240" cy="1584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243040" y="3040200"/>
            <a:ext cx="205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77777"/>
                </a:solidFill>
                <a:latin typeface="Arial"/>
              </a:rPr>
              <a:t>Stop Searching, Start Mat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3"/>
          <p:cNvGraphicFramePr/>
          <p:nvPr/>
        </p:nvGraphicFramePr>
        <p:xfrm>
          <a:off x="7761240" y="2133720"/>
          <a:ext cx="74124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61240" y="2133720"/>
                    <a:ext cx="7412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4"/>
          <p:cNvSpPr/>
          <p:nvPr/>
        </p:nvSpPr>
        <p:spPr>
          <a:xfrm>
            <a:off x="7616880" y="29242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KUP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28400" y="1125360"/>
            <a:ext cx="91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4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8"/>
          </p:nvPr>
        </p:nvSpPr>
        <p:spPr>
          <a:xfrm>
            <a:off x="4094280" y="6381360"/>
            <a:ext cx="23112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9"/>
          </p:nvPr>
        </p:nvSpPr>
        <p:spPr>
          <a:xfrm>
            <a:off x="193680" y="6381720"/>
            <a:ext cx="3137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ed by Research and Development Dept (Sept 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0"/>
          </p:nvPr>
        </p:nvSpPr>
        <p:spPr>
          <a:xfrm>
            <a:off x="8695800" y="6381720"/>
            <a:ext cx="10652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39DB-9459-4735-8EFC-9DA82BC5D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68160" y="3428640"/>
            <a:ext cx="705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How Happy are Your Employees?</a:t>
            </a:r>
            <a:br>
              <a:rPr sz="24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“HeadlineJobs Quality Workplace Index 2008” :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 New Matrix of Employees’ Job Satisfaction Measuremen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881240" y="5157360"/>
            <a:ext cx="360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Speaker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r Robert Ting-Yiu Chung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irector of Public Opinion Programm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The University of Hong Kong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投影片編號版面配置區 4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3E2E-A949-46FF-ACC3-52DF0B954895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Methodology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49240" y="1213920"/>
            <a:ext cx="8267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e survey instrument was co-developed by HeadlineJobs and the Public Opinion Programme (POP) of the University of Hong Kong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ampl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Random telephone survey conducted by interviewer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arget respondents were HK working population of age 18 or abov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requency of Stud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Quarterl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ample Siz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,000 successful cases per quarte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288400" y="3857760"/>
            <a:ext cx="3967920" cy="184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uccessful C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 - 1st quarter (2008Q1): 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1,003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 - 2nd quarter (2008Q2): 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1,005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 - 3rd quarter (2008Q3): 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1,003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: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 3,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投影片編號版面配置區 5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82BE-91AF-47C8-ABBB-DB355E75A17B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Unweighted sample profile for  2008Q3 Survey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65240" y="1197000"/>
          <a:ext cx="3889440" cy="4640400"/>
        </p:xfrm>
        <a:graphic>
          <a:graphicData uri="http://schemas.openxmlformats.org/drawingml/2006/table">
            <a:tbl>
              <a:tblPr/>
              <a:tblGrid>
                <a:gridCol w="2909880"/>
                <a:gridCol w="9795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8Q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ge 18-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ge 30-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ge 4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ge 6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rimary or be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econd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Terti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Manufactu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nstr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Wholesales, retail and im/export trades, restaurants and hot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Transport, storage and commun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Financing, insurance, real estate and business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mmunity, social and pers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168880" y="1197000"/>
          <a:ext cx="3168720" cy="4608360"/>
        </p:xfrm>
        <a:graphic>
          <a:graphicData uri="http://schemas.openxmlformats.org/drawingml/2006/table">
            <a:tbl>
              <a:tblPr/>
              <a:tblGrid>
                <a:gridCol w="2131920"/>
                <a:gridCol w="10368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8Q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iddle to senior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fess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eneral white col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eneral blue col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lf-employ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ersonal income &lt;$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$8000-1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$12000-19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$20000-29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$30000-49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$50000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mpany size &lt;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-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0-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-4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0-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00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AutoShape 230"/>
          <p:cNvSpPr/>
          <p:nvPr/>
        </p:nvSpPr>
        <p:spPr>
          <a:xfrm>
            <a:off x="3152880" y="1989000"/>
            <a:ext cx="180000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31"/>
          <p:cNvSpPr/>
          <p:nvPr/>
        </p:nvSpPr>
        <p:spPr>
          <a:xfrm>
            <a:off x="3224160" y="3573360"/>
            <a:ext cx="1728720" cy="287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2"/>
          <p:cNvSpPr/>
          <p:nvPr/>
        </p:nvSpPr>
        <p:spPr>
          <a:xfrm>
            <a:off x="1088640" y="5877000"/>
            <a:ext cx="236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: HK working population aged 18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33"/>
          <p:cNvSpPr/>
          <p:nvPr/>
        </p:nvSpPr>
        <p:spPr>
          <a:xfrm>
            <a:off x="5529240" y="1413000"/>
            <a:ext cx="280836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5"/>
          <p:cNvSpPr/>
          <p:nvPr/>
        </p:nvSpPr>
        <p:spPr>
          <a:xfrm>
            <a:off x="1281240" y="5013360"/>
            <a:ext cx="3671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投影片編號版面配置區 2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5269-BAF2-45A1-BE05-8BF3A92EF1C2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52520" y="2636640"/>
            <a:ext cx="72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esult Highlight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投影片編號版面配置區 4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9D2F-CCA7-44CA-968A-DB32ED42A802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Job Satisfaction Index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662040" y="1557360"/>
          <a:ext cx="879804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7360"/>
                    <a:ext cx="879804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Text Box 4"/>
          <p:cNvSpPr/>
          <p:nvPr/>
        </p:nvSpPr>
        <p:spPr>
          <a:xfrm>
            <a:off x="507960" y="5707080"/>
            <a:ext cx="42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Projected bas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Employee s- Q1: 3,058,300; Q2: 3,241,500; Q3: 3,229,2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Employers – Q1: 106,500; Q2: 118,400; Q3: 183,20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819000" y="1079640"/>
            <a:ext cx="8813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Employees: Overall, how satisfied are you with your current post of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Employers: Overall, how satisfied do you think your staff is with their current post of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6"/>
          <p:cNvSpPr/>
          <p:nvPr/>
        </p:nvSpPr>
        <p:spPr>
          <a:xfrm>
            <a:off x="6176880" y="2708280"/>
            <a:ext cx="0" cy="647640"/>
          </a:xfrm>
          <a:prstGeom prst="line">
            <a:avLst/>
          </a:prstGeom>
          <a:ln w="31680">
            <a:solidFill>
              <a:srgbClr val="008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投影片編號版面配置區 4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C39B-831B-4A23-8FF6-717F6FBF0E9E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Motivators to job satisfaction by position of work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31800" y="907920"/>
          <a:ext cx="8713800" cy="5164200"/>
        </p:xfrm>
        <a:graphic>
          <a:graphicData uri="http://schemas.openxmlformats.org/drawingml/2006/table">
            <a:tbl>
              <a:tblPr/>
              <a:tblGrid>
                <a:gridCol w="792360"/>
                <a:gridCol w="1958760"/>
                <a:gridCol w="1967040"/>
                <a:gridCol w="2074680"/>
                <a:gridCol w="1920960"/>
              </a:tblGrid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Impor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ll employe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anagement staf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rofessional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eneral white coll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Rank or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Management recog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Management recog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fe working enviro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secu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fe working enviro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secu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/ supervisors/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ith co-work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secu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/ supervisors/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secu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/ supervisors/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Management recog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rofessiona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nature &amp;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Management recog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ith co-work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fe working enviro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/ supervisors/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ith co-work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ut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rofessiona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rofessiona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lationship with co-work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Safe working enviro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rofessiona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ut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ntribution to the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ut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Aut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nature &amp;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ntribution to the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rporate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ntribution to the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nature &amp;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ntribution to the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rporate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rporate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orporate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nature &amp;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8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areer advancement 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areer advancement 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areer advancement 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Career advancement 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Netwo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varie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varie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Netwo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varie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Netwo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Netwo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 varie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Work flex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Work flex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Work flex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Work flex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00" name="AutoShape 360"/>
          <p:cNvSpPr/>
          <p:nvPr/>
        </p:nvSpPr>
        <p:spPr>
          <a:xfrm>
            <a:off x="3368520" y="1484280"/>
            <a:ext cx="4105440" cy="28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61"/>
          <p:cNvSpPr/>
          <p:nvPr/>
        </p:nvSpPr>
        <p:spPr>
          <a:xfrm>
            <a:off x="7473960" y="2781360"/>
            <a:ext cx="1873080" cy="287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62"/>
          <p:cNvSpPr/>
          <p:nvPr/>
        </p:nvSpPr>
        <p:spPr>
          <a:xfrm>
            <a:off x="3368520" y="2781360"/>
            <a:ext cx="1944720" cy="28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64"/>
          <p:cNvSpPr/>
          <p:nvPr/>
        </p:nvSpPr>
        <p:spPr>
          <a:xfrm>
            <a:off x="5457960" y="3429000"/>
            <a:ext cx="1944720" cy="28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65"/>
          <p:cNvSpPr/>
          <p:nvPr/>
        </p:nvSpPr>
        <p:spPr>
          <a:xfrm>
            <a:off x="7400880" y="3716280"/>
            <a:ext cx="1944720" cy="28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66"/>
          <p:cNvSpPr/>
          <p:nvPr/>
        </p:nvSpPr>
        <p:spPr>
          <a:xfrm>
            <a:off x="3368520" y="3429000"/>
            <a:ext cx="1944720" cy="28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67"/>
          <p:cNvSpPr/>
          <p:nvPr/>
        </p:nvSpPr>
        <p:spPr>
          <a:xfrm>
            <a:off x="5457960" y="4005360"/>
            <a:ext cx="3887640" cy="28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68"/>
          <p:cNvSpPr/>
          <p:nvPr/>
        </p:nvSpPr>
        <p:spPr>
          <a:xfrm>
            <a:off x="3368520" y="1989000"/>
            <a:ext cx="19447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69"/>
          <p:cNvSpPr/>
          <p:nvPr/>
        </p:nvSpPr>
        <p:spPr>
          <a:xfrm>
            <a:off x="5457960" y="3068640"/>
            <a:ext cx="19447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70"/>
          <p:cNvSpPr/>
          <p:nvPr/>
        </p:nvSpPr>
        <p:spPr>
          <a:xfrm>
            <a:off x="7400880" y="2421000"/>
            <a:ext cx="19447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投影片編號版面配置區 4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8579-B984-4B60-A747-A0F32C117077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Job-Seeking Index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13" name="Object 3"/>
          <p:cNvGraphicFramePr/>
          <p:nvPr/>
        </p:nvGraphicFramePr>
        <p:xfrm>
          <a:off x="38160" y="1054080"/>
          <a:ext cx="8875800" cy="47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054080"/>
                    <a:ext cx="887580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Text Box 4"/>
          <p:cNvSpPr/>
          <p:nvPr/>
        </p:nvSpPr>
        <p:spPr>
          <a:xfrm>
            <a:off x="507960" y="5950080"/>
            <a:ext cx="428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Projected base: Employees -Q1: 3,058,300; Q2: 3,241,500; Q3: 3,229,2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5889600" y="1268280"/>
          <a:ext cx="3508560" cy="2687760"/>
        </p:xfrm>
        <a:graphic>
          <a:graphicData uri="http://schemas.openxmlformats.org/drawingml/2006/table">
            <a:tbl>
              <a:tblPr/>
              <a:tblGrid>
                <a:gridCol w="630360"/>
                <a:gridCol w="2192400"/>
                <a:gridCol w="685800"/>
              </a:tblGrid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Job-seeking chann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Recruitment web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Newspa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ersonal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Labour Depart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cruitment ag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ecruitment magaz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Projected base: Job seekers: 681,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7" name="Line 47"/>
          <p:cNvSpPr/>
          <p:nvPr/>
        </p:nvSpPr>
        <p:spPr>
          <a:xfrm flipH="1">
            <a:off x="5500800" y="2133720"/>
            <a:ext cx="387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7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8FE0-654D-4489-9F69-98661339DF60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ho are the job-seekers?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3944880" y="2563920"/>
            <a:ext cx="1871640" cy="23778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oking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new jo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 co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 month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21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5240160" y="1125360"/>
            <a:ext cx="2376720" cy="792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b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>
            <a:off x="3368520" y="3068640"/>
            <a:ext cx="912960" cy="289080"/>
          </a:xfrm>
          <a:prstGeom prst="line">
            <a:avLst/>
          </a:prstGeom>
          <a:ln w="1908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 flipV="1">
            <a:off x="3368520" y="4076640"/>
            <a:ext cx="863640" cy="504720"/>
          </a:xfrm>
          <a:prstGeom prst="line">
            <a:avLst/>
          </a:prstGeom>
          <a:ln w="1908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528880" y="3573360"/>
            <a:ext cx="749160" cy="0"/>
          </a:xfrm>
          <a:prstGeom prst="line">
            <a:avLst/>
          </a:prstGeom>
          <a:ln w="1908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2792520" y="1197000"/>
          <a:ext cx="2425680" cy="733320"/>
        </p:xfrm>
        <a:graphic>
          <a:graphicData uri="http://schemas.openxmlformats.org/drawingml/2006/table">
            <a:tbl>
              <a:tblPr/>
              <a:tblGrid>
                <a:gridCol w="1785960"/>
                <a:gridCol w="639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 Narrow"/>
                        </a:rPr>
                        <a:t>Satisfi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 Narrow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 Narrow"/>
                        </a:rPr>
                        <a:t>Not satisfi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 Narrow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63"/>
          <p:cNvSpPr/>
          <p:nvPr/>
        </p:nvSpPr>
        <p:spPr>
          <a:xfrm>
            <a:off x="355680" y="2690640"/>
            <a:ext cx="1171440" cy="79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der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4"/>
          <p:cNvSpPr/>
          <p:nvPr/>
        </p:nvSpPr>
        <p:spPr>
          <a:xfrm>
            <a:off x="8408880" y="2997360"/>
            <a:ext cx="1171800" cy="79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ustry^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5"/>
          <p:cNvSpPr/>
          <p:nvPr/>
        </p:nvSpPr>
        <p:spPr>
          <a:xfrm>
            <a:off x="396720" y="4305240"/>
            <a:ext cx="1171800" cy="79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321600" y="2997360"/>
          <a:ext cx="1871640" cy="1854000"/>
        </p:xfrm>
        <a:graphic>
          <a:graphicData uri="http://schemas.openxmlformats.org/drawingml/2006/table">
            <a:tbl>
              <a:tblPr/>
              <a:tblGrid>
                <a:gridCol w="1325520"/>
                <a:gridCol w="546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Financing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Retai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Construc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Manufactu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Transpor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Soci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1496880" y="4303800"/>
          <a:ext cx="1871640" cy="1218960"/>
        </p:xfrm>
        <a:graphic>
          <a:graphicData uri="http://schemas.openxmlformats.org/drawingml/2006/table">
            <a:tbl>
              <a:tblPr/>
              <a:tblGrid>
                <a:gridCol w="1287720"/>
                <a:gridCol w="583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Managemen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Profession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White colla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lue colla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579680" y="2330280"/>
          <a:ext cx="1770120" cy="1828800"/>
        </p:xfrm>
        <a:graphic>
          <a:graphicData uri="http://schemas.openxmlformats.org/drawingml/2006/table">
            <a:tbl>
              <a:tblPr/>
              <a:tblGrid>
                <a:gridCol w="1225440"/>
                <a:gridCol w="544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Male 18-29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Male 30-44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Male 45-64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Female 18-29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Female 30-44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Female 45-64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Line 125"/>
          <p:cNvSpPr/>
          <p:nvPr/>
        </p:nvSpPr>
        <p:spPr>
          <a:xfrm>
            <a:off x="4737240" y="1916280"/>
            <a:ext cx="0" cy="649080"/>
          </a:xfrm>
          <a:prstGeom prst="line">
            <a:avLst/>
          </a:prstGeom>
          <a:ln w="1908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8"/>
          <p:cNvSpPr/>
          <p:nvPr/>
        </p:nvSpPr>
        <p:spPr>
          <a:xfrm>
            <a:off x="6595920" y="5734080"/>
            <a:ext cx="29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Projected base: Employee (3,229,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% denotes percentage of job-seekers within particular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3704040" y="5445000"/>
            <a:ext cx="26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^ Financing - Financing, insurance, real estate &amp; business services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etail - Wholesale, retail &amp; im/export trades, restaurants &amp; hotels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ransport - Transport, storage &amp; communications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ocial - Community, social &amp; personal servi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31"/>
          <p:cNvSpPr/>
          <p:nvPr/>
        </p:nvSpPr>
        <p:spPr>
          <a:xfrm>
            <a:off x="1652760" y="2330280"/>
            <a:ext cx="1715760" cy="289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32"/>
          <p:cNvSpPr/>
          <p:nvPr/>
        </p:nvSpPr>
        <p:spPr>
          <a:xfrm>
            <a:off x="1652760" y="3265560"/>
            <a:ext cx="1715760" cy="288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33"/>
          <p:cNvSpPr/>
          <p:nvPr/>
        </p:nvSpPr>
        <p:spPr>
          <a:xfrm>
            <a:off x="1568520" y="4941720"/>
            <a:ext cx="1795320" cy="287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4"/>
          <p:cNvSpPr/>
          <p:nvPr/>
        </p:nvSpPr>
        <p:spPr>
          <a:xfrm>
            <a:off x="6321600" y="3357720"/>
            <a:ext cx="1795320" cy="288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5"/>
          <p:cNvSpPr/>
          <p:nvPr/>
        </p:nvSpPr>
        <p:spPr>
          <a:xfrm>
            <a:off x="2720880" y="1125360"/>
            <a:ext cx="2509920" cy="79092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53"/>
          <p:cNvSpPr/>
          <p:nvPr/>
        </p:nvSpPr>
        <p:spPr>
          <a:xfrm>
            <a:off x="2649600" y="1413000"/>
            <a:ext cx="2736720" cy="720720"/>
          </a:xfrm>
          <a:prstGeom prst="ellips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投影片編號版面配置區 2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C169-9876-4F32-9856-B5A7AE141982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52520" y="2636640"/>
            <a:ext cx="72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Q &amp; 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投影片編號版面配置區 2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1021-D6E7-4E2F-9DA4-398FB4AB3D2C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52520" y="2636640"/>
            <a:ext cx="72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投影片編號版面配置區 2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8273-46B4-4122-8422-12EB4F7AE87D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65240" y="2205000"/>
            <a:ext cx="5832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an employees’ salary catch up</a:t>
            </a:r>
            <a:br>
              <a:rPr sz="2400"/>
            </a:b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with inflation?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3" name="Picture 3" descr="j0234752"/>
          <p:cNvPicPr/>
          <p:nvPr/>
        </p:nvPicPr>
        <p:blipFill>
          <a:blip r:embed="rId1"/>
          <a:stretch/>
        </p:blipFill>
        <p:spPr>
          <a:xfrm>
            <a:off x="1352520" y="2060640"/>
            <a:ext cx="1482840" cy="1657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208160" y="3933720"/>
            <a:ext cx="755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ifferent are the views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ploy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ploye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09600" y="550080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s taken from 2008Q2 surv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投影片編號版面配置區 5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57FD-28CA-41AD-AD93-72FA7EA04632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an employees’ salary catch up with </a:t>
            </a:r>
            <a:r>
              <a:rPr b="1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inflation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428760" y="1197000"/>
          <a:ext cx="42843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97000"/>
                    <a:ext cx="42843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4"/>
          <p:cNvGraphicFramePr/>
          <p:nvPr/>
        </p:nvGraphicFramePr>
        <p:xfrm>
          <a:off x="5502240" y="1197000"/>
          <a:ext cx="3962520" cy="46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2240" y="1197000"/>
                    <a:ext cx="396252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"/>
          <p:cNvSpPr/>
          <p:nvPr/>
        </p:nvSpPr>
        <p:spPr>
          <a:xfrm>
            <a:off x="4741560" y="31417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8046360" y="587700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ource: HKUP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645840" y="53737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jected base: Employers (118,4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mple base: 34 (small sample)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600520" y="5500800"/>
            <a:ext cx="22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jected base: Employees (3,241,400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585360" y="5877000"/>
            <a:ext cx="571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</a:rPr>
              <a:t>Figures taken from 2008Q2 survey, figures above have excluded refusal cases and blank answ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2649600" y="3068640"/>
            <a:ext cx="1366920" cy="136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7543800" y="2590920"/>
            <a:ext cx="115092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2936880" y="2276640"/>
            <a:ext cx="3816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a ga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投影片編號版面配置區 2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03D4-20E7-47A7-A217-4E56854A65F2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65240" y="2205000"/>
            <a:ext cx="5832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Legislation for “minimum wage and maximum working hours”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3" name="Picture 3" descr="j0234752"/>
          <p:cNvPicPr/>
          <p:nvPr/>
        </p:nvPicPr>
        <p:blipFill>
          <a:blip r:embed="rId1"/>
          <a:stretch/>
        </p:blipFill>
        <p:spPr>
          <a:xfrm>
            <a:off x="1352520" y="2060640"/>
            <a:ext cx="1482840" cy="16574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309600" y="550080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s taken from 2008Q2 surv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238400" y="4071960"/>
            <a:ext cx="755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ifferent are the views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ploy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ploye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投影片編號版面配置區 5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04B4-E845-471A-A12A-21D173FA8F6F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4520" y="115920"/>
            <a:ext cx="770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egislation for “minimum wage &amp; maximum working hours”?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29" name="Object 3"/>
          <p:cNvGraphicFramePr/>
          <p:nvPr/>
        </p:nvGraphicFramePr>
        <p:xfrm>
          <a:off x="428760" y="1197000"/>
          <a:ext cx="42843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97000"/>
                    <a:ext cx="42843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5"/>
          <p:cNvSpPr/>
          <p:nvPr/>
        </p:nvSpPr>
        <p:spPr>
          <a:xfrm>
            <a:off x="4646520" y="3213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6"/>
          <p:cNvGraphicFramePr/>
          <p:nvPr/>
        </p:nvGraphicFramePr>
        <p:xfrm>
          <a:off x="5310360" y="1214280"/>
          <a:ext cx="4281480" cy="46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0360" y="1214280"/>
                    <a:ext cx="428148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7"/>
          <p:cNvSpPr/>
          <p:nvPr/>
        </p:nvSpPr>
        <p:spPr>
          <a:xfrm>
            <a:off x="5515200" y="5516640"/>
            <a:ext cx="22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jected base: Employees (3,241,400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8046360" y="587700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ource: HKUP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36480" y="53737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jected base: Employers (118,4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mple base: 34 (small sample)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936880" y="1844640"/>
            <a:ext cx="3816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a ga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649600" y="2852640"/>
            <a:ext cx="1366920" cy="136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5"/>
          <p:cNvSpPr/>
          <p:nvPr/>
        </p:nvSpPr>
        <p:spPr>
          <a:xfrm>
            <a:off x="7329600" y="3573360"/>
            <a:ext cx="1366560" cy="136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585360" y="5877000"/>
            <a:ext cx="571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</a:rPr>
              <a:t>Figures taken from 2008Q2 survey, figures above have excluded refusal cases and blank answ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投影片編號版面配置區 2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87A4-94AB-40C6-8684-D1594344FA47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17240" y="2204640"/>
            <a:ext cx="7272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know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how happy are</a:t>
            </a:r>
            <a:br>
              <a:rPr sz="2400"/>
            </a:b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your own employees?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4" name="Picture 3" descr="j0234752"/>
          <p:cNvPicPr/>
          <p:nvPr/>
        </p:nvPicPr>
        <p:blipFill>
          <a:blip r:embed="rId1"/>
          <a:stretch/>
        </p:blipFill>
        <p:spPr>
          <a:xfrm>
            <a:off x="809640" y="1928880"/>
            <a:ext cx="1609560" cy="1800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2649600" y="4291200"/>
            <a:ext cx="6119640" cy="6789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dlineJobs’ Quality Workplac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投影片編號版面配置區 4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3FF6-FFEF-4600-B669-9ED51D0266B4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76197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About HeadlineJobs’ Quality Workplace Index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8400" y="928800"/>
            <a:ext cx="912636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 view of the high job-seeking rate, the recruitment and retention of good employees becomes more challenging - factors long thought to satisfy employees may be shifting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eadlineJobs, with a mission to provide the best recruitment solution to meet the needs of today’s job-seekers and recruiters, decided to study the job satisfaction of Hong Kong employees through scientific surveys so as to provide HR professionals with reliable and vital insights for HR management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What makes a quality workplace?” is the question to be answer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281240" y="3860640"/>
            <a:ext cx="3589200" cy="1297080"/>
          </a:xfrm>
          <a:prstGeom prst="cloudCallout">
            <a:avLst>
              <a:gd name="adj1" fmla="val -57916"/>
              <a:gd name="adj2" fmla="val 72398"/>
            </a:avLst>
          </a:prstGeom>
          <a:solidFill>
            <a:srgbClr val="d6009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mployees: How satisfied are you with your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5097600" y="3789360"/>
            <a:ext cx="3822480" cy="1366920"/>
          </a:xfrm>
          <a:prstGeom prst="cloudCallout">
            <a:avLst>
              <a:gd name="adj1" fmla="val 52199"/>
              <a:gd name="adj2" fmla="val 72879"/>
            </a:avLst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mployers: How satisfied do you think your staff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with their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投影片編號版面配置區 4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3C2F-352A-45D7-B6BF-BBA1FE662BE5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6600" y="44280"/>
            <a:ext cx="7334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Job satisfaction model – 16 attribute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Oval 3"/>
          <p:cNvSpPr/>
          <p:nvPr/>
        </p:nvSpPr>
        <p:spPr>
          <a:xfrm>
            <a:off x="3782880" y="2193840"/>
            <a:ext cx="2340000" cy="216072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 rot="1800000">
            <a:off x="2144520" y="1412640"/>
            <a:ext cx="2495520" cy="1135080"/>
          </a:xfrm>
          <a:prstGeom prst="rightArrow">
            <a:avLst>
              <a:gd name="adj1" fmla="val 51852"/>
              <a:gd name="adj2" fmla="val 652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19800000">
            <a:off x="1913040" y="3519360"/>
            <a:ext cx="2279520" cy="998640"/>
          </a:xfrm>
          <a:prstGeom prst="rightArrow">
            <a:avLst>
              <a:gd name="adj1" fmla="val 57713"/>
              <a:gd name="adj2" fmla="val 5701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19800000">
            <a:off x="5240160" y="1412640"/>
            <a:ext cx="2340000" cy="1050840"/>
          </a:xfrm>
          <a:prstGeom prst="leftArrow">
            <a:avLst>
              <a:gd name="adj1" fmla="val 60324"/>
              <a:gd name="adj2" fmla="val 5439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1800000">
            <a:off x="5678280" y="3692520"/>
            <a:ext cx="2592360" cy="1009800"/>
          </a:xfrm>
          <a:prstGeom prst="leftArrow">
            <a:avLst>
              <a:gd name="adj1" fmla="val 60324"/>
              <a:gd name="adj2" fmla="val 627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er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>
            <a:off x="4329000" y="4076640"/>
            <a:ext cx="1171800" cy="1873440"/>
          </a:xfrm>
          <a:prstGeom prst="upArrow">
            <a:avLst>
              <a:gd name="adj1" fmla="val 64926"/>
              <a:gd name="adj2" fmla="val 4008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b 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00160" y="2060640"/>
            <a:ext cx="329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Narrow"/>
              </a:rPr>
              <a:t>Relationship with supervisors/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Narrow"/>
              </a:rPr>
              <a:t>Management recog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Narrow"/>
              </a:rPr>
              <a:t>Aut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415800" y="4941720"/>
            <a:ext cx="324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66cc"/>
              </a:buClr>
              <a:buFont typeface="Arial Narro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 Narrow"/>
              </a:rPr>
              <a:t>Relationship with co-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cc"/>
              </a:buClr>
              <a:buFont typeface="Arial Narro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 Narrow"/>
              </a:rPr>
              <a:t>Contribution to the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cc"/>
              </a:buClr>
              <a:buFont typeface="Arial Narro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Arial Narrow"/>
              </a:rPr>
              <a:t>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394240" y="5130720"/>
            <a:ext cx="227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Arial Narrow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 Narrow"/>
              </a:rPr>
              <a:t>Job nature &amp; mea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Arial Narrow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 Narrow"/>
              </a:rPr>
              <a:t>Job var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Arial Narrow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 Narrow"/>
              </a:rPr>
              <a:t>Corporate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7257960" y="3467160"/>
            <a:ext cx="26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Arial Narrow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Professional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Arial Narrow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Career advancement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7206120" y="1754280"/>
            <a:ext cx="2605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</a:rPr>
              <a:t>Safe work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</a:rPr>
              <a:t>Job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</a:rPr>
              <a:t>Sal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</a:rPr>
              <a:t>Bene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</a:rPr>
              <a:t>Work flex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5"/>
          <p:cNvSpPr/>
          <p:nvPr/>
        </p:nvSpPr>
        <p:spPr>
          <a:xfrm>
            <a:off x="8620200" y="6237360"/>
            <a:ext cx="8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63F0-2FA1-4026-8522-DA45C2B7E6A8}" type="slidenum">
              <a:rPr b="1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5440" y="189000"/>
            <a:ext cx="7620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oncepts and definition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7960" y="1214280"/>
            <a:ext cx="865656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30000"/>
              </a:lnSpc>
              <a:spcBef>
                <a:spcPts val="34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mployees were asked to rate their job satisfaction using a five-point scale ranging from “very satisfied”, “quite satisfied”, “half-half”, “not quite satisfied” and “not satisfied at all”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2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34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mployers were asked to estimate their employees’ job satisfaction using the same scale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2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34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hose who answered “very satisfied” or “quite satisfied” (the top 2 boxes) are grouped as “overall satisfied”, whereas those who picked “not quite satisfied” or “not satisfied at all” are grouped as “overall dissatisfied”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頁尾版面配置區 1"/>
          <p:cNvSpPr/>
          <p:nvPr/>
        </p:nvSpPr>
        <p:spPr>
          <a:xfrm>
            <a:off x="271440" y="6453360"/>
            <a:ext cx="421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Prepared by Research and Development Dept , Headline.Job.hk (Sept 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0:36:53Z</dcterms:created>
  <dc:creator>Lee Lap Yin</dc:creator>
  <dc:description/>
  <dc:language>en-US</dc:language>
  <cp:lastModifiedBy>joseph</cp:lastModifiedBy>
  <dcterms:modified xsi:type="dcterms:W3CDTF">2008-09-22T14:03:40Z</dcterms:modified>
  <cp:revision>417</cp:revision>
  <dc:subject/>
  <dc:title>星島通識網 ─ 老師意見訪問調查 2008 </dc:title>
</cp:coreProperties>
</file>