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2572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Franklin Gothic Book"/>
              </a:rPr>
              <a:t>Click to move the slide</a:t>
            </a: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0360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0" y="937080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25720" y="937080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0BCC-111B-489B-AD58-3DFC17487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CB8B-9A05-40A5-8B12-E8BBA9889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036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2836-F103-4D26-9537-CBE508966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036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5BD9-D141-4BE3-B28B-60881AE8A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036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E9EF-9DC6-410A-8188-AF7B72874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036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4861-FD8A-4D23-9200-289786EFF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036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EADB-BE01-4F6A-A86D-97B4FB376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036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C937-98D1-48A1-B04A-C393F66C7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036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FB2C-68F7-4F08-8263-DCABA9EF4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036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00F1-1744-41B1-A036-AEF61C3D3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036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FAEB-C6EF-48E4-BD68-6CC9BC3EC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036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72FB-4DB9-44F0-9A70-0A3AD8744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327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3832560"/>
            <a:ext cx="76327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F75F-14CE-4B2C-8F92-2B7743401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6680" y="11253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38325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6680" y="38325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2C2D-6CB5-402B-A5EB-20972F443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24573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6120" y="1125360"/>
            <a:ext cx="24573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6960" y="1125360"/>
            <a:ext cx="24573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3832560"/>
            <a:ext cx="24573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6120" y="3832560"/>
            <a:ext cx="24573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6960" y="3832560"/>
            <a:ext cx="24573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3B99-D3FA-4AE4-8A1F-8473B8AA5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18041-EE0C-4ACA-B8F7-B947F4FB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28DE9-F4C8-4FDD-A278-BB2E3EAC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DD5C9-2A78-48C6-A1BD-056BAF38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24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680" y="1125360"/>
            <a:ext cx="3724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4F549-53E3-462D-B736-B1DEF68B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CCCAC-F1C2-47E1-A847-75FEA962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63280" y="115560"/>
            <a:ext cx="7201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25FFB-5410-46D2-A9DE-E685C2EA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680" y="1125360"/>
            <a:ext cx="3724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8325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ACC09-A2BA-4350-82B1-7BA01027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FD4A-06E0-4054-9589-3EE83EFB0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24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680" y="11253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6680" y="38325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E0DB7-A12A-4844-9D42-AFE0B080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680" y="11253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3832560"/>
            <a:ext cx="76327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1A82F-7A26-4AF2-BAD0-4599AB8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327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5640" y="3832560"/>
            <a:ext cx="76327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539F1-9BF9-4010-82C7-9AA3CE59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6680" y="11253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5640" y="38325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6680" y="38325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C9438-3A9C-47B7-9C13-3EFAC762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24573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120" y="1125360"/>
            <a:ext cx="24573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16960" y="1125360"/>
            <a:ext cx="24573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55640" y="3832560"/>
            <a:ext cx="24573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120" y="3832560"/>
            <a:ext cx="24573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16960" y="3832560"/>
            <a:ext cx="24573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4C004-1F08-4594-9CA0-FA890927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0CDF-DC45-4010-85EE-09983249A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24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125360"/>
            <a:ext cx="3724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8546-5C72-4E42-A9E1-B9513719B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736C-04CD-48F5-9BE9-3EFCD578D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63280" y="115560"/>
            <a:ext cx="7201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8E07-B26E-46DD-80BF-D36536223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125360"/>
            <a:ext cx="3724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38325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FDB3-7DD5-4E2B-B77B-D308714BC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24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680" y="11253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6680" y="38325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4BFE-FE90-4BF2-8B04-2F5F0A8E9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680" y="1125360"/>
            <a:ext cx="37245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3832560"/>
            <a:ext cx="76327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05C3-A9C0-439B-9803-D3BF9410F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6804000" y="5846760"/>
            <a:ext cx="2340000" cy="101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Franklin Gothic Book"/>
              </a:rPr>
              <a:t>Click to edit the title text format</a:t>
            </a: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0560" y="6526080"/>
            <a:ext cx="26794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epared by HeadlineJobs Research (08 Ma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300360" y="6524280"/>
            <a:ext cx="5144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70D5-8466-41BC-8D13-C7FCF14D7F99}" type="slidenum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3"/>
          <a:stretch/>
        </p:blipFill>
        <p:spPr>
          <a:xfrm>
            <a:off x="684360" y="144360"/>
            <a:ext cx="107928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2"/>
          <p:cNvSpPr/>
          <p:nvPr/>
        </p:nvSpPr>
        <p:spPr>
          <a:xfrm>
            <a:off x="3564000" y="6453360"/>
            <a:ext cx="230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f5f5f"/>
                </a:solidFill>
                <a:latin typeface="Arial Narrow"/>
                <a:ea typeface="바탕"/>
              </a:rPr>
              <a:t>HeadlineJobs Quality Workplace Index 2008 Q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©</a:t>
            </a:r>
            <a:r>
              <a:rPr b="0" lang="en-US" sz="900" spc="-1" strike="noStrike">
                <a:solidFill>
                  <a:srgbClr val="5f5f5f"/>
                </a:solidFill>
                <a:latin typeface="Arial Narrow"/>
                <a:ea typeface="바탕"/>
              </a:rPr>
              <a:t> Copyright 2008 Job Market Publishing Lt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3"/>
          <p:cNvGraphicFramePr/>
          <p:nvPr/>
        </p:nvGraphicFramePr>
        <p:xfrm>
          <a:off x="147600" y="152280"/>
          <a:ext cx="538200" cy="57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00" y="152280"/>
                    <a:ext cx="5382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Text Box 14"/>
          <p:cNvSpPr/>
          <p:nvPr/>
        </p:nvSpPr>
        <p:spPr>
          <a:xfrm>
            <a:off x="76320" y="68580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KU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2232360" cy="128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5076720" y="1106640"/>
            <a:ext cx="2914920" cy="12585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"/>
          <p:cNvSpPr/>
          <p:nvPr/>
        </p:nvSpPr>
        <p:spPr>
          <a:xfrm>
            <a:off x="179280" y="5373720"/>
            <a:ext cx="8785440" cy="6476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79280" y="189000"/>
            <a:ext cx="8785440" cy="6553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1395360" y="1371600"/>
          <a:ext cx="812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5360" y="1371600"/>
                    <a:ext cx="812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13"/>
          <p:cNvSpPr/>
          <p:nvPr/>
        </p:nvSpPr>
        <p:spPr>
          <a:xfrm>
            <a:off x="1371600" y="2163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KUP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Franklin Gothic Book"/>
              </a:rPr>
              <a:t>Click to edit the title text format</a:t>
            </a: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5564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d by HeadlineJobs Research (08 M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9309-5DF2-4A0F-9FCA-07909DBAE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2420640"/>
            <a:ext cx="71294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Franklin Gothic Book"/>
              </a:rPr>
              <a:t>HeadlineJobs Quality Workplace Index 2008 - First Quarter</a:t>
            </a:r>
            <a:br>
              <a:rPr sz="2000"/>
            </a:br>
            <a:r>
              <a:rPr b="1" lang="en-US" sz="2000" spc="-1" strike="noStrike">
                <a:solidFill>
                  <a:srgbClr val="cc0099"/>
                </a:solidFill>
                <a:latin typeface="Franklin Gothic Book"/>
              </a:rPr>
              <a:t>HeadlineJobs </a:t>
            </a:r>
            <a:r>
              <a:rPr b="1" lang="zh-TW" sz="2000" spc="-1" strike="noStrike">
                <a:solidFill>
                  <a:srgbClr val="cc0099"/>
                </a:solidFill>
                <a:latin typeface="Franklin Gothic Book"/>
              </a:rPr>
              <a:t>職場滿意指數 </a:t>
            </a:r>
            <a:r>
              <a:rPr b="1" lang="en-US" sz="2000" spc="-1" strike="noStrike">
                <a:solidFill>
                  <a:srgbClr val="cc0099"/>
                </a:solidFill>
                <a:latin typeface="Franklin Gothic Book"/>
              </a:rPr>
              <a:t>2008</a:t>
            </a:r>
            <a:r>
              <a:rPr b="1" lang="zh-TW" sz="2000" spc="-1" strike="noStrike">
                <a:solidFill>
                  <a:srgbClr val="cc0099"/>
                </a:solidFill>
                <a:latin typeface="Franklin Gothic Book"/>
              </a:rPr>
              <a:t>第一季調查</a:t>
            </a:r>
            <a:br>
              <a:rPr sz="2000"/>
            </a:br>
            <a:r>
              <a:rPr b="1" lang="en-US" sz="2000" spc="-1" strike="noStrike">
                <a:solidFill>
                  <a:srgbClr val="ff6600"/>
                </a:solidFill>
                <a:latin typeface="Franklin Gothic Book"/>
              </a:rPr>
              <a:t>Results Highlights</a:t>
            </a:r>
            <a:endParaRPr b="1" lang="en-US" sz="20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76360" y="3933360"/>
            <a:ext cx="3311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ak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Dr Robert Ting-Yiu C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Director, Public Opinion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The University of Hong K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3440" y="2491920"/>
            <a:ext cx="6623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Franklin Gothic Book"/>
              </a:rPr>
              <a:t>Thank You!</a:t>
            </a:r>
            <a:endParaRPr b="1" lang="en-US" sz="28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689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1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頁尾版面配置區 3"/>
          <p:cNvSpPr/>
          <p:nvPr/>
        </p:nvSpPr>
        <p:spPr>
          <a:xfrm>
            <a:off x="250920" y="6526080"/>
            <a:ext cx="2679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epared by HeadlineJobs Research (08 Ma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投影片編號版面配置區 4"/>
          <p:cNvSpPr/>
          <p:nvPr/>
        </p:nvSpPr>
        <p:spPr>
          <a:xfrm>
            <a:off x="6300720" y="6524640"/>
            <a:ext cx="514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CF7F-A726-40A0-B78B-E7D380DC6391}" type="slidenum">
              <a:rPr b="0" lang="en-US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Franklin Gothic Book"/>
              </a:rPr>
              <a:t>about HeadlineJobs Quality Workplace Index</a:t>
            </a: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of the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To study HK employees’ job satisfaction level using a scientific approach</a:t>
            </a:r>
            <a:endParaRPr b="0" lang="en-US" sz="1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The survey instrument was co-developed by HeadlineJobs and the Public Opinion Programme at the University of Hong Kong, </a:t>
            </a:r>
            <a:endParaRPr b="0" lang="en-US" sz="1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ology and 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Random telephone survey conducted by real interviewers</a:t>
            </a:r>
            <a:endParaRPr b="0" lang="en-US" sz="1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Target respondents being HK working population of age 18 or above</a:t>
            </a:r>
            <a:endParaRPr b="0" lang="en-US" sz="1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Sample size being 1000 successful cases per quarter</a:t>
            </a:r>
            <a:endParaRPr b="0" lang="en-US" sz="1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invest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Overall job satisfaction of employees</a:t>
            </a:r>
            <a:endParaRPr b="0" lang="en-US" sz="1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Employers’ perception of employees’ job satisfaction</a:t>
            </a:r>
            <a:endParaRPr b="0" lang="en-US" sz="1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Motivators for job satisfaction</a:t>
            </a:r>
            <a:endParaRPr b="0" lang="en-US" sz="1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頁尾版面配置區 4"/>
          <p:cNvSpPr/>
          <p:nvPr/>
        </p:nvSpPr>
        <p:spPr>
          <a:xfrm>
            <a:off x="250920" y="6526080"/>
            <a:ext cx="2679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epared by HeadlineJobs Research (08 Ma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投影片編號版面配置區 5"/>
          <p:cNvSpPr/>
          <p:nvPr/>
        </p:nvSpPr>
        <p:spPr>
          <a:xfrm>
            <a:off x="6300720" y="6524640"/>
            <a:ext cx="514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0943-D621-46F0-B952-66112BB2B1F3}" type="slidenum">
              <a:rPr b="0" lang="en-US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Franklin Gothic Book"/>
              </a:rPr>
              <a:t>Overall Job Satisfaction</a:t>
            </a:r>
            <a:br>
              <a:rPr sz="2400"/>
            </a:br>
            <a:r>
              <a:rPr b="1" lang="en-US" sz="1600" spc="-1" strike="noStrike">
                <a:solidFill>
                  <a:srgbClr val="292929"/>
                </a:solidFill>
                <a:latin typeface="Franklin Gothic Book"/>
              </a:rPr>
              <a:t>Employees’ Job Satisfaction vs Employers’ Perception</a:t>
            </a:r>
            <a:endParaRPr b="1" lang="en-US" sz="1600" spc="-1" strike="noStrike">
              <a:solidFill>
                <a:srgbClr val="d60093"/>
              </a:solidFill>
              <a:latin typeface="Franklin Gothic Book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50920" y="1838160"/>
          <a:ext cx="4209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38160"/>
                    <a:ext cx="4209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Line 6"/>
          <p:cNvSpPr/>
          <p:nvPr/>
        </p:nvSpPr>
        <p:spPr>
          <a:xfrm>
            <a:off x="4643280" y="1339920"/>
            <a:ext cx="0" cy="4753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7"/>
          <p:cNvGraphicFramePr/>
          <p:nvPr/>
        </p:nvGraphicFramePr>
        <p:xfrm>
          <a:off x="4716360" y="1522440"/>
          <a:ext cx="4100760" cy="507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522440"/>
                    <a:ext cx="410076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8"/>
          <p:cNvSpPr/>
          <p:nvPr/>
        </p:nvSpPr>
        <p:spPr>
          <a:xfrm>
            <a:off x="243000" y="6093000"/>
            <a:ext cx="2043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Target: HK Working Population aged 18 or abo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Sample Size: 1,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Source: HKUPOP &amp; HeadlineJobs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900000" y="1340640"/>
            <a:ext cx="3024360" cy="4590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Q1: Overall, how satisfied are you with your current post of work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2344680" y="581832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: Employees (3,058,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929280" y="5818320"/>
            <a:ext cx="211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: Employers (107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5364000" y="1340640"/>
            <a:ext cx="3095640" cy="45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Q1a: Overall, how satisfied do you think your staff is with their current post of work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2484360" y="2349360"/>
            <a:ext cx="1440000" cy="273528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735280"/>
              <a:gd name="textAreaBottom" fmla="*/ 2665080 h 2735280"/>
            </a:gdLst>
            <a:ahLst/>
            <a:rect l="textAreaLeft" t="textAreaTop" r="textAreaRight" b="textAreaBottom"/>
            <a:pathLst>
              <a:path w="21600" h="41024">
                <a:moveTo>
                  <a:pt x="3600" y="0"/>
                </a:moveTo>
                <a:arcTo wR="3600" hR="3600" stAng="16200000" swAng="-5400000"/>
                <a:lnTo>
                  <a:pt x="0" y="37424"/>
                </a:lnTo>
                <a:arcTo wR="3600" hR="3600" stAng="10800000" swAng="-5400000"/>
                <a:lnTo>
                  <a:pt x="18000" y="41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990160" y="2125800"/>
            <a:ext cx="63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6227640" y="2349360"/>
            <a:ext cx="2089440" cy="180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7238160" y="2198520"/>
            <a:ext cx="63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頁尾版面配置區 4"/>
          <p:cNvSpPr/>
          <p:nvPr/>
        </p:nvSpPr>
        <p:spPr>
          <a:xfrm>
            <a:off x="250920" y="6526080"/>
            <a:ext cx="2679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epared by HeadlineJobs Research (08 Ma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投影片編號版面配置區 5"/>
          <p:cNvSpPr/>
          <p:nvPr/>
        </p:nvSpPr>
        <p:spPr>
          <a:xfrm>
            <a:off x="6300720" y="6524640"/>
            <a:ext cx="514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9746-00A5-4BA9-A29B-E082F6128353}" type="slidenum">
              <a:rPr b="0" lang="en-US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Franklin Gothic Book"/>
              </a:rPr>
              <a:t>Motivators for Employee Job Satisfaction</a:t>
            </a:r>
            <a:br>
              <a:rPr sz="2400"/>
            </a:br>
            <a:r>
              <a:rPr b="1" lang="en-US" sz="1600" spc="-1" strike="noStrike">
                <a:solidFill>
                  <a:srgbClr val="292929"/>
                </a:solidFill>
                <a:latin typeface="Franklin Gothic Book"/>
              </a:rPr>
              <a:t>Top 10 rated factors to Job Satisfaction</a:t>
            </a:r>
            <a:r>
              <a:rPr b="1" lang="en-US" sz="1800" spc="-1" strike="noStrike">
                <a:solidFill>
                  <a:srgbClr val="292929"/>
                </a:solidFill>
                <a:latin typeface="Franklin Gothic Book"/>
              </a:rPr>
              <a:t> </a:t>
            </a:r>
            <a:endParaRPr b="1" lang="en-US" sz="18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4103640" cy="468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60093"/>
                </a:solidFill>
                <a:uFillTx/>
                <a:latin typeface="Arial"/>
              </a:rPr>
              <a:t>Employ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 /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onship with co-wor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eling safe in the work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onship with immediate superv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ment recog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 between employee and senior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portunities to use skills and abilities in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ontribution of the employee's work to the overall business goal of th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58920" y="1267920"/>
            <a:ext cx="4033800" cy="46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60093"/>
                </a:solidFill>
                <a:uFillTx/>
                <a:latin typeface="Arial"/>
              </a:rPr>
              <a:t>Emplo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onship with co-wor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 between employee and senior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 /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ontribution of the employee’s work to the overall business goal of th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portunities to use skills and abilities in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eling safe in the work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onship with immediate superv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corporat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ization’s commitment to profession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304040" y="1700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230880" y="225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151320" y="26370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7086240" y="486900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Wingdings"/>
                <a:ea typeface="Wingdings"/>
              </a:rPr>
              <a:t>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171840" y="544500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Wingdings"/>
                <a:ea typeface="Wingdings"/>
              </a:rPr>
              <a:t>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V="1">
            <a:off x="8305920" y="472428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V="1">
            <a:off x="8153280" y="426708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8820000" y="4005360"/>
            <a:ext cx="0" cy="215640"/>
          </a:xfrm>
          <a:prstGeom prst="line">
            <a:avLst/>
          </a:prstGeom>
          <a:ln w="284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 flipV="1">
            <a:off x="6300720" y="306864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324000" y="3500280"/>
            <a:ext cx="2663640" cy="720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8388360" y="3645000"/>
            <a:ext cx="0" cy="215640"/>
          </a:xfrm>
          <a:prstGeom prst="line">
            <a:avLst/>
          </a:prstGeom>
          <a:ln w="284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7669080" y="5950080"/>
            <a:ext cx="123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Note: Rank by Top 2 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243000" y="6093000"/>
            <a:ext cx="2043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Target: HK Working Population aged 18 or abo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Sample Size: 1,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Source: HKUP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頁尾版面配置區 4"/>
          <p:cNvSpPr/>
          <p:nvPr/>
        </p:nvSpPr>
        <p:spPr>
          <a:xfrm>
            <a:off x="250920" y="6526080"/>
            <a:ext cx="2679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epared by HeadlineJobs Research (08 Ma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投影片編號版面配置區 5"/>
          <p:cNvSpPr/>
          <p:nvPr/>
        </p:nvSpPr>
        <p:spPr>
          <a:xfrm>
            <a:off x="6300720" y="6524640"/>
            <a:ext cx="514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431E-9F54-4A84-890E-1F978B4F533A}" type="slidenum">
              <a:rPr b="0" lang="en-US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Franklin Gothic Book"/>
              </a:rPr>
              <a:t>Job Satisfaction by Age</a:t>
            </a: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graphicFrame>
        <p:nvGraphicFramePr>
          <p:cNvPr id="145" name="Object 8"/>
          <p:cNvGraphicFramePr/>
          <p:nvPr/>
        </p:nvGraphicFramePr>
        <p:xfrm>
          <a:off x="190440" y="987480"/>
          <a:ext cx="4405320" cy="47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987480"/>
                    <a:ext cx="440532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9280" y="1125000"/>
            <a:ext cx="3960720" cy="4319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most important motivators for job satisfaction by age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ng Group (aged 18-2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Management Recognition</a:t>
            </a:r>
            <a:endParaRPr b="0" lang="en-US" sz="16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-age Group (aged 30-4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Autonomy on Decision Making</a:t>
            </a:r>
            <a:endParaRPr b="0" lang="en-US" sz="16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ure Group (aged 45-6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Job Security</a:t>
            </a:r>
            <a:endParaRPr b="0" lang="en-US" sz="1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 flipV="1">
            <a:off x="1476360" y="1267920"/>
            <a:ext cx="2590920" cy="79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187640" y="5734080"/>
            <a:ext cx="246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: Population of respective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243000" y="6093000"/>
            <a:ext cx="2043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Target: HK Working Population aged 18 or abo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Sample Size: 1,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Source: HKUP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頁尾版面配置區 4"/>
          <p:cNvSpPr/>
          <p:nvPr/>
        </p:nvSpPr>
        <p:spPr>
          <a:xfrm>
            <a:off x="250920" y="6526080"/>
            <a:ext cx="2679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epared by HeadlineJobs Research (08 Ma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投影片編號版面配置區 5"/>
          <p:cNvSpPr/>
          <p:nvPr/>
        </p:nvSpPr>
        <p:spPr>
          <a:xfrm>
            <a:off x="6300720" y="6524640"/>
            <a:ext cx="514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4481-6C04-4A0B-86D8-5D43DFF77D61}" type="slidenum">
              <a:rPr b="0" lang="en-US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Franklin Gothic Book"/>
              </a:rPr>
              <a:t>Job Satisfaction by Income</a:t>
            </a: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01600" y="907920"/>
          <a:ext cx="524988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" y="907920"/>
                    <a:ext cx="524988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240000" cy="352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is most importa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lationship with Immediate Superv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y are they dissatisfi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anagement Recog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3780000" y="2421000"/>
            <a:ext cx="863280" cy="172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 flipV="1">
            <a:off x="4284720" y="1989000"/>
            <a:ext cx="136692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43000" y="6093000"/>
            <a:ext cx="2043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Target: HK Working Population aged 18 or abo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Sample Size: 1,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Source: HKUP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24000" y="5877000"/>
            <a:ext cx="246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: Population of respective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1332000" y="1267920"/>
            <a:ext cx="3456000" cy="201636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頁尾版面配置區 4"/>
          <p:cNvSpPr/>
          <p:nvPr/>
        </p:nvSpPr>
        <p:spPr>
          <a:xfrm>
            <a:off x="250920" y="6526080"/>
            <a:ext cx="2679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epared by HeadlineJobs Research (08 Ma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投影片編號版面配置區 5"/>
          <p:cNvSpPr/>
          <p:nvPr/>
        </p:nvSpPr>
        <p:spPr>
          <a:xfrm>
            <a:off x="6300720" y="6524640"/>
            <a:ext cx="514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39C-8722-42A6-B171-5EC81A9840E5}" type="slidenum">
              <a:rPr b="0" lang="en-US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Franklin Gothic Book"/>
              </a:rPr>
              <a:t>Job Retention vs Job Satisfaction</a:t>
            </a: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179280" y="1197000"/>
          <a:ext cx="413856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4138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4"/>
          <p:cNvSpPr/>
          <p:nvPr/>
        </p:nvSpPr>
        <p:spPr>
          <a:xfrm>
            <a:off x="243000" y="6093000"/>
            <a:ext cx="2043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Target: HK Working Population aged 18 or abo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Sample Size: 1,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Source: HKUP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51280" y="554184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: Employee (3,049,0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411280" y="3357720"/>
            <a:ext cx="144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8"/>
          <p:cNvGraphicFramePr/>
          <p:nvPr/>
        </p:nvGraphicFramePr>
        <p:xfrm>
          <a:off x="5106960" y="1068480"/>
          <a:ext cx="4002120" cy="497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6960" y="1068480"/>
                    <a:ext cx="400212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3995640" y="2708280"/>
            <a:ext cx="1800360" cy="1871640"/>
          </a:xfrm>
          <a:prstGeom prst="rightArrow">
            <a:avLst>
              <a:gd name="adj1" fmla="val 61324"/>
              <a:gd name="adj2" fmla="val 24954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7451640" y="3716280"/>
            <a:ext cx="1297080" cy="6494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頁尾版面配置區 4"/>
          <p:cNvSpPr/>
          <p:nvPr/>
        </p:nvSpPr>
        <p:spPr>
          <a:xfrm>
            <a:off x="250920" y="6526080"/>
            <a:ext cx="2679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epared by HeadlineJobs Research (08 Ma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投影片編號版面配置區 5"/>
          <p:cNvSpPr/>
          <p:nvPr/>
        </p:nvSpPr>
        <p:spPr>
          <a:xfrm>
            <a:off x="6300720" y="6524640"/>
            <a:ext cx="514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9F4B-E846-47CA-8BC2-CC970A396A2E}" type="slidenum">
              <a:rPr b="0" lang="en-US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Franklin Gothic Book"/>
              </a:rPr>
              <a:t>The future of Recruitment</a:t>
            </a:r>
            <a:br>
              <a:rPr sz="2800"/>
            </a:br>
            <a:r>
              <a:rPr b="1" lang="en-US" sz="2000" spc="-1" strike="noStrike">
                <a:solidFill>
                  <a:srgbClr val="292929"/>
                </a:solidFill>
                <a:latin typeface="Franklin Gothic Book"/>
              </a:rPr>
              <a:t>Recruitment Websites</a:t>
            </a:r>
            <a:endParaRPr b="1" lang="en-US" sz="2000" spc="-1" strike="noStrike">
              <a:solidFill>
                <a:srgbClr val="d60093"/>
              </a:solidFill>
              <a:latin typeface="Franklin Gothic Book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324000" y="1413000"/>
          <a:ext cx="402732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402732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0" y="1700280"/>
          <a:ext cx="4243320" cy="3800520"/>
        </p:xfrm>
        <a:graphic>
          <a:graphicData uri="http://schemas.openxmlformats.org/drawingml/2006/table">
            <a:tbl>
              <a:tblPr/>
              <a:tblGrid>
                <a:gridCol w="515880"/>
                <a:gridCol w="2390760"/>
                <a:gridCol w="1336680"/>
              </a:tblGrid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a what channel(s)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ruitment Websi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Net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ruitment Ag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ruitment Magaz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AutoShape 38"/>
          <p:cNvSpPr/>
          <p:nvPr/>
        </p:nvSpPr>
        <p:spPr>
          <a:xfrm>
            <a:off x="4067280" y="2997360"/>
            <a:ext cx="288720" cy="1726920"/>
          </a:xfrm>
          <a:custGeom>
            <a:avLst/>
            <a:gdLst>
              <a:gd name="textAreaLeft" fmla="*/ 0 w 288720"/>
              <a:gd name="textAreaRight" fmla="*/ 104040 w 28872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243000" y="6093000"/>
            <a:ext cx="2043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Target: HK Working Population aged 18 or abo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Sample Size: 1,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 Narrow"/>
              </a:rPr>
              <a:t>Source: HKUP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251280" y="56865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: Employee (3,049,0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6660360" y="5614920"/>
            <a:ext cx="18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: Job Seeker (794,0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2"/>
          <p:cNvSpPr/>
          <p:nvPr/>
        </p:nvSpPr>
        <p:spPr>
          <a:xfrm>
            <a:off x="4500720" y="2276640"/>
            <a:ext cx="439236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頁尾版面配置區 3"/>
          <p:cNvSpPr/>
          <p:nvPr/>
        </p:nvSpPr>
        <p:spPr>
          <a:xfrm>
            <a:off x="250920" y="6526080"/>
            <a:ext cx="2679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epared by HeadlineJobs Research (08 Ma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投影片編號版面配置區 4"/>
          <p:cNvSpPr/>
          <p:nvPr/>
        </p:nvSpPr>
        <p:spPr>
          <a:xfrm>
            <a:off x="6300720" y="6524640"/>
            <a:ext cx="514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F730-5D57-43EC-9012-1180225C8CC0}" type="slidenum">
              <a:rPr b="0" lang="en-US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Franklin Gothic Book"/>
              </a:rPr>
              <a:t>Conclusion</a:t>
            </a:r>
            <a:endParaRPr b="1" lang="en-US" sz="2400" spc="-1" strike="noStrike">
              <a:solidFill>
                <a:srgbClr val="d60093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84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Workplace = High Job Satisfaction = Job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/Life Balance Programs become very important tools for retention of tal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many ways to improve job satisfaction besides 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Workplace Index will become more and more important in promoting job satisfaction and  employer-employee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welcome! Participation even more welc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1:24:03Z</dcterms:created>
  <dc:creator>Theresa Tsang</dc:creator>
  <dc:description/>
  <dc:language>en-US</dc:language>
  <cp:lastModifiedBy>robert</cp:lastModifiedBy>
  <dcterms:modified xsi:type="dcterms:W3CDTF">2008-03-13T06:52:14Z</dcterms:modified>
  <cp:revision>178</cp:revision>
  <dc:subject/>
  <dc:title>投影片 1</dc:title>
</cp:coreProperties>
</file>