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18.wmf" ContentType="image/x-wmf"/>
  <Override PartName="/ppt/media/image5.jpeg" ContentType="image/jpeg"/>
  <Override PartName="/ppt/media/image20.wmf" ContentType="image/x-wmf"/>
  <Override PartName="/ppt/media/image9.wmf" ContentType="image/x-wmf"/>
  <Override PartName="/ppt/media/image19.jpeg" ContentType="image/jpeg"/>
  <Override PartName="/ppt/media/image6.wmf" ContentType="image/x-wmf"/>
  <Override PartName="/ppt/media/image10.wmf" ContentType="image/x-wmf"/>
  <Override PartName="/ppt/media/image25.jpeg" ContentType="image/jpeg"/>
  <Override PartName="/ppt/media/image2.png" ContentType="image/png"/>
  <Override PartName="/ppt/media/image7.jpeg" ContentType="image/jpeg"/>
  <Override PartName="/ppt/media/image4.png" ContentType="image/png"/>
  <Override PartName="/ppt/media/image12.wmf" ContentType="image/x-wmf"/>
  <Override PartName="/ppt/media/image11.jpeg" ContentType="image/jpeg"/>
  <Override PartName="/ppt/media/image30.wmf" ContentType="image/x-wmf"/>
  <Override PartName="/ppt/media/image27.jpeg" ContentType="image/jpeg"/>
  <Override PartName="/ppt/media/image13.jpeg" ContentType="image/jpeg"/>
  <Override PartName="/ppt/media/image8.jpeg" ContentType="image/jpeg"/>
  <Override PartName="/ppt/media/image29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wmf" ContentType="image/x-wmf"/>
  <Override PartName="/ppt/media/image15.jpeg" ContentType="image/jpeg"/>
  <Override PartName="/ppt/media/image26.wmf" ContentType="image/x-wmf"/>
  <Override PartName="/ppt/media/image16.wmf" ContentType="image/x-wmf"/>
  <Override PartName="/ppt/media/image21.jpeg" ContentType="image/jpeg"/>
  <Override PartName="/ppt/media/image22.wmf" ContentType="image/x-wmf"/>
  <Override PartName="/ppt/media/image23.jpeg" ContentType="image/jpeg"/>
  <Override PartName="/ppt/media/image2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44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97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63880" y="0"/>
            <a:ext cx="2997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09440" y="759960"/>
            <a:ext cx="4763880" cy="357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e"/>
                </a:solidFill>
                <a:latin typeface="新細明體"/>
              </a:rPr>
              <a:t>Click to move the slide</a:t>
            </a:r>
            <a:endParaRPr b="1" lang="en-US" sz="4400" spc="-1" strike="noStrike">
              <a:solidFill>
                <a:srgbClr val="00009e"/>
              </a:solidFill>
              <a:latin typeface="新細明體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45720" y="4638240"/>
            <a:ext cx="49690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9200880"/>
            <a:ext cx="299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63880" y="9200880"/>
            <a:ext cx="299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627D-19A3-4FC6-BDAA-B2AFDBABFE4D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863880" y="9200880"/>
            <a:ext cx="299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7DED-13CA-4B14-9587-9642E0EF5D1F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200880"/>
            <a:ext cx="299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2997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63880" y="0"/>
            <a:ext cx="2997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863880" y="9200880"/>
            <a:ext cx="299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9A14-D7DD-42A1-AA15-3E7D6D170722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9200880"/>
            <a:ext cx="299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2997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863880" y="0"/>
            <a:ext cx="2997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863880" y="9200880"/>
            <a:ext cx="299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1932-5BFD-4FF9-88E1-14A4F1D469E2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9200880"/>
            <a:ext cx="299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2997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863880" y="0"/>
            <a:ext cx="2997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863880" y="9200880"/>
            <a:ext cx="299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F0BD-499B-49C2-B739-AA028EA131C8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9200880"/>
            <a:ext cx="299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2997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63880" y="0"/>
            <a:ext cx="2997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863880" y="9200880"/>
            <a:ext cx="299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BEDC-43D0-4F4E-B020-1447C29ADD6E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200880"/>
            <a:ext cx="299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2997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863880" y="0"/>
            <a:ext cx="2997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863880" y="9200880"/>
            <a:ext cx="299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4E14-47C8-4546-A17E-8CB0053A962D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200880"/>
            <a:ext cx="299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2997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863880" y="0"/>
            <a:ext cx="2997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863880" y="9200880"/>
            <a:ext cx="299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C729-69FD-4750-821F-FB77D71B8631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9200880"/>
            <a:ext cx="299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2997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63880" y="0"/>
            <a:ext cx="2997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863880" y="9200880"/>
            <a:ext cx="299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C417-1383-447D-821F-BDE421D941B3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9200880"/>
            <a:ext cx="299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2997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63880" y="0"/>
            <a:ext cx="2997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863880" y="9200880"/>
            <a:ext cx="299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8B9B-0F7A-4F29-A769-110AB8C0CDC1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9200880"/>
            <a:ext cx="299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2997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63880" y="0"/>
            <a:ext cx="2997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863880" y="9200880"/>
            <a:ext cx="299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A738-44EF-417F-B5F0-C7018E8B09A1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200880"/>
            <a:ext cx="299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2997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63880" y="0"/>
            <a:ext cx="2997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863880" y="9200880"/>
            <a:ext cx="299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7466-6CF9-4698-B2C3-FA884E626A0F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9200880"/>
            <a:ext cx="299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2997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863880" y="0"/>
            <a:ext cx="2997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863880" y="9200880"/>
            <a:ext cx="299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866F-1F6E-41EA-A6AE-18FA615B6D6D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9200880"/>
            <a:ext cx="299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2997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863880" y="0"/>
            <a:ext cx="2997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863880" y="9200880"/>
            <a:ext cx="299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06B1-2EC9-4C74-8B7F-22B0F4BB8D88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9200880"/>
            <a:ext cx="299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2997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63880" y="0"/>
            <a:ext cx="2997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863880" y="9200880"/>
            <a:ext cx="299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5595-2540-47B2-AB03-8977B60D5115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9200880"/>
            <a:ext cx="299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2997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63880" y="0"/>
            <a:ext cx="2997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1723B-07CE-48F7-8762-5FACF7A1F6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e"/>
              </a:solidFill>
              <a:latin typeface="新細明體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816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7E10E-88AA-407A-93ED-992FCAFB4E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e"/>
              </a:solidFill>
              <a:latin typeface="新細明體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6EA3A-FB36-4027-ABC6-C32F67CB6B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e"/>
              </a:solidFill>
              <a:latin typeface="新細明體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FAE75-5A7B-4932-A6FE-7A90DAC4E0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35CD4-EBFD-4912-8B40-E4A8894730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e"/>
              </a:solidFill>
              <a:latin typeface="新細明體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80540-63D4-4A6F-B9AF-D2406DA494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e"/>
              </a:solidFill>
              <a:latin typeface="新細明體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61415-C624-4596-8A8A-F8EA67938A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e"/>
              </a:solidFill>
              <a:latin typeface="新細明體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34236-1DE3-4EC8-804F-8C22B154CA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e"/>
              </a:solidFill>
              <a:latin typeface="新細明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24A4F-ADBC-4FB9-8F4F-ACA5311614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773AF-FCD4-471A-8092-923067F836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e"/>
              </a:solidFill>
              <a:latin typeface="新細明體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BF645-4319-41E0-B41D-91EDD451E9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e"/>
              </a:solidFill>
              <a:latin typeface="新細明體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69C81-21AF-42BC-8EDA-8FCC87746B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e"/>
              </a:solidFill>
              <a:latin typeface="新細明體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216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75A74-D302-473D-B879-DD342AFBE2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e"/>
              </a:solidFill>
              <a:latin typeface="新細明體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43DB6-C0A1-4A77-83F5-EA204D23EF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e"/>
              </a:solidFill>
              <a:latin typeface="新細明體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816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6C325-41AC-4BA7-BFED-1BD55CAF6B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e"/>
              </a:solidFill>
              <a:latin typeface="新細明體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216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99A37-6654-4CB3-9133-A9DDECD9E3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e"/>
              </a:solidFill>
              <a:latin typeface="新細明體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48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6512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52CB5-A1DD-42F3-BD96-03449C18F3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e"/>
              </a:solidFill>
              <a:latin typeface="新細明體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45E1E-8480-4D18-82F9-47DCBCF1A9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e"/>
              </a:solidFill>
              <a:latin typeface="新細明體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9410B-CB69-47BD-8CDA-70784E0DF7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e"/>
              </a:solidFill>
              <a:latin typeface="新細明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9030A-B282-46EF-AD19-0BCC661BCE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362BA-7C1F-4BC6-95A1-E3F6910D0C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e"/>
              </a:solidFill>
              <a:latin typeface="新細明體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05FF1-0D7E-49F2-BB5A-6E57254DA3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e"/>
              </a:solidFill>
              <a:latin typeface="新細明體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7624B-62A8-4D84-AF27-27A51D3707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e"/>
              </a:solidFill>
              <a:latin typeface="新細明體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5F68E-493A-469E-A1DD-08CD59228A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e"/>
                </a:solidFill>
                <a:latin typeface="新細明體"/>
              </a:rPr>
              <a:t>Click to edit the title text format</a:t>
            </a:r>
            <a:endParaRPr b="1" lang="en-US" sz="4400" spc="-1" strike="noStrike">
              <a:solidFill>
                <a:srgbClr val="00009e"/>
              </a:solidFill>
              <a:latin typeface="新細明體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2" name=""/>
          <p:cNvSpPr/>
          <p:nvPr/>
        </p:nvSpPr>
        <p:spPr>
          <a:xfrm>
            <a:off x="28440" y="304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705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8BAB-DCDB-40CC-8D04-3E70494242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e"/>
                </a:solidFill>
                <a:latin typeface="新細明體"/>
              </a:rPr>
              <a:t>Click to edit the title text format</a:t>
            </a:r>
            <a:endParaRPr b="1" lang="en-US" sz="4400" spc="-1" strike="noStrike">
              <a:solidFill>
                <a:srgbClr val="00009e"/>
              </a:solidFill>
              <a:latin typeface="新細明體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29000" y="274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27F3-0798-49F9-A4A5-8A13D37DFF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新細明體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新細明體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新細明體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新細明體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新細明體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新細明體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新細明體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新細明體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新細明體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新細明體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新細明體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新細明體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新細明體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新細明體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新細明體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新細明體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ache.corbis.com/CorbisImage/170/16/59/07/16590717/42-16590717.jpg&amp;imgrefurl=http://pro.corbis.com/search/search.aspx%3Fsearch%3Dtrue%26sort%3D2%26rft%3DRF%26chkColl%3D61%26i%3D1208223655&amp;h=170&amp;w=125&amp;sz=6&amp;hl=en&amp;start=107&amp;tbnid=fynU9V2-FlTjNM:&amp;tbnh=99&amp;tbnw=73&amp;prev=/images%3Fq%3Drubbing%2Beyes%26start%3D90%26ndsp%3D18%26svnum%3D10%26hl%3Den%26sa%3D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hyperlink" Target="http://images.google.com/imgres?imgurl=http://www.bbc.co.uk/jobs/shared/images/main/4_2.jpg&amp;imgrefurl=http://www.bbc.co.uk/jobs/whatwedo/journalism/index.shtml&amp;h=171&amp;w=275&amp;sz=12&amp;hl=en&amp;start=4&amp;tbnid=qosFCgeyupURpM:&amp;tbnh=71&amp;tbnw=114&amp;prev=/images%3Fq%3Dsitting%2Bon%2Bthe%2Bsofa%26svnum%3D10%26hl%3Den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hyperlink" Target="http://images.google.com/imgres?imgurl=http://www.gusbrett.com/images/Gus%2520Close%2520Eyes.jpg&amp;imgrefurl=http://www.gusbrett.com/shots2.htm&amp;h=297&amp;w=450&amp;sz=68&amp;hl=en&amp;start=8&amp;tbnid=wXaOkN7Z9pJkrM:&amp;tbnh=84&amp;tbnw=127&amp;prev=/images%3Fq%3Dclose%2Beyes%26svnum%3D10%26hl%3Den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hyperlink" Target="http://images.google.com/imgres?imgurl=http://82.127.53.215/~serverimage/harvey/imagesource_watermarked/IS042-083.jpg&amp;imgrefurl=http://www.epictura.com/product_info.php%3FcPath%3D40%26products_id%3D24708%26language%3Des%26osCsid%3Db652718430e9e2290849a71e10215d88&amp;h=400&amp;w=271&amp;sz=26&amp;hl=en&amp;start=89&amp;tbnid=HLhnPR17ARBkzM:&amp;tbnh=124&amp;tbnw=84&amp;prev=/images%3Fq%3Drubbing%2Beyes%26start%3D72%26ndsp%3D18%26svnum%3D10%26hl%3Den%26sa%3DN" TargetMode="External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hyperlink" Target="http://images.google.com/imgres?imgurl=http://www.photostogo.com/store/GetThumb.asp/ImageNum%3D1028330%26VOLID%3D3713%26gc%3Dgc1%26ss%3D1/Allergy-1028330.jpg&amp;imgrefurl=http://www.photostogo.com/content/topsearches/Allergy_photos.asp&amp;h=90&amp;w=138&amp;sz=4&amp;hl=en&amp;start=134&amp;tbnid=D7g-5DyBwcnPFM:&amp;tbnh=61&amp;tbnw=93&amp;prev=/images%3Fq%3Drubbing%2Beyes%26start%3D126%26ndsp%3D18%26svnum%3D10%26hl%3Den%26sa%3DN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adtoys.com/images/backwards-clock.jpg&amp;imgrefurl=http://www.fadtoys.com/backwards-clock.shtml&amp;h=295&amp;w=292&amp;sz=9&amp;hl=en&amp;start=2&amp;tbnid=cBf61rZyAl897M:&amp;tbnh=115&amp;tbnw=114&amp;prev=/images%3Fq%3Dclock%26svnum%3D10%26hl%3Den" TargetMode="External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http://images.google.com/imgres?imgurl=http://upload.wikimedia.org/wikipedia/commons/thumb/f/ff/Air_.pollution_1.jpg/350px-Air_.pollution_1.jpg&amp;imgrefurl=http://conservationvalue.blogspot.com/&amp;h=232&amp;w=349&amp;sz=14&amp;hl=en&amp;start=1&amp;tbnid=-dq0VhQ7wzSZgM:&amp;tbnh=80&amp;tbnw=120&amp;prev=/images%3Fq%3Dair%2Bpollution%26svnum%3D10%26hl%3Den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hyperlink" Target="http://images.google.com/imgres?imgurl=http://content.answers.com/main/content/wp/en-commons/thumb/6/6a/200px-Pollution_de_l%27air.jpg&amp;imgrefurl=http://www.answers.com/topic/pollution&amp;h=234&amp;w=199&amp;sz=9&amp;hl=en&amp;start=36&amp;tbnid=hcUj4XAxXB2JCM:&amp;tbnh=109&amp;tbnw=93&amp;prev=/images%3Fq%3Dair%2Bpollution%26start%3D18%26ndsp%3D18%26svnum%3D10%26hl%3Den%26sa%3DN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hyperlink" Target="http://images.google.com/imgres?imgurl=http://www.witc.edu/library/tips/IMAGES/eyestran.jpg&amp;imgrefurl=http://www.witc.edu/library/tips/nrich/ergonomics.htm&amp;h=173&amp;w=260&amp;sz=10&amp;hl=en&amp;start=6&amp;tbnid=8dBJqEBlPB3HAM:&amp;tbnh=75&amp;tbnw=112&amp;prev=/images%3Fq%3Drubbing%2Beyes%26svnum%3D10%26hl%3Den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hyperlink" Target="http://images.google.com/imgres?imgurl=http://www.usidnet.org/USIDNET/files/ccLibraryFiles/FILENAME/000000000042/computer%2520work.jpg&amp;imgrefurl=http://www.usidnet.org/index.aspx%3Fbid%3D40&amp;h=535&amp;w=800&amp;sz=136&amp;hl=en&amp;start=2&amp;tbnid=Dg3erk__xpJazM:&amp;tbnh=96&amp;tbnw=143&amp;prev=/images%3Fq%3Dwork%2Bon%2Bcomputer%26svnum%3D10%26hl%3Den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hyperlink" Target="http://images.google.com/imgres?imgurl=http://www.boxdigital.se/images/watching-TV-23.jpg&amp;imgrefurl=http://www.18-24.gr/&amp;h=150&amp;w=210&amp;sz=4&amp;hl=en&amp;start=145&amp;tbnid=x0IHEbx6XcUi7M:&amp;tbnh=76&amp;tbnw=106&amp;prev=/images%3Fq%3Dwatching%2Btv%26start%3D144%26ndsp%3D18%26svnum%3D10%26hl%3Den%26sa%3DN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657600" y="5029200"/>
            <a:ext cx="2438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2007 </a:t>
            </a:r>
            <a:r>
              <a:rPr b="0" lang="zh-CN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年</a:t>
            </a:r>
            <a:r>
              <a:rPr b="0" lang="en-GB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日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e"/>
                </a:solidFill>
                <a:latin typeface="新細明體"/>
              </a:rPr>
              <a:t>「眼敏感對患者生活質素影響</a:t>
            </a:r>
            <a:br>
              <a:rPr sz="4400"/>
            </a:br>
            <a:r>
              <a:rPr b="1" lang="zh-TW" sz="4400" spc="-1" strike="noStrike">
                <a:solidFill>
                  <a:srgbClr val="00009e"/>
                </a:solidFill>
                <a:latin typeface="新細明體"/>
              </a:rPr>
              <a:t>意見調查」</a:t>
            </a:r>
            <a:endParaRPr b="1" lang="en-US" sz="4400" spc="-1" strike="noStrike">
              <a:solidFill>
                <a:srgbClr val="00009e"/>
              </a:solidFill>
              <a:latin typeface="新細明體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鍾庭耀博士 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800" spc="-1" strike="noStrike">
                <a:solidFill>
                  <a:srgbClr val="000000"/>
                </a:solidFill>
                <a:latin typeface="新細明體"/>
              </a:rPr>
              <a:t>香港大學民意研究計劃主任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pic>
        <p:nvPicPr>
          <p:cNvPr id="9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6200" y="0"/>
            <a:ext cx="129240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9C97A-BBBD-4D81-B09A-827375A27E2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533520" y="2286000"/>
          <a:ext cx="731520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86000"/>
                    <a:ext cx="731520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5" name="" descr="">
            <a:hlinkClick r:id="rId3"/>
          </p:cNvPr>
          <p:cNvPicPr/>
          <p:nvPr/>
        </p:nvPicPr>
        <p:blipFill>
          <a:blip r:embed="rId4">
            <a:lum bright="22000"/>
          </a:blip>
          <a:stretch/>
        </p:blipFill>
        <p:spPr>
          <a:xfrm>
            <a:off x="6781680" y="2286000"/>
            <a:ext cx="2362320" cy="14716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新細明體"/>
              </a:rPr>
              <a:t>五成</a:t>
            </a:r>
            <a:r>
              <a:rPr b="1" lang="zh-TW" sz="4400" spc="-1" strike="noStrike">
                <a:solidFill>
                  <a:srgbClr val="ff0066"/>
                </a:solidFill>
                <a:latin typeface="新細明體"/>
              </a:rPr>
              <a:t>五</a:t>
            </a:r>
            <a:r>
              <a:rPr b="1" lang="zh-TW" sz="4400" spc="-1" strike="noStrike">
                <a:solidFill>
                  <a:srgbClr val="000099"/>
                </a:solidFill>
                <a:latin typeface="新細明體"/>
              </a:rPr>
              <a:t>社交生活</a:t>
            </a:r>
            <a:r>
              <a:rPr b="1" lang="zh-CN" sz="4400" spc="-1" strike="noStrike">
                <a:solidFill>
                  <a:srgbClr val="000099"/>
                </a:solidFill>
                <a:latin typeface="新細明體"/>
              </a:rPr>
              <a:t>受</a:t>
            </a:r>
            <a:r>
              <a:rPr b="1" lang="zh-TW" sz="4400" spc="-1" strike="noStrike">
                <a:solidFill>
                  <a:srgbClr val="000099"/>
                </a:solidFill>
                <a:latin typeface="新細明體"/>
              </a:rPr>
              <a:t>影響</a:t>
            </a:r>
            <a:r>
              <a:rPr b="1" lang="zh-CN" sz="4400" spc="-1" strike="noStrike">
                <a:solidFill>
                  <a:srgbClr val="00009e"/>
                </a:solidFill>
                <a:latin typeface="新細明體"/>
              </a:rPr>
              <a:t>者</a:t>
            </a:r>
            <a:r>
              <a:rPr b="1" lang="zh-TW" sz="4400" spc="-1" strike="noStrike">
                <a:solidFill>
                  <a:srgbClr val="00009e"/>
                </a:solidFill>
                <a:latin typeface="新細明體"/>
              </a:rPr>
              <a:t>因為眼敏感</a:t>
            </a:r>
            <a:r>
              <a:rPr b="1" lang="zh-TW" sz="4400" spc="-1" strike="noStrike">
                <a:solidFill>
                  <a:srgbClr val="ff0066"/>
                </a:solidFill>
                <a:latin typeface="新細明體"/>
              </a:rPr>
              <a:t>不</a:t>
            </a:r>
            <a:r>
              <a:rPr b="1" lang="zh-CN" sz="4400" spc="-1" strike="noStrike">
                <a:solidFill>
                  <a:srgbClr val="ff0066"/>
                </a:solidFill>
                <a:latin typeface="新細明體"/>
              </a:rPr>
              <a:t>想出街</a:t>
            </a:r>
            <a:endParaRPr b="1" lang="en-US" sz="4400" spc="-1" strike="noStrike">
              <a:solidFill>
                <a:srgbClr val="00009e"/>
              </a:solidFill>
              <a:latin typeface="新細明體"/>
            </a:endParaRPr>
          </a:p>
        </p:txBody>
      </p:sp>
      <p:sp>
        <p:nvSpPr>
          <p:cNvPr id="167" name=""/>
          <p:cNvSpPr/>
          <p:nvPr/>
        </p:nvSpPr>
        <p:spPr>
          <a:xfrm>
            <a:off x="5754960" y="632448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130(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可選擇多項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1828800"/>
            <a:ext cx="7391160" cy="368280"/>
          </a:xfrm>
          <a:prstGeom prst="rect">
            <a:avLst/>
          </a:prstGeom>
          <a:gradFill rotWithShape="0">
            <a:gsLst>
              <a:gs pos="0">
                <a:srgbClr val="ffffff">
                  <a:alpha val="44313"/>
                </a:srgbClr>
              </a:gs>
              <a:gs pos="50000">
                <a:srgbClr val="efefff">
                  <a:alpha val="42352"/>
                </a:srgbClr>
              </a:gs>
              <a:gs pos="100000">
                <a:srgbClr val="ffffff">
                  <a:alpha val="4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問：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你覺得眼敏感對你</a:t>
            </a: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的社交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生活構成</a:t>
            </a: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什麽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影響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57913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44320" y="579132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其他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38280" y="579132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擔心別人誤會自己</a:t>
            </a:r>
            <a:r>
              <a:rPr b="0" lang="en-US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哭泣</a:t>
            </a:r>
            <a:r>
              <a:rPr b="0" lang="en-US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/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患病</a:t>
            </a:r>
            <a:r>
              <a:rPr b="0" lang="en-US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57913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不想出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9880" y="57913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Symbol"/>
                <a:ea typeface="Symbol"/>
              </a:rPr>
              <a:t>感到自己减少吸引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27800" y="5791320"/>
            <a:ext cx="40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Symbol"/>
                <a:ea typeface="Symbol"/>
              </a:rPr>
              <a:t>不想見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45A52-4EB5-4CFC-B98B-278ACCC351E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0" y="2209680"/>
          <a:ext cx="8381880" cy="407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8381880" cy="40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7" name="" descr=""/>
          <p:cNvPicPr/>
          <p:nvPr/>
        </p:nvPicPr>
        <p:blipFill>
          <a:blip r:embed="rId3">
            <a:lum bright="30000"/>
          </a:blip>
          <a:stretch/>
        </p:blipFill>
        <p:spPr>
          <a:xfrm>
            <a:off x="7238880" y="2286000"/>
            <a:ext cx="1886040" cy="19051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66"/>
                </a:solidFill>
                <a:latin typeface="新細明體"/>
              </a:rPr>
              <a:t>六</a:t>
            </a:r>
            <a:r>
              <a:rPr b="1" lang="zh-CN" sz="4400" spc="-1" strike="noStrike">
                <a:solidFill>
                  <a:srgbClr val="ff0066"/>
                </a:solidFill>
                <a:latin typeface="新細明體"/>
              </a:rPr>
              <a:t>成</a:t>
            </a:r>
            <a:r>
              <a:rPr b="1" lang="zh-TW" sz="4400" spc="-1" strike="noStrike">
                <a:solidFill>
                  <a:srgbClr val="ff0066"/>
                </a:solidFill>
                <a:latin typeface="新細明體"/>
              </a:rPr>
              <a:t>六</a:t>
            </a:r>
            <a:r>
              <a:rPr b="1" lang="zh-CN" sz="4400" spc="-1" strike="noStrike">
                <a:solidFill>
                  <a:srgbClr val="00009e"/>
                </a:solidFill>
                <a:latin typeface="新細明體"/>
              </a:rPr>
              <a:t>受訪者</a:t>
            </a:r>
            <a:r>
              <a:rPr b="1" lang="zh-TW" sz="4400" spc="-1" strike="noStrike">
                <a:solidFill>
                  <a:srgbClr val="00009e"/>
                </a:solidFill>
                <a:latin typeface="新細明體"/>
              </a:rPr>
              <a:t>因為眼敏感而</a:t>
            </a:r>
            <a:br>
              <a:rPr sz="4400"/>
            </a:br>
            <a:r>
              <a:rPr b="1" lang="zh-TW" sz="4400" spc="-1" strike="noStrike">
                <a:solidFill>
                  <a:srgbClr val="ff0066"/>
                </a:solidFill>
                <a:latin typeface="新細明體"/>
              </a:rPr>
              <a:t>感覺疲勞</a:t>
            </a:r>
            <a:endParaRPr b="1" lang="en-US" sz="4400" spc="-1" strike="noStrike">
              <a:solidFill>
                <a:srgbClr val="00009e"/>
              </a:solidFill>
              <a:latin typeface="新細明體"/>
            </a:endParaRPr>
          </a:p>
        </p:txBody>
      </p:sp>
      <p:sp>
        <p:nvSpPr>
          <p:cNvPr id="179" name=""/>
          <p:cNvSpPr/>
          <p:nvPr/>
        </p:nvSpPr>
        <p:spPr>
          <a:xfrm>
            <a:off x="2549880" y="6172200"/>
            <a:ext cx="87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基數</a:t>
            </a:r>
            <a:r>
              <a:rPr b="0" lang="zh-CN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50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1752480"/>
            <a:ext cx="7391520" cy="368280"/>
          </a:xfrm>
          <a:prstGeom prst="rect">
            <a:avLst/>
          </a:prstGeom>
          <a:gradFill rotWithShape="0">
            <a:gsLst>
              <a:gs pos="0">
                <a:srgbClr val="ffffff">
                  <a:alpha val="44313"/>
                </a:srgbClr>
              </a:gs>
              <a:gs pos="50000">
                <a:srgbClr val="efefff">
                  <a:alpha val="42352"/>
                </a:srgbClr>
              </a:gs>
              <a:gs pos="100000">
                <a:srgbClr val="ffffff">
                  <a:alpha val="4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問：</a:t>
            </a:r>
            <a:r>
              <a:rPr b="0" lang="zh-TW" sz="1800" spc="-1" strike="noStrike">
                <a:solidFill>
                  <a:srgbClr val="000000"/>
                </a:solidFill>
                <a:latin typeface="Symbol"/>
                <a:ea typeface="Symbol"/>
              </a:rPr>
              <a:t>個人情緒方面，你認為眼敏感帶給你以下感覺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198200" y="6172200"/>
            <a:ext cx="87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基數</a:t>
            </a:r>
            <a:r>
              <a:rPr b="0" lang="zh-CN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50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21680" y="6172200"/>
            <a:ext cx="87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基數</a:t>
            </a:r>
            <a:r>
              <a:rPr b="0" lang="zh-CN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5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0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74120" y="6172200"/>
            <a:ext cx="87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基數</a:t>
            </a:r>
            <a:r>
              <a:rPr b="0" lang="zh-CN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5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0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26000" y="6172200"/>
            <a:ext cx="87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基數</a:t>
            </a:r>
            <a:r>
              <a:rPr b="0" lang="zh-CN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5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0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F4040-95E9-4126-A657-F9E6AE41FD5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457200" y="2362320"/>
          <a:ext cx="7391520" cy="36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7391520" cy="36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7" name="" descr="">
            <a:hlinkClick r:id="rId3"/>
          </p:cNvPr>
          <p:cNvPicPr/>
          <p:nvPr/>
        </p:nvPicPr>
        <p:blipFill>
          <a:blip r:embed="rId4">
            <a:lum bright="34000"/>
          </a:blip>
          <a:stretch/>
        </p:blipFill>
        <p:spPr>
          <a:xfrm>
            <a:off x="6781680" y="2590920"/>
            <a:ext cx="1981440" cy="13096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66"/>
                </a:solidFill>
                <a:latin typeface="新細明體"/>
              </a:rPr>
              <a:t>三</a:t>
            </a:r>
            <a:r>
              <a:rPr b="1" lang="zh-CN" sz="4400" spc="-1" strike="noStrike">
                <a:solidFill>
                  <a:srgbClr val="ff0066"/>
                </a:solidFill>
                <a:latin typeface="新細明體"/>
              </a:rPr>
              <a:t>成</a:t>
            </a:r>
            <a:r>
              <a:rPr b="1" lang="zh-TW" sz="4400" spc="-1" strike="noStrike">
                <a:solidFill>
                  <a:srgbClr val="ff0066"/>
                </a:solidFill>
                <a:latin typeface="新細明體"/>
              </a:rPr>
              <a:t>四</a:t>
            </a:r>
            <a:r>
              <a:rPr b="1" lang="zh-CN" sz="4400" spc="-1" strike="noStrike">
                <a:solidFill>
                  <a:srgbClr val="00009e"/>
                </a:solidFill>
                <a:latin typeface="新細明體"/>
              </a:rPr>
              <a:t>受訪者</a:t>
            </a:r>
            <a:r>
              <a:rPr b="1" lang="zh-TW" sz="4400" spc="-1" strike="noStrike">
                <a:solidFill>
                  <a:srgbClr val="00009e"/>
                </a:solidFill>
                <a:latin typeface="新細明體"/>
              </a:rPr>
              <a:t>會</a:t>
            </a:r>
            <a:br>
              <a:rPr sz="4400"/>
            </a:br>
            <a:r>
              <a:rPr b="1" lang="zh-TW" sz="4400" spc="-1" strike="noStrike">
                <a:solidFill>
                  <a:srgbClr val="ff0066"/>
                </a:solidFill>
                <a:latin typeface="新細明體"/>
              </a:rPr>
              <a:t>閉目休息</a:t>
            </a:r>
            <a:r>
              <a:rPr b="1" lang="zh-TW" sz="4400" spc="-1" strike="noStrike">
                <a:solidFill>
                  <a:srgbClr val="00009e"/>
                </a:solidFill>
                <a:latin typeface="新細明體"/>
              </a:rPr>
              <a:t>以處理眼敏感</a:t>
            </a:r>
            <a:endParaRPr b="1" lang="en-US" sz="4400" spc="-1" strike="noStrike">
              <a:solidFill>
                <a:srgbClr val="00009e"/>
              </a:solidFill>
              <a:latin typeface="新細明體"/>
            </a:endParaRPr>
          </a:p>
        </p:txBody>
      </p:sp>
      <p:sp>
        <p:nvSpPr>
          <p:cNvPr id="189" name=""/>
          <p:cNvSpPr/>
          <p:nvPr/>
        </p:nvSpPr>
        <p:spPr>
          <a:xfrm>
            <a:off x="7127640" y="632448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5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1981080"/>
            <a:ext cx="7391520" cy="368280"/>
          </a:xfrm>
          <a:prstGeom prst="rect">
            <a:avLst/>
          </a:prstGeom>
          <a:gradFill rotWithShape="0">
            <a:gsLst>
              <a:gs pos="0">
                <a:srgbClr val="ffffff">
                  <a:alpha val="44313"/>
                </a:srgbClr>
              </a:gs>
              <a:gs pos="50000">
                <a:srgbClr val="efefff">
                  <a:alpha val="42352"/>
                </a:srgbClr>
              </a:gs>
              <a:gs pos="100000">
                <a:srgbClr val="ffffff">
                  <a:alpha val="4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問：</a:t>
            </a:r>
            <a:r>
              <a:rPr b="0" lang="zh-TW" sz="1800" spc="-1" strike="noStrike">
                <a:solidFill>
                  <a:srgbClr val="000000"/>
                </a:solidFill>
                <a:latin typeface="Symbol"/>
                <a:ea typeface="Symbol"/>
              </a:rPr>
              <a:t>當出現眼敏感時，你通常如何處理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66880" y="5791320"/>
            <a:ext cx="83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捽眼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/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按摩眼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57913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閉目休息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/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多休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28600" y="57913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滴眼藥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57913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Symbol"/>
                <a:ea typeface="Symbol"/>
              </a:rPr>
              <a:t>向眼科醫生求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29000" y="579132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向家庭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/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普通科醫生求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57800" y="5791320"/>
            <a:ext cx="96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用水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/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鹽水沖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72200" y="5791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甚麼也不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49240" y="579132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其他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CDEF0-7D39-4FA7-96C2-53583B3AB1F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609480" y="2514600"/>
          <a:ext cx="7772400" cy="33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514600"/>
                    <a:ext cx="7772400" cy="33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1" name="" descr="">
            <a:hlinkClick r:id="rId3"/>
          </p:cNvPr>
          <p:cNvPicPr/>
          <p:nvPr/>
        </p:nvPicPr>
        <p:blipFill>
          <a:blip r:embed="rId4">
            <a:lum bright="36000"/>
          </a:blip>
          <a:stretch/>
        </p:blipFill>
        <p:spPr>
          <a:xfrm>
            <a:off x="7391520" y="2438280"/>
            <a:ext cx="1496880" cy="22100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e"/>
                </a:solidFill>
                <a:latin typeface="新細明體"/>
              </a:rPr>
              <a:t>一</a:t>
            </a:r>
            <a:r>
              <a:rPr b="1" lang="zh-CN" sz="4400" spc="-1" strike="noStrike">
                <a:solidFill>
                  <a:srgbClr val="00009e"/>
                </a:solidFill>
                <a:latin typeface="新細明體"/>
              </a:rPr>
              <a:t>成</a:t>
            </a:r>
            <a:r>
              <a:rPr b="1" lang="zh-TW" sz="4400" spc="-1" strike="noStrike">
                <a:solidFill>
                  <a:srgbClr val="00009e"/>
                </a:solidFill>
                <a:latin typeface="新細明體"/>
              </a:rPr>
              <a:t>二</a:t>
            </a:r>
            <a:r>
              <a:rPr b="1" lang="zh-CN" sz="4400" spc="-1" strike="noStrike">
                <a:solidFill>
                  <a:srgbClr val="00009e"/>
                </a:solidFill>
                <a:latin typeface="新細明體"/>
              </a:rPr>
              <a:t>受訪者</a:t>
            </a:r>
            <a:r>
              <a:rPr b="1" lang="zh-TW" sz="4400" spc="-1" strike="noStrike">
                <a:solidFill>
                  <a:srgbClr val="00009e"/>
                </a:solidFill>
                <a:latin typeface="新細明體"/>
              </a:rPr>
              <a:t>認為</a:t>
            </a:r>
            <a:br>
              <a:rPr sz="4400"/>
            </a:br>
            <a:r>
              <a:rPr b="1" lang="zh-TW" sz="4400" spc="-1" strike="noStrike">
                <a:solidFill>
                  <a:srgbClr val="ff0066"/>
                </a:solidFill>
                <a:latin typeface="新細明體"/>
              </a:rPr>
              <a:t>捽眼會減少眼敏感徵狀</a:t>
            </a:r>
            <a:endParaRPr b="1" lang="en-US" sz="4400" spc="-1" strike="noStrike">
              <a:solidFill>
                <a:srgbClr val="00009e"/>
              </a:solidFill>
              <a:latin typeface="新細明體"/>
            </a:endParaRPr>
          </a:p>
        </p:txBody>
      </p:sp>
      <p:sp>
        <p:nvSpPr>
          <p:cNvPr id="203" name=""/>
          <p:cNvSpPr/>
          <p:nvPr/>
        </p:nvSpPr>
        <p:spPr>
          <a:xfrm>
            <a:off x="6873840" y="632448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5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66680" y="1905120"/>
            <a:ext cx="7391520" cy="368280"/>
          </a:xfrm>
          <a:prstGeom prst="rect">
            <a:avLst/>
          </a:prstGeom>
          <a:gradFill rotWithShape="0">
            <a:gsLst>
              <a:gs pos="0">
                <a:srgbClr val="ffffff">
                  <a:alpha val="44313"/>
                </a:srgbClr>
              </a:gs>
              <a:gs pos="50000">
                <a:srgbClr val="efefff">
                  <a:alpha val="42352"/>
                </a:srgbClr>
              </a:gs>
              <a:gs pos="100000">
                <a:srgbClr val="ffffff">
                  <a:alpha val="4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問：</a:t>
            </a:r>
            <a:r>
              <a:rPr b="0" lang="zh-TW" sz="1800" spc="-1" strike="noStrike">
                <a:solidFill>
                  <a:srgbClr val="000000"/>
                </a:solidFill>
                <a:latin typeface="Symbol"/>
                <a:ea typeface="Symbol"/>
              </a:rPr>
              <a:t>你覺得捽眼會增加，抑或減少眼敏感徵狀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C6244-C2A3-453C-A905-69045155BD2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e"/>
                </a:solidFill>
                <a:latin typeface="新細明體"/>
              </a:rPr>
              <a:t>三</a:t>
            </a:r>
            <a:r>
              <a:rPr b="1" lang="zh-CN" sz="4400" spc="-1" strike="noStrike">
                <a:solidFill>
                  <a:srgbClr val="00009e"/>
                </a:solidFill>
                <a:latin typeface="新細明體"/>
              </a:rPr>
              <a:t>成</a:t>
            </a:r>
            <a:r>
              <a:rPr b="1" lang="zh-TW" sz="4400" spc="-1" strike="noStrike">
                <a:solidFill>
                  <a:srgbClr val="00009e"/>
                </a:solidFill>
                <a:latin typeface="新細明體"/>
              </a:rPr>
              <a:t>五</a:t>
            </a:r>
            <a:r>
              <a:rPr b="1" lang="zh-CN" sz="4400" spc="-1" strike="noStrike">
                <a:solidFill>
                  <a:srgbClr val="00009e"/>
                </a:solidFill>
                <a:latin typeface="新細明體"/>
              </a:rPr>
              <a:t>受訪者</a:t>
            </a:r>
            <a:r>
              <a:rPr b="1" lang="zh-TW" sz="4400" spc="-1" strike="noStrike">
                <a:solidFill>
                  <a:srgbClr val="00009e"/>
                </a:solidFill>
                <a:latin typeface="新細明體"/>
              </a:rPr>
              <a:t>知道</a:t>
            </a:r>
            <a:br>
              <a:rPr sz="4400"/>
            </a:br>
            <a:r>
              <a:rPr b="1" lang="zh-TW" sz="4400" spc="-1" strike="noStrike">
                <a:solidFill>
                  <a:srgbClr val="ff0066"/>
                </a:solidFill>
                <a:latin typeface="新細明體"/>
              </a:rPr>
              <a:t>捽眼有機會使眼睛受細菌感染</a:t>
            </a:r>
            <a:endParaRPr b="1" lang="en-US" sz="4400" spc="-1" strike="noStrike">
              <a:solidFill>
                <a:srgbClr val="00009e"/>
              </a:solidFill>
              <a:latin typeface="新細明體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09480" y="2286000"/>
          <a:ext cx="7162920" cy="387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0"/>
                    <a:ext cx="7162920" cy="38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5679000" y="632448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508(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可選擇多項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1905120"/>
            <a:ext cx="7391520" cy="368280"/>
          </a:xfrm>
          <a:prstGeom prst="rect">
            <a:avLst/>
          </a:prstGeom>
          <a:gradFill rotWithShape="0">
            <a:gsLst>
              <a:gs pos="0">
                <a:srgbClr val="ffffff">
                  <a:alpha val="44313"/>
                </a:srgbClr>
              </a:gs>
              <a:gs pos="50000">
                <a:srgbClr val="efefff">
                  <a:alpha val="42352"/>
                </a:srgbClr>
              </a:gs>
              <a:gs pos="100000">
                <a:srgbClr val="ffffff">
                  <a:alpha val="4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問：</a:t>
            </a:r>
            <a:r>
              <a:rPr b="0" lang="zh-TW" sz="1800" spc="-1" strike="noStrike">
                <a:solidFill>
                  <a:srgbClr val="000000"/>
                </a:solidFill>
                <a:latin typeface="Symbol"/>
                <a:ea typeface="Symbol"/>
              </a:rPr>
              <a:t>你知道眼敏感發作時捽眼會帶來什麼問題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7543800" y="2133720"/>
            <a:ext cx="1152360" cy="8571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072920" y="57150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其他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43000" y="5715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Symbol"/>
                <a:ea typeface="Symbol"/>
              </a:rPr>
              <a:t>有機會受細菌感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05120" y="5715000"/>
            <a:ext cx="85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Symbol"/>
                <a:ea typeface="Symbol"/>
              </a:rPr>
              <a:t>有機會弄傷眼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90920" y="5715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Symbol"/>
                <a:ea typeface="Symbol"/>
              </a:rPr>
              <a:t>眼睛更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52680" y="5715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Symbol"/>
                <a:ea typeface="Symbol"/>
              </a:rPr>
              <a:t>眼睛更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61960" y="5715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眼睛更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47760" y="5715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眼睛更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86400" y="5715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眼睛更多淚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95680" y="5715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眼睛更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6E2C3-BB96-4F65-8BF1-8E9E60CA40D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66"/>
                </a:solidFill>
                <a:latin typeface="新細明體"/>
              </a:rPr>
              <a:t>近</a:t>
            </a:r>
            <a:r>
              <a:rPr b="1" lang="zh-CN" sz="4400" spc="-1" strike="noStrike">
                <a:solidFill>
                  <a:srgbClr val="ff0066"/>
                </a:solidFill>
                <a:latin typeface="新細明體"/>
              </a:rPr>
              <a:t>一半受訪者</a:t>
            </a:r>
            <a:br>
              <a:rPr sz="4400"/>
            </a:br>
            <a:r>
              <a:rPr b="1" lang="zh-TW" sz="4400" spc="-1" strike="noStrike">
                <a:solidFill>
                  <a:srgbClr val="00009e"/>
                </a:solidFill>
                <a:latin typeface="新細明體"/>
              </a:rPr>
              <a:t>滿意現時治療眼敏感的方法</a:t>
            </a:r>
            <a:endParaRPr b="1" lang="en-US" sz="4400" spc="-1" strike="noStrike">
              <a:solidFill>
                <a:srgbClr val="00009e"/>
              </a:solidFill>
              <a:latin typeface="新細明體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609480" y="2438280"/>
          <a:ext cx="7772400" cy="354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438280"/>
                    <a:ext cx="777240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6873840" y="632448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5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90720" y="1828800"/>
            <a:ext cx="7391160" cy="368280"/>
          </a:xfrm>
          <a:prstGeom prst="rect">
            <a:avLst/>
          </a:prstGeom>
          <a:gradFill rotWithShape="0">
            <a:gsLst>
              <a:gs pos="0">
                <a:srgbClr val="ffffff">
                  <a:alpha val="44313"/>
                </a:srgbClr>
              </a:gs>
              <a:gs pos="50000">
                <a:srgbClr val="efefff">
                  <a:alpha val="42352"/>
                </a:srgbClr>
              </a:gs>
              <a:gs pos="100000">
                <a:srgbClr val="ffffff">
                  <a:alpha val="4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問：</a:t>
            </a:r>
            <a:r>
              <a:rPr b="0" lang="zh-TW" sz="1800" spc="-1" strike="noStrike">
                <a:solidFill>
                  <a:srgbClr val="000000"/>
                </a:solidFill>
                <a:latin typeface="Symbol"/>
                <a:ea typeface="Symbol"/>
              </a:rPr>
              <a:t>你對現時使用治療眼敏感徵狀的方法有多滿意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CC05B-F4FC-4384-9AC9-DB4AB3D6CF8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e"/>
                </a:solidFill>
                <a:latin typeface="新細明體"/>
              </a:rPr>
              <a:t>總結</a:t>
            </a:r>
            <a:endParaRPr b="1" lang="en-US" sz="4400" spc="-1" strike="noStrike">
              <a:solidFill>
                <a:srgbClr val="00009e"/>
              </a:solidFill>
              <a:latin typeface="新細明體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新細明體"/>
              </a:rPr>
              <a:t>香港空氣污染嚴重，令眼敏感患者趨升！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調查發現，七</a:t>
            </a:r>
            <a:r>
              <a:rPr b="0" lang="zh-CN" sz="2000" spc="-1" strike="noStrike">
                <a:solidFill>
                  <a:srgbClr val="000000"/>
                </a:solidFill>
                <a:latin typeface="新細明體"/>
              </a:rPr>
              <a:t>成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三曾出現眼敏感徵狀的</a:t>
            </a:r>
            <a:r>
              <a:rPr b="0" lang="zh-CN" sz="2000" spc="-1" strike="noStrike">
                <a:solidFill>
                  <a:srgbClr val="000000"/>
                </a:solidFill>
                <a:latin typeface="新細明體"/>
              </a:rPr>
              <a:t>受訪者認爲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空氣污染令眼敏感惡化。</a:t>
            </a:r>
            <a:endParaRPr b="0" lang="en-US" sz="20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三</a:t>
            </a:r>
            <a:r>
              <a:rPr b="0" lang="zh-CN" sz="2000" spc="-1" strike="noStrike">
                <a:solidFill>
                  <a:srgbClr val="000000"/>
                </a:solidFill>
                <a:latin typeface="新細明體"/>
              </a:rPr>
              <a:t>成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五</a:t>
            </a:r>
            <a:r>
              <a:rPr b="0" lang="zh-CN" sz="2000" spc="-1" strike="noStrike">
                <a:solidFill>
                  <a:srgbClr val="000000"/>
                </a:solidFill>
                <a:latin typeface="新細明體"/>
              </a:rPr>
              <a:t>受訪者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知道捽眼有機會使眼睛受細菌感染，</a:t>
            </a:r>
            <a:r>
              <a:rPr b="0" lang="zh-CN" sz="2000" spc="-1" strike="noStrike">
                <a:solidFill>
                  <a:srgbClr val="000000"/>
                </a:solidFill>
                <a:latin typeface="新細明體"/>
              </a:rPr>
              <a:t>其餘受訪者亦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知道捽眼</a:t>
            </a:r>
            <a:r>
              <a:rPr b="0" lang="zh-CN" sz="2000" spc="-1" strike="noStrike">
                <a:solidFill>
                  <a:srgbClr val="000000"/>
                </a:solidFill>
                <a:latin typeface="新細明體"/>
              </a:rPr>
              <a:t>會爲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眼睛</a:t>
            </a:r>
            <a:r>
              <a:rPr b="0" lang="zh-CN" sz="2000" spc="-1" strike="noStrike">
                <a:solidFill>
                  <a:srgbClr val="000000"/>
                </a:solidFill>
                <a:latin typeface="新細明體"/>
              </a:rPr>
              <a:t>帶來其他傷害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，眼敏感</a:t>
            </a:r>
            <a:r>
              <a:rPr b="0" lang="zh-CN" sz="2000" spc="-1" strike="noStrike">
                <a:solidFill>
                  <a:srgbClr val="000000"/>
                </a:solidFill>
                <a:latin typeface="新細明體"/>
              </a:rPr>
              <a:t>患者應對症下藥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，切勿</a:t>
            </a:r>
            <a:r>
              <a:rPr b="0" lang="zh-CN" sz="2000" spc="-1" strike="noStrike">
                <a:solidFill>
                  <a:srgbClr val="000000"/>
                </a:solidFill>
                <a:latin typeface="新細明體"/>
              </a:rPr>
              <a:t>因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捽眼</a:t>
            </a:r>
            <a:r>
              <a:rPr b="0" lang="zh-CN" sz="2000" spc="-1" strike="noStrike">
                <a:solidFill>
                  <a:srgbClr val="000000"/>
                </a:solidFill>
                <a:latin typeface="新細明體"/>
              </a:rPr>
              <a:t>爲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眼睛</a:t>
            </a:r>
            <a:r>
              <a:rPr b="0" lang="zh-CN" sz="2000" spc="-1" strike="noStrike">
                <a:solidFill>
                  <a:srgbClr val="000000"/>
                </a:solidFill>
                <a:latin typeface="新細明體"/>
              </a:rPr>
              <a:t>帶來傷害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此外，近六成受訪者表示</a:t>
            </a:r>
            <a:r>
              <a:rPr b="0" lang="zh-CN" sz="2000" spc="-1" strike="noStrike">
                <a:solidFill>
                  <a:srgbClr val="000000"/>
                </a:solidFill>
                <a:latin typeface="新細明體"/>
              </a:rPr>
              <a:t>眼敏感影響工作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，其中</a:t>
            </a:r>
            <a:r>
              <a:rPr b="0" lang="zh-CN" sz="2000" spc="-1" strike="noStrike">
                <a:solidFill>
                  <a:srgbClr val="000000"/>
                </a:solidFill>
                <a:latin typeface="新細明體"/>
              </a:rPr>
              <a:t>八成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受訪者</a:t>
            </a:r>
            <a:r>
              <a:rPr b="0" lang="zh-CN" sz="2000" spc="-1" strike="noStrike">
                <a:solidFill>
                  <a:srgbClr val="000000"/>
                </a:solidFill>
                <a:latin typeface="新細明體"/>
              </a:rPr>
              <a:t>認爲眼敏感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令其工作效率降低</a:t>
            </a:r>
            <a:r>
              <a:rPr b="0" lang="zh-CN" sz="2000" spc="-1" strike="noStrike">
                <a:solidFill>
                  <a:srgbClr val="000000"/>
                </a:solidFill>
                <a:latin typeface="新細明體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新細明體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亦有近四成人的日常生活受</a:t>
            </a:r>
            <a:r>
              <a:rPr b="0" lang="zh-CN" sz="2000" spc="-1" strike="noStrike">
                <a:solidFill>
                  <a:srgbClr val="000000"/>
                </a:solidFill>
                <a:latin typeface="新細明體"/>
              </a:rPr>
              <a:t>影響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新細明體"/>
              </a:rPr>
              <a:t>眼敏感亦爲患者的心理帶來負面影響，情況實在不容忽視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新細明體"/>
              </a:rPr>
              <a:t>調查發現不少受訪者對治療方法一知半解</a:t>
            </a:r>
            <a:r>
              <a:rPr b="0" lang="en-US" sz="2000" spc="-1" strike="noStrike">
                <a:solidFill>
                  <a:srgbClr val="000000"/>
                </a:solidFill>
                <a:latin typeface="新細明體"/>
              </a:rPr>
              <a:t>，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眼敏感</a:t>
            </a:r>
            <a:r>
              <a:rPr b="0" lang="zh-CN" sz="2000" spc="-1" strike="noStrike">
                <a:solidFill>
                  <a:srgbClr val="000000"/>
                </a:solidFill>
                <a:latin typeface="新細明體"/>
              </a:rPr>
              <a:t>患者應積極瞭解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眼敏感</a:t>
            </a:r>
            <a:r>
              <a:rPr b="0" lang="zh-CN" sz="2000" spc="-1" strike="noStrike">
                <a:solidFill>
                  <a:srgbClr val="000000"/>
                </a:solidFill>
                <a:latin typeface="新細明體"/>
              </a:rPr>
              <a:t>的正確治療方法以改善病情。</a:t>
            </a:r>
            <a:endParaRPr b="0" lang="en-US" sz="20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EDFC3-6D0C-452E-B6D3-9A7E69E89366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e"/>
                </a:solidFill>
                <a:latin typeface="新細明體"/>
              </a:rPr>
              <a:t>調查概況</a:t>
            </a:r>
            <a:endParaRPr b="1" lang="en-US" sz="4400" spc="-1" strike="noStrike">
              <a:solidFill>
                <a:srgbClr val="00009e"/>
              </a:solidFill>
              <a:latin typeface="新細明體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480" y="1752480"/>
          <a:ext cx="7772400" cy="4068720"/>
        </p:xfrm>
        <a:graphic>
          <a:graphicData uri="http://schemas.openxmlformats.org/drawingml/2006/table">
            <a:tbl>
              <a:tblPr/>
              <a:tblGrid>
                <a:gridCol w="1752840"/>
                <a:gridCol w="6019560"/>
              </a:tblGrid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rebuchet MS"/>
                          <a:ea typeface="Arial Unicode MS"/>
                        </a:rPr>
                        <a:t>調查目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rebuchet MS"/>
                          <a:ea typeface="Arial Unicode MS"/>
                        </a:rPr>
                        <a:t>暸解「眼敏感」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rebuchet MS"/>
                          <a:ea typeface="Arial Unicode MS"/>
                        </a:rPr>
                        <a:t>對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rebuchet MS"/>
                          <a:ea typeface="Arial Unicode MS"/>
                        </a:rPr>
                        <a:t>患者生活質素的影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rebuchet MS"/>
                          <a:ea typeface="Arial Unicode MS"/>
                        </a:rPr>
                        <a:t>調查日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Arial Unicode MS"/>
                        </a:rPr>
                        <a:t>2007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rebuchet MS"/>
                          <a:ea typeface="Arial Unicode MS"/>
                        </a:rPr>
                        <a:t>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Arial Unicode MS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rebuchet MS"/>
                          <a:ea typeface="Arial Unicode MS"/>
                        </a:rPr>
                        <a:t>月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Arial Unicode MS"/>
                        </a:rPr>
                        <a:t>7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rebuchet MS"/>
                          <a:ea typeface="Arial Unicode MS"/>
                        </a:rPr>
                        <a:t>至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Arial Unicode MS"/>
                        </a:rPr>
                        <a:t>9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rebuchet MS"/>
                          <a:ea typeface="Arial Unicode MS"/>
                        </a:rPr>
                        <a:t>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rebuchet MS"/>
                          <a:ea typeface="Arial Unicode MS"/>
                        </a:rPr>
                        <a:t>調查方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rebuchet MS"/>
                          <a:ea typeface="Arial Unicode MS"/>
                        </a:rPr>
                        <a:t>由訪問員直接進行電話訪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rebuchet MS"/>
                          <a:ea typeface="Arial Unicode MS"/>
                        </a:rPr>
                        <a:t>調查對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rebuchet MS"/>
                          <a:ea typeface="Arial Unicode MS"/>
                        </a:rPr>
                        <a:t>年齡介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Arial Unicode MS"/>
                        </a:rPr>
                        <a:t>18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rebuchet MS"/>
                          <a:ea typeface="Arial Unicode MS"/>
                        </a:rPr>
                        <a:t>至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Arial Unicode MS"/>
                        </a:rPr>
                        <a:t>60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rebuchet MS"/>
                          <a:ea typeface="Arial Unicode MS"/>
                        </a:rPr>
                        <a:t>歲曾出現過眼敏感徵狀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rebuchet MS"/>
                          <a:ea typeface="Arial Unicode MS"/>
                        </a:rPr>
                        <a:t>的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rebuchet MS"/>
                          <a:ea typeface="Arial Unicode MS"/>
                        </a:rPr>
                        <a:t>在職人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rebuchet MS"/>
                          <a:ea typeface="Arial Unicode MS"/>
                        </a:rPr>
                        <a:t>調查機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rebuchet MS"/>
                          <a:ea typeface="Arial Unicode MS"/>
                        </a:rPr>
                        <a:t>香港大學民意研究計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rebuchet MS"/>
                          <a:ea typeface="Arial Unicode MS"/>
                        </a:rPr>
                        <a:t>成功訪問人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Arial Unicode MS"/>
                        </a:rPr>
                        <a:t>508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rebuchet MS"/>
                          <a:ea typeface="Arial Unicode MS"/>
                        </a:rPr>
                        <a:t>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Trebuchet MS"/>
                          <a:ea typeface="Arial Unicode MS"/>
                        </a:rPr>
                        <a:t>有效回應比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Arial Unicode MS"/>
                        </a:rPr>
                        <a:t>81.1% (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rebuchet MS"/>
                          <a:ea typeface="Arial Unicode MS"/>
                        </a:rPr>
                        <a:t>以符合資格的目標對象計算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rebuchet MS"/>
                          <a:ea typeface="Arial Unicode MS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Trebuchet MS"/>
                          <a:ea typeface="Arial Unicode MS"/>
                        </a:rPr>
                        <a:t>抽樣誤差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rebuchet MS"/>
                          <a:ea typeface="Arial Unicode MS"/>
                        </a:rPr>
                        <a:t>少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Arial Unicode MS"/>
                        </a:rPr>
                        <a:t>2.2%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rebuchet MS"/>
                          <a:ea typeface="Arial Unicode MS"/>
                        </a:rPr>
                        <a:t>，亦即在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Arial Unicode MS"/>
                        </a:rPr>
                        <a:t>95%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rebuchet MS"/>
                          <a:ea typeface="Arial Unicode MS"/>
                        </a:rPr>
                        <a:t>置信水平下，各個百分比的抽樣誤差為少於正負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rebuchet MS"/>
                          <a:ea typeface="Arial Unicode MS"/>
                        </a:rPr>
                        <a:t>4.4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rebuchet MS"/>
                          <a:ea typeface="Arial Unicode MS"/>
                        </a:rPr>
                        <a:t>個百分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6DA91-ED7E-4C4E-BFF8-4CA2EEE49E6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66"/>
                </a:solidFill>
                <a:latin typeface="新細明體"/>
              </a:rPr>
              <a:t>近九成</a:t>
            </a:r>
            <a:r>
              <a:rPr b="1" lang="zh-TW" sz="4000" spc="-1" strike="noStrike">
                <a:solidFill>
                  <a:srgbClr val="00009e"/>
                </a:solidFill>
                <a:latin typeface="新細明體"/>
              </a:rPr>
              <a:t>受訪者</a:t>
            </a:r>
            <a:br>
              <a:rPr sz="4000"/>
            </a:br>
            <a:r>
              <a:rPr b="1" lang="zh-TW" sz="4000" spc="-1" strike="noStrike">
                <a:solidFill>
                  <a:srgbClr val="00009e"/>
                </a:solidFill>
                <a:latin typeface="新細明體"/>
              </a:rPr>
              <a:t>曾出現</a:t>
            </a:r>
            <a:r>
              <a:rPr b="1" lang="zh-TW" sz="4000" spc="-1" strike="noStrike">
                <a:solidFill>
                  <a:srgbClr val="ff0066"/>
                </a:solidFill>
                <a:latin typeface="新細明體"/>
              </a:rPr>
              <a:t>眼癢或眼痛</a:t>
            </a:r>
            <a:r>
              <a:rPr b="1" lang="zh-CN" sz="4000" spc="-1" strike="noStrike">
                <a:solidFill>
                  <a:srgbClr val="00009e"/>
                </a:solidFill>
                <a:latin typeface="新細明體"/>
              </a:rPr>
              <a:t>的</a:t>
            </a:r>
            <a:r>
              <a:rPr b="1" lang="zh-TW" sz="4000" spc="-1" strike="noStrike">
                <a:solidFill>
                  <a:srgbClr val="00009e"/>
                </a:solidFill>
                <a:latin typeface="新細明體"/>
              </a:rPr>
              <a:t>眼敏感徵狀</a:t>
            </a:r>
            <a:endParaRPr b="1" lang="en-US" sz="4000" spc="-1" strike="noStrike">
              <a:solidFill>
                <a:srgbClr val="00009e"/>
              </a:solidFill>
              <a:latin typeface="新細明體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09480" y="1905120"/>
          <a:ext cx="7772400" cy="42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05120"/>
                    <a:ext cx="7772400" cy="42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95280" y="1752480"/>
            <a:ext cx="5639040" cy="368280"/>
          </a:xfrm>
          <a:prstGeom prst="rect">
            <a:avLst/>
          </a:prstGeom>
          <a:gradFill rotWithShape="0">
            <a:gsLst>
              <a:gs pos="0">
                <a:srgbClr val="ffffff">
                  <a:alpha val="44313"/>
                </a:srgbClr>
              </a:gs>
              <a:gs pos="50000">
                <a:srgbClr val="efefff">
                  <a:alpha val="42352"/>
                </a:srgbClr>
              </a:gs>
              <a:gs pos="100000">
                <a:srgbClr val="ffffff">
                  <a:alpha val="4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問：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你曾否出現過以下眼敏感徵狀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51680" y="641520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5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>
            <a:hlinkClick r:id="rId3"/>
          </p:cNvPr>
          <p:cNvPicPr/>
          <p:nvPr/>
        </p:nvPicPr>
        <p:blipFill>
          <a:blip r:embed="rId4">
            <a:lum bright="36000"/>
          </a:blip>
          <a:stretch/>
        </p:blipFill>
        <p:spPr>
          <a:xfrm>
            <a:off x="7162920" y="1600200"/>
            <a:ext cx="1981080" cy="130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22C48-35EA-4D8B-979F-9FB2D3E1478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>
            <a:hlinkClick r:id="rId1"/>
          </p:cNvPr>
          <p:cNvPicPr/>
          <p:nvPr/>
        </p:nvPicPr>
        <p:blipFill>
          <a:blip r:embed="rId2">
            <a:lum bright="34000"/>
          </a:blip>
          <a:stretch/>
        </p:blipFill>
        <p:spPr>
          <a:xfrm>
            <a:off x="7861320" y="0"/>
            <a:ext cx="1282680" cy="12952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e"/>
                </a:solidFill>
                <a:latin typeface="新細明體"/>
              </a:rPr>
              <a:t>兩成二</a:t>
            </a:r>
            <a:r>
              <a:rPr b="1" lang="zh-TW" sz="4000" spc="-1" strike="noStrike">
                <a:solidFill>
                  <a:srgbClr val="00009e"/>
                </a:solidFill>
                <a:latin typeface="新細明體"/>
              </a:rPr>
              <a:t>受訪者的眼敏感徵狀</a:t>
            </a:r>
            <a:br>
              <a:rPr sz="4000"/>
            </a:br>
            <a:r>
              <a:rPr b="1" lang="zh-CN" sz="4000" spc="-1" strike="noStrike">
                <a:solidFill>
                  <a:srgbClr val="ff0066"/>
                </a:solidFill>
                <a:latin typeface="新細明體"/>
              </a:rPr>
              <a:t>最少</a:t>
            </a:r>
            <a:r>
              <a:rPr b="1" lang="zh-TW" sz="4000" spc="-1" strike="noStrike">
                <a:solidFill>
                  <a:srgbClr val="ff0066"/>
                </a:solidFill>
                <a:latin typeface="新細明體"/>
              </a:rPr>
              <a:t>每天至數天出現一次</a:t>
            </a:r>
            <a:endParaRPr b="1" lang="en-US" sz="4000" spc="-1" strike="noStrike">
              <a:solidFill>
                <a:srgbClr val="00009e"/>
              </a:solidFill>
              <a:latin typeface="新細明體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5800" y="2133720"/>
          <a:ext cx="7810560" cy="407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133720"/>
                    <a:ext cx="781056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7026120" y="632448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5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1752480"/>
            <a:ext cx="7391520" cy="368280"/>
          </a:xfrm>
          <a:prstGeom prst="rect">
            <a:avLst/>
          </a:prstGeom>
          <a:gradFill rotWithShape="0">
            <a:gsLst>
              <a:gs pos="0">
                <a:srgbClr val="ffffff">
                  <a:alpha val="44313"/>
                </a:srgbClr>
              </a:gs>
              <a:gs pos="50000">
                <a:srgbClr val="efefff">
                  <a:alpha val="42352"/>
                </a:srgbClr>
              </a:gs>
              <a:gs pos="100000">
                <a:srgbClr val="ffffff">
                  <a:alpha val="4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問：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你的眼敏感徵狀通常每隔多久出現一次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FE9D5-4C2F-4D81-8541-93217483E89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e"/>
                </a:solidFill>
                <a:latin typeface="新細明體"/>
              </a:rPr>
              <a:t>受訪者</a:t>
            </a:r>
            <a:r>
              <a:rPr b="1" lang="zh-TW" sz="3200" spc="-1" strike="noStrike">
                <a:solidFill>
                  <a:srgbClr val="00009e"/>
                </a:solidFill>
                <a:latin typeface="新細明體"/>
              </a:rPr>
              <a:t>認為眼敏感的主因：</a:t>
            </a:r>
            <a:br>
              <a:rPr sz="3200"/>
            </a:br>
            <a:r>
              <a:rPr b="1" lang="zh-TW" sz="3200" spc="-1" strike="noStrike">
                <a:solidFill>
                  <a:srgbClr val="ff0066"/>
                </a:solidFill>
                <a:latin typeface="新細明體"/>
              </a:rPr>
              <a:t>空氣污染、睡眠不足、長時間用眼睛工作</a:t>
            </a:r>
            <a:endParaRPr b="1" lang="en-US" sz="3200" spc="-1" strike="noStrike">
              <a:solidFill>
                <a:srgbClr val="00009e"/>
              </a:solidFill>
              <a:latin typeface="新細明體"/>
            </a:endParaRPr>
          </a:p>
        </p:txBody>
      </p:sp>
      <p:sp>
        <p:nvSpPr>
          <p:cNvPr id="108" name=""/>
          <p:cNvSpPr/>
          <p:nvPr/>
        </p:nvSpPr>
        <p:spPr>
          <a:xfrm>
            <a:off x="5941080" y="6207120"/>
            <a:ext cx="211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50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可選擇多項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0" y="1523880"/>
            <a:ext cx="8934120" cy="4682520"/>
            <a:chOff x="0" y="1523880"/>
            <a:chExt cx="8934120" cy="4682520"/>
          </a:xfrm>
        </p:grpSpPr>
        <p:graphicFrame>
          <p:nvGraphicFramePr>
            <p:cNvPr id="110" name=""/>
            <p:cNvGraphicFramePr/>
            <p:nvPr/>
          </p:nvGraphicFramePr>
          <p:xfrm>
            <a:off x="0" y="1685520"/>
            <a:ext cx="8934120" cy="4516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685520"/>
                      <a:ext cx="8934120" cy="451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2" name=""/>
            <p:cNvSpPr/>
            <p:nvPr/>
          </p:nvSpPr>
          <p:spPr>
            <a:xfrm>
              <a:off x="327240" y="1523880"/>
              <a:ext cx="7932600" cy="3682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44313"/>
                  </a:srgbClr>
                </a:gs>
                <a:gs pos="50000">
                  <a:srgbClr val="efefff">
                    <a:alpha val="42352"/>
                  </a:srgbClr>
                </a:gs>
                <a:gs pos="100000">
                  <a:srgbClr val="ffffff">
                    <a:alpha val="4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問：</a:t>
              </a: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你認為令你出現眼敏感的原因是</a:t>
              </a:r>
              <a:r>
                <a:rPr b="0" lang="en-US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" name="" descr="">
              <a:hlinkClick r:id="rId3"/>
            </p:cNvPr>
            <p:cNvPicPr/>
            <p:nvPr/>
          </p:nvPicPr>
          <p:blipFill>
            <a:blip r:embed="rId4">
              <a:lum bright="56000"/>
            </a:blip>
            <a:stretch/>
          </p:blipFill>
          <p:spPr>
            <a:xfrm>
              <a:off x="6705720" y="2089440"/>
              <a:ext cx="2125800" cy="140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572400" y="5807880"/>
              <a:ext cx="49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空氣污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44800" y="5807880"/>
              <a:ext cx="57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睡眠不足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35480" y="5807880"/>
              <a:ext cx="735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長時間</a:t>
              </a:r>
              <a:r>
                <a:rPr b="0" lang="en-US" sz="10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(</a:t>
              </a:r>
              <a:r>
                <a:rPr b="0" lang="zh-TW" sz="10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使用眼睛</a:t>
              </a:r>
              <a:r>
                <a:rPr b="0" lang="en-US" sz="10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)</a:t>
              </a:r>
              <a:r>
                <a:rPr b="0" lang="zh-TW" sz="10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工作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9600" y="5807880"/>
              <a:ext cx="735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戴隱形眼鏡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62360" y="5807880"/>
              <a:ext cx="572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熱</a:t>
              </a:r>
              <a:r>
                <a:rPr b="0" lang="zh-TW" sz="10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/</a:t>
              </a:r>
              <a:r>
                <a:rPr b="0" lang="zh-TW" sz="10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冷空氣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53040" y="5807880"/>
              <a:ext cx="65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經常捽眼睛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007160" y="5807880"/>
              <a:ext cx="57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天氣轉變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497840" y="5807880"/>
              <a:ext cx="817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化學物品，如清潔劑、定型水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51960" y="5807880"/>
              <a:ext cx="89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塵</a:t>
              </a:r>
              <a:r>
                <a:rPr b="0" lang="zh-TW" sz="10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/</a:t>
              </a:r>
              <a:r>
                <a:rPr b="0" lang="zh-TW" sz="10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塵蟎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24360" y="5807880"/>
              <a:ext cx="89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二手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97120" y="5807880"/>
              <a:ext cx="89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塵</a:t>
              </a:r>
              <a:r>
                <a:rPr b="0" lang="zh-TW" sz="10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/</a:t>
              </a:r>
              <a:r>
                <a:rPr b="0" lang="zh-TW" sz="10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塵蟎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51240" y="5807880"/>
              <a:ext cx="57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汽車廢氣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23640" y="5807880"/>
              <a:ext cx="57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其他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14320" y="5807880"/>
              <a:ext cx="735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不知道</a:t>
              </a:r>
              <a:r>
                <a:rPr b="0" lang="zh-TW" sz="10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/</a:t>
              </a:r>
              <a:r>
                <a:rPr b="0" lang="zh-TW" sz="10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很難說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D1F7A-2046-49A9-AA01-B1AB0E2A3B9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685800" y="2057400"/>
          <a:ext cx="777240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777240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" descr="">
            <a:hlinkClick r:id="rId3"/>
          </p:cNvPr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0" y="0"/>
            <a:ext cx="1495440" cy="17524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66"/>
                </a:solidFill>
                <a:latin typeface="新細明體"/>
              </a:rPr>
              <a:t>七</a:t>
            </a:r>
            <a:r>
              <a:rPr b="1" lang="zh-CN" sz="4400" spc="-1" strike="noStrike">
                <a:solidFill>
                  <a:srgbClr val="ff0066"/>
                </a:solidFill>
                <a:latin typeface="新細明體"/>
              </a:rPr>
              <a:t>成</a:t>
            </a:r>
            <a:r>
              <a:rPr b="1" lang="zh-TW" sz="4400" spc="-1" strike="noStrike">
                <a:solidFill>
                  <a:srgbClr val="ff0066"/>
                </a:solidFill>
                <a:latin typeface="新細明體"/>
              </a:rPr>
              <a:t>三</a:t>
            </a:r>
            <a:r>
              <a:rPr b="1" lang="zh-CN" sz="4400" spc="-1" strike="noStrike">
                <a:solidFill>
                  <a:srgbClr val="00009e"/>
                </a:solidFill>
                <a:latin typeface="新細明體"/>
              </a:rPr>
              <a:t>受訪者認爲</a:t>
            </a:r>
            <a:br>
              <a:rPr sz="4400"/>
            </a:br>
            <a:r>
              <a:rPr b="1" lang="zh-TW" sz="4400" spc="-1" strike="noStrike">
                <a:solidFill>
                  <a:srgbClr val="ff0066"/>
                </a:solidFill>
                <a:latin typeface="新細明體"/>
              </a:rPr>
              <a:t>空氣污染令眼敏感惡化</a:t>
            </a:r>
            <a:endParaRPr b="1" lang="en-US" sz="4400" spc="-1" strike="noStrike">
              <a:solidFill>
                <a:srgbClr val="00009e"/>
              </a:solidFill>
              <a:latin typeface="新細明體"/>
            </a:endParaRPr>
          </a:p>
        </p:txBody>
      </p:sp>
      <p:sp>
        <p:nvSpPr>
          <p:cNvPr id="132" name=""/>
          <p:cNvSpPr/>
          <p:nvPr/>
        </p:nvSpPr>
        <p:spPr>
          <a:xfrm>
            <a:off x="6721200" y="624852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5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1752480"/>
            <a:ext cx="7391520" cy="368280"/>
          </a:xfrm>
          <a:prstGeom prst="rect">
            <a:avLst/>
          </a:prstGeom>
          <a:gradFill rotWithShape="0">
            <a:gsLst>
              <a:gs pos="0">
                <a:srgbClr val="ffffff">
                  <a:alpha val="44313"/>
                </a:srgbClr>
              </a:gs>
              <a:gs pos="50000">
                <a:srgbClr val="efefff">
                  <a:alpha val="42352"/>
                </a:srgbClr>
              </a:gs>
              <a:gs pos="100000">
                <a:srgbClr val="ffffff">
                  <a:alpha val="4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問：</a:t>
            </a:r>
            <a:r>
              <a:rPr b="0" lang="zh-TW" sz="1800" spc="-1" strike="noStrike">
                <a:solidFill>
                  <a:srgbClr val="000000"/>
                </a:solidFill>
                <a:latin typeface="Symbol"/>
                <a:ea typeface="Symbol"/>
              </a:rPr>
              <a:t>你認為空氣污染是否令你眼敏感更嚴重的因素之一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57A03-E7B0-458E-AF09-6B86B20ED10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609480" y="2286000"/>
          <a:ext cx="7772400" cy="37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0"/>
                    <a:ext cx="7772400" cy="37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34320" y="457200"/>
            <a:ext cx="1828800" cy="1224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66"/>
                </a:solidFill>
                <a:latin typeface="新細明體"/>
              </a:rPr>
              <a:t>近六</a:t>
            </a:r>
            <a:r>
              <a:rPr b="1" lang="zh-CN" sz="4400" spc="-1" strike="noStrike">
                <a:solidFill>
                  <a:srgbClr val="ff0066"/>
                </a:solidFill>
                <a:latin typeface="新細明體"/>
              </a:rPr>
              <a:t>成</a:t>
            </a:r>
            <a:r>
              <a:rPr b="1" lang="zh-CN" sz="4400" spc="-1" strike="noStrike">
                <a:solidFill>
                  <a:srgbClr val="00009e"/>
                </a:solidFill>
                <a:latin typeface="新細明體"/>
              </a:rPr>
              <a:t>受訪者</a:t>
            </a:r>
            <a:r>
              <a:rPr b="1" lang="zh-TW" sz="4400" spc="-1" strike="noStrike">
                <a:solidFill>
                  <a:srgbClr val="00009e"/>
                </a:solidFill>
                <a:latin typeface="新細明體"/>
              </a:rPr>
              <a:t>覺得</a:t>
            </a:r>
            <a:br>
              <a:rPr sz="4400"/>
            </a:br>
            <a:r>
              <a:rPr b="1" lang="zh-TW" sz="4400" spc="-1" strike="noStrike">
                <a:solidFill>
                  <a:srgbClr val="ff0066"/>
                </a:solidFill>
                <a:latin typeface="新細明體"/>
              </a:rPr>
              <a:t>眼敏感有影響其工作</a:t>
            </a:r>
            <a:endParaRPr b="1" lang="en-US" sz="4400" spc="-1" strike="noStrike">
              <a:solidFill>
                <a:srgbClr val="00009e"/>
              </a:solidFill>
              <a:latin typeface="新細明體"/>
            </a:endParaRPr>
          </a:p>
        </p:txBody>
      </p:sp>
      <p:sp>
        <p:nvSpPr>
          <p:cNvPr id="138" name=""/>
          <p:cNvSpPr/>
          <p:nvPr/>
        </p:nvSpPr>
        <p:spPr>
          <a:xfrm>
            <a:off x="7051680" y="632448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5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19320" y="1752480"/>
            <a:ext cx="7391160" cy="368280"/>
          </a:xfrm>
          <a:prstGeom prst="rect">
            <a:avLst/>
          </a:prstGeom>
          <a:gradFill rotWithShape="0">
            <a:gsLst>
              <a:gs pos="0">
                <a:srgbClr val="ffffff">
                  <a:alpha val="44313"/>
                </a:srgbClr>
              </a:gs>
              <a:gs pos="50000">
                <a:srgbClr val="efefff">
                  <a:alpha val="42352"/>
                </a:srgbClr>
              </a:gs>
              <a:gs pos="100000">
                <a:srgbClr val="ffffff">
                  <a:alpha val="4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問：</a:t>
            </a:r>
            <a:r>
              <a:rPr b="0" lang="zh-TW" sz="1800" spc="-1" strike="noStrike">
                <a:solidFill>
                  <a:srgbClr val="000000"/>
                </a:solidFill>
                <a:latin typeface="Symbol"/>
                <a:ea typeface="Symbol"/>
              </a:rPr>
              <a:t>你覺得眼敏感有否對你的</a:t>
            </a:r>
            <a:r>
              <a:rPr b="0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工作</a:t>
            </a:r>
            <a:r>
              <a:rPr b="0" lang="zh-TW" sz="1800" spc="-1" strike="noStrike">
                <a:solidFill>
                  <a:srgbClr val="000000"/>
                </a:solidFill>
                <a:latin typeface="Symbol"/>
                <a:ea typeface="Symbol"/>
              </a:rPr>
              <a:t>／日常生活／社交生活構成任何影響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6980B-C9FA-49ED-9471-0B7EA436A1E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609480" y="2362320"/>
          <a:ext cx="7772400" cy="362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362320"/>
                    <a:ext cx="7772400" cy="36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2" name="" descr="">
            <a:hlinkClick r:id="rId3"/>
          </p:cNvPr>
          <p:cNvPicPr/>
          <p:nvPr/>
        </p:nvPicPr>
        <p:blipFill>
          <a:blip r:embed="rId4">
            <a:lum bright="30000"/>
          </a:blip>
          <a:stretch/>
        </p:blipFill>
        <p:spPr>
          <a:xfrm>
            <a:off x="6324480" y="2514600"/>
            <a:ext cx="2210040" cy="14842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66"/>
                </a:solidFill>
                <a:latin typeface="新細明體"/>
              </a:rPr>
              <a:t>八</a:t>
            </a:r>
            <a:r>
              <a:rPr b="1" lang="zh-CN" sz="4400" spc="-1" strike="noStrike">
                <a:solidFill>
                  <a:srgbClr val="ff0066"/>
                </a:solidFill>
                <a:latin typeface="新細明體"/>
              </a:rPr>
              <a:t>成</a:t>
            </a:r>
            <a:r>
              <a:rPr b="1" lang="zh-TW" sz="4400" spc="-1" strike="noStrike">
                <a:solidFill>
                  <a:srgbClr val="ff0066"/>
                </a:solidFill>
                <a:latin typeface="新細明體"/>
              </a:rPr>
              <a:t>三</a:t>
            </a:r>
            <a:r>
              <a:rPr b="1" lang="zh-TW" sz="4400" spc="-1" strike="noStrike">
                <a:solidFill>
                  <a:srgbClr val="000099"/>
                </a:solidFill>
                <a:latin typeface="新細明體"/>
              </a:rPr>
              <a:t>工作</a:t>
            </a:r>
            <a:r>
              <a:rPr b="1" lang="zh-CN" sz="4400" spc="-1" strike="noStrike">
                <a:solidFill>
                  <a:srgbClr val="000099"/>
                </a:solidFill>
                <a:latin typeface="新細明體"/>
              </a:rPr>
              <a:t>受</a:t>
            </a:r>
            <a:r>
              <a:rPr b="1" lang="zh-TW" sz="4400" spc="-1" strike="noStrike">
                <a:solidFill>
                  <a:srgbClr val="000099"/>
                </a:solidFill>
                <a:latin typeface="新細明體"/>
              </a:rPr>
              <a:t>影響</a:t>
            </a:r>
            <a:r>
              <a:rPr b="1" lang="zh-CN" sz="4400" spc="-1" strike="noStrike">
                <a:solidFill>
                  <a:srgbClr val="00009e"/>
                </a:solidFill>
                <a:latin typeface="新細明體"/>
              </a:rPr>
              <a:t>者認爲</a:t>
            </a:r>
            <a:r>
              <a:rPr b="1" lang="zh-TW" sz="4400" spc="-1" strike="noStrike">
                <a:solidFill>
                  <a:srgbClr val="00009e"/>
                </a:solidFill>
                <a:latin typeface="新細明體"/>
              </a:rPr>
              <a:t>眼敏感</a:t>
            </a:r>
            <a:br>
              <a:rPr sz="4400"/>
            </a:br>
            <a:r>
              <a:rPr b="1" lang="zh-TW" sz="4400" spc="-1" strike="noStrike">
                <a:solidFill>
                  <a:srgbClr val="ff0066"/>
                </a:solidFill>
                <a:latin typeface="新細明體"/>
              </a:rPr>
              <a:t>令工作效率降低</a:t>
            </a:r>
            <a:endParaRPr b="1" lang="en-US" sz="4400" spc="-1" strike="noStrike">
              <a:solidFill>
                <a:srgbClr val="00009e"/>
              </a:solidFill>
              <a:latin typeface="新細明體"/>
            </a:endParaRPr>
          </a:p>
        </p:txBody>
      </p:sp>
      <p:sp>
        <p:nvSpPr>
          <p:cNvPr id="144" name=""/>
          <p:cNvSpPr/>
          <p:nvPr/>
        </p:nvSpPr>
        <p:spPr>
          <a:xfrm>
            <a:off x="5831280" y="624852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302(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可選擇多項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1905120"/>
            <a:ext cx="7391160" cy="368280"/>
          </a:xfrm>
          <a:prstGeom prst="rect">
            <a:avLst/>
          </a:prstGeom>
          <a:gradFill rotWithShape="0">
            <a:gsLst>
              <a:gs pos="0">
                <a:srgbClr val="ffffff">
                  <a:alpha val="44313"/>
                </a:srgbClr>
              </a:gs>
              <a:gs pos="50000">
                <a:srgbClr val="efefff">
                  <a:alpha val="42352"/>
                </a:srgbClr>
              </a:gs>
              <a:gs pos="100000">
                <a:srgbClr val="ffffff">
                  <a:alpha val="4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問：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你覺得眼敏感對你的工作構成什麼影響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71600" y="579132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工作效率降低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/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難集中精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19520" y="57913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Symbol"/>
                <a:ea typeface="Symbol"/>
              </a:rPr>
              <a:t>不能長時間用電腦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</a:t>
            </a:r>
            <a:r>
              <a:rPr b="0" lang="zh-TW" sz="1200" spc="-1" strike="noStrike">
                <a:solidFill>
                  <a:srgbClr val="000000"/>
                </a:solidFill>
                <a:latin typeface="Symbol"/>
                <a:ea typeface="Symbol"/>
              </a:rPr>
              <a:t>睇文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14800" y="5791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Symbol"/>
                <a:ea typeface="Symbol"/>
              </a:rPr>
              <a:t>不能見客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</a:t>
            </a:r>
            <a:r>
              <a:rPr b="0" lang="zh-TW" sz="1200" spc="-1" strike="noStrike">
                <a:solidFill>
                  <a:srgbClr val="000000"/>
                </a:solidFill>
                <a:latin typeface="Symbol"/>
                <a:ea typeface="Symbol"/>
              </a:rPr>
              <a:t>開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14800" y="57913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經常請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77840" y="579132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其他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85DE6-9F8B-43AC-8B55-21D0C34DED6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685800" y="2133720"/>
          <a:ext cx="7162920" cy="387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3720"/>
                    <a:ext cx="7162920" cy="38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3" name="" descr="">
            <a:hlinkClick r:id="rId3"/>
          </p:cNvPr>
          <p:cNvPicPr/>
          <p:nvPr/>
        </p:nvPicPr>
        <p:blipFill>
          <a:blip r:embed="rId4">
            <a:lum bright="26000"/>
          </a:blip>
          <a:stretch/>
        </p:blipFill>
        <p:spPr>
          <a:xfrm>
            <a:off x="6858000" y="2286000"/>
            <a:ext cx="1905120" cy="13651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66"/>
                </a:solidFill>
                <a:latin typeface="新細明體"/>
              </a:rPr>
              <a:t>七</a:t>
            </a:r>
            <a:r>
              <a:rPr b="1" lang="zh-CN" sz="4400" spc="-1" strike="noStrike">
                <a:solidFill>
                  <a:srgbClr val="ff0066"/>
                </a:solidFill>
                <a:latin typeface="新細明體"/>
              </a:rPr>
              <a:t>成</a:t>
            </a:r>
            <a:r>
              <a:rPr b="1" lang="zh-TW" sz="4400" spc="-1" strike="noStrike">
                <a:solidFill>
                  <a:srgbClr val="ff0066"/>
                </a:solidFill>
                <a:latin typeface="新細明體"/>
              </a:rPr>
              <a:t>八</a:t>
            </a:r>
            <a:r>
              <a:rPr b="1" lang="zh-TW" sz="4400" spc="-1" strike="noStrike">
                <a:solidFill>
                  <a:srgbClr val="000099"/>
                </a:solidFill>
                <a:latin typeface="新細明體"/>
              </a:rPr>
              <a:t>生活</a:t>
            </a:r>
            <a:r>
              <a:rPr b="1" lang="zh-CN" sz="4400" spc="-1" strike="noStrike">
                <a:solidFill>
                  <a:srgbClr val="000099"/>
                </a:solidFill>
                <a:latin typeface="新細明體"/>
              </a:rPr>
              <a:t>受</a:t>
            </a:r>
            <a:r>
              <a:rPr b="1" lang="zh-TW" sz="4400" spc="-1" strike="noStrike">
                <a:solidFill>
                  <a:srgbClr val="000099"/>
                </a:solidFill>
                <a:latin typeface="新細明體"/>
              </a:rPr>
              <a:t>影響</a:t>
            </a:r>
            <a:r>
              <a:rPr b="1" lang="zh-CN" sz="4400" spc="-1" strike="noStrike">
                <a:solidFill>
                  <a:srgbClr val="00009e"/>
                </a:solidFill>
                <a:latin typeface="新細明體"/>
              </a:rPr>
              <a:t>者</a:t>
            </a:r>
            <a:r>
              <a:rPr b="1" lang="zh-TW" sz="4400" spc="-1" strike="noStrike">
                <a:solidFill>
                  <a:srgbClr val="00009e"/>
                </a:solidFill>
                <a:latin typeface="新細明體"/>
              </a:rPr>
              <a:t>因為眼敏感</a:t>
            </a:r>
            <a:br>
              <a:rPr sz="4400"/>
            </a:br>
            <a:r>
              <a:rPr b="1" lang="zh-TW" sz="4400" spc="-1" strike="noStrike">
                <a:solidFill>
                  <a:srgbClr val="ff0066"/>
                </a:solidFill>
                <a:latin typeface="新細明體"/>
              </a:rPr>
              <a:t>不能長時間看電視</a:t>
            </a:r>
            <a:r>
              <a:rPr b="1" lang="zh-TW" sz="4400" spc="-1" strike="noStrike">
                <a:solidFill>
                  <a:srgbClr val="ff0066"/>
                </a:solidFill>
                <a:latin typeface="新細明體"/>
              </a:rPr>
              <a:t>/</a:t>
            </a:r>
            <a:r>
              <a:rPr b="1" lang="zh-TW" sz="4400" spc="-1" strike="noStrike">
                <a:solidFill>
                  <a:srgbClr val="ff0066"/>
                </a:solidFill>
                <a:latin typeface="新細明體"/>
              </a:rPr>
              <a:t>電</a:t>
            </a:r>
            <a:r>
              <a:rPr b="1" lang="zh-CN" sz="4400" spc="-1" strike="noStrike">
                <a:solidFill>
                  <a:srgbClr val="ff0066"/>
                </a:solidFill>
                <a:latin typeface="新細明體"/>
              </a:rPr>
              <a:t>腦</a:t>
            </a:r>
            <a:r>
              <a:rPr b="1" lang="zh-TW" sz="4400" spc="-1" strike="noStrike">
                <a:solidFill>
                  <a:srgbClr val="ff0066"/>
                </a:solidFill>
                <a:latin typeface="新細明體"/>
              </a:rPr>
              <a:t>/</a:t>
            </a:r>
            <a:r>
              <a:rPr b="1" lang="zh-TW" sz="4400" spc="-1" strike="noStrike">
                <a:solidFill>
                  <a:srgbClr val="ff0066"/>
                </a:solidFill>
                <a:latin typeface="新細明體"/>
              </a:rPr>
              <a:t>閱讀</a:t>
            </a:r>
            <a:endParaRPr b="1" lang="en-US" sz="4400" spc="-1" strike="noStrike">
              <a:solidFill>
                <a:srgbClr val="00009e"/>
              </a:solidFill>
              <a:latin typeface="新細明體"/>
            </a:endParaRPr>
          </a:p>
        </p:txBody>
      </p:sp>
      <p:sp>
        <p:nvSpPr>
          <p:cNvPr id="155" name=""/>
          <p:cNvSpPr/>
          <p:nvPr/>
        </p:nvSpPr>
        <p:spPr>
          <a:xfrm>
            <a:off x="5754960" y="632448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189(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可選擇多項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95280" y="1752480"/>
            <a:ext cx="7391520" cy="368280"/>
          </a:xfrm>
          <a:prstGeom prst="rect">
            <a:avLst/>
          </a:prstGeom>
          <a:gradFill rotWithShape="0">
            <a:gsLst>
              <a:gs pos="0">
                <a:srgbClr val="ffffff">
                  <a:alpha val="44313"/>
                </a:srgbClr>
              </a:gs>
              <a:gs pos="50000">
                <a:srgbClr val="efefff">
                  <a:alpha val="42352"/>
                </a:srgbClr>
              </a:gs>
              <a:gs pos="100000">
                <a:srgbClr val="ffffff">
                  <a:alpha val="4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問：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你覺得眼敏感對你</a:t>
            </a: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的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日常生活構成</a:t>
            </a: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什麽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影響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556272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不能長時間睇書</a:t>
            </a:r>
            <a:r>
              <a:rPr b="0" lang="en-US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/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電視</a:t>
            </a:r>
            <a:r>
              <a:rPr b="0" lang="en-US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/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用電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55627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Symbol"/>
                <a:ea typeface="Symbol"/>
              </a:rPr>
              <a:t>影響戶外活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55627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Symbol"/>
                <a:ea typeface="Symbol"/>
              </a:rPr>
              <a:t>不</a:t>
            </a:r>
            <a:r>
              <a:rPr b="0" lang="zh-CN" sz="1200" spc="-1" strike="noStrike">
                <a:solidFill>
                  <a:srgbClr val="000000"/>
                </a:solidFill>
                <a:latin typeface="Symbol"/>
                <a:ea typeface="Symbol"/>
              </a:rPr>
              <a:t>想</a:t>
            </a:r>
            <a:r>
              <a:rPr b="0" lang="zh-TW" sz="1200" spc="-1" strike="noStrike">
                <a:solidFill>
                  <a:srgbClr val="000000"/>
                </a:solidFill>
                <a:latin typeface="Symbol"/>
                <a:ea typeface="Symbol"/>
              </a:rPr>
              <a:t>化妝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</a:t>
            </a:r>
            <a:r>
              <a:rPr b="0" lang="zh-TW" sz="1200" spc="-1" strike="noStrike">
                <a:solidFill>
                  <a:srgbClr val="000000"/>
                </a:solidFill>
                <a:latin typeface="Symbol"/>
                <a:ea typeface="Symbol"/>
              </a:rPr>
              <a:t>戴隱形眼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57600" y="55627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影響駕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29400" y="5416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44320" y="556272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其他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47049-67A6-4536-B5D1-4B7A1EBF56A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30T10:47:23Z</dcterms:created>
  <dc:creator>Grey Worldwide</dc:creator>
  <dc:description/>
  <dc:language>en-US</dc:language>
  <cp:lastModifiedBy>Alex Lin</cp:lastModifiedBy>
  <dcterms:modified xsi:type="dcterms:W3CDTF">2007-04-23T09:18:17Z</dcterms:modified>
  <cp:revision>1581</cp:revision>
  <dc:subject/>
  <dc:title>HONG KONG PEOPLE’S CONCERN ABOUT HEART HEALTH AND CHOLESTER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16429259</vt:r8>
  </property>
  <property fmtid="{D5CDD505-2E9C-101B-9397-08002B2CF9AE}" pid="3" name="_AuthorEmail">
    <vt:lpwstr>lokman@hepfree.org</vt:lpwstr>
  </property>
  <property fmtid="{D5CDD505-2E9C-101B-9397-08002B2CF9AE}" pid="4" name="_AuthorEmailDisplayName">
    <vt:lpwstr>Lokman Wong</vt:lpwstr>
  </property>
  <property fmtid="{D5CDD505-2E9C-101B-9397-08002B2CF9AE}" pid="5" name="_EmailSubject">
    <vt:lpwstr>QoL PC - Status</vt:lpwstr>
  </property>
  <property fmtid="{D5CDD505-2E9C-101B-9397-08002B2CF9AE}" pid="6" name="_ReviewingToolsShownOnce">
    <vt:lpwstr/>
  </property>
</Properties>
</file>