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26922B-ED4A-446C-9B16-A2AB20E450D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928-D219-4A1C-BBDF-11574684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E10-D768-4540-BD6C-64BB02D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977-5843-4D91-865E-EAE4081D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772-DED9-4042-85B7-5FEAB0D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94E-585F-4A51-AAE0-1896DCB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99E-D93E-48BF-8C53-218605B1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366-FF6E-47D6-8DF5-C2E5D387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7B4-6DF3-45CF-8BA3-0C55835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7B9-38BF-468C-B0CB-22F9F69D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7DD-DB75-46EA-BC7F-30A8C32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73B-8340-4B08-B7C0-8D5B27E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ABA-FAD2-409D-B0F6-D6521BF1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923-9DD8-42D3-A30F-9D7B02E04475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在職人士對糖尿病認知意見調查 </a:t>
            </a:r>
            <a:br>
              <a:rPr sz="4000"/>
            </a:b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006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9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28</a:t>
            </a:r>
            <a:r>
              <a:rPr b="0" i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邊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人係糖尿病高危人士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?</a:t>
            </a:r>
            <a:br>
              <a:rPr sz="3400"/>
            </a:b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952880" y="1687680"/>
          <a:ext cx="3510000" cy="270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687680"/>
                    <a:ext cx="351000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733920" y="20574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邊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人係糖尿病高危人士</a:t>
            </a:r>
            <a:r>
              <a:rPr b="1" lang="zh-TW" sz="34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1080" y="1981080"/>
          <a:ext cx="8962920" cy="43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981080"/>
                    <a:ext cx="896292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糖尿病可唔可以根治嘅呢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66680"/>
          <a:ext cx="92059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205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43000" y="5867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糖尿病可唔可以根治嘅呢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?</a:t>
            </a: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2057400"/>
          <a:ext cx="784836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4836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糖尿病空腹血糖指標超過幾多度係屬於超標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2003400"/>
          <a:ext cx="9207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3400"/>
                    <a:ext cx="9207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7309800" y="56386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糖尿病空腹血糖指標超過幾多度係屬於超標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?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143000"/>
          <a:ext cx="548640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5486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19520" y="3678120"/>
          <a:ext cx="6095880" cy="317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678120"/>
                    <a:ext cx="60958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方法可以改善糖尿病嘅病情呢？ </a:t>
            </a:r>
            <a:br>
              <a:rPr sz="36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480" y="1219320"/>
          <a:ext cx="907704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" y="1219320"/>
                    <a:ext cx="90770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05520" y="1905120"/>
          <a:ext cx="3827520" cy="24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05120"/>
                    <a:ext cx="382752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14800" y="24382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有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方法可以改善糖尿病嘅病情呢？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066680"/>
          <a:ext cx="5486400" cy="30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4864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276720" y="3733920"/>
          <a:ext cx="5638680" cy="3124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33920"/>
                    <a:ext cx="5638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點樣可以預防患上糖尿病？ </a:t>
            </a:r>
            <a:br>
              <a:rPr sz="36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6600" y="1447920"/>
          <a:ext cx="90774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447920"/>
                    <a:ext cx="90774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6520" y="2063880"/>
          <a:ext cx="411336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6520" y="2063880"/>
                    <a:ext cx="411336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657600" y="20574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知唔知道點樣可以預防患上糖尿病？ 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523880"/>
          <a:ext cx="4876920" cy="26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487692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66880" y="3801960"/>
          <a:ext cx="6256440" cy="305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01960"/>
                    <a:ext cx="6256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及樣本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對糖尿病成因的認識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預防及治療糖尿病方法的認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對糖尿病的誤解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的腰圍、身高及體重與患上糖尿病的風險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外出晚膳的習慣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有冇試過驗血糖？【如有，訪員請追問是否在過去十二個月內進行】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2057400"/>
          <a:ext cx="8126640" cy="40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57400"/>
                    <a:ext cx="812664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309800" y="56386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有冇試過驗血糖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br>
              <a:rPr sz="40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以性別及年齡交义分析比較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066680"/>
          <a:ext cx="586728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8672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3524400"/>
          <a:ext cx="64771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24400"/>
                    <a:ext cx="64771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本身係唔係糖尿病患者？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1746360"/>
          <a:ext cx="825336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746360"/>
                    <a:ext cx="82533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309800" y="56386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問糖尿病患者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]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咁請問你用緊邊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方法控制血糖？ </a:t>
            </a:r>
            <a:br>
              <a:rPr sz="3600"/>
            </a:b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13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6600" y="1905120"/>
          <a:ext cx="90774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905120"/>
                    <a:ext cx="9077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[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問糖尿病患者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]</a:t>
            </a:r>
            <a:br>
              <a:rPr sz="28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用咗以上嘅方法之後，你覺得控制血糖嘅效果好唔好呢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003400"/>
          <a:ext cx="9207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3400"/>
                    <a:ext cx="9207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310160" y="5638680"/>
            <a:ext cx="10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1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[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問覺得控制血糖效果一半半或差的糖尿病患者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  <a:ea typeface="標楷體"/>
              </a:rPr>
              <a:t>]</a:t>
            </a:r>
            <a:br>
              <a:rPr sz="26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點解會控制得唔係咁好呢？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8240" y="2209680"/>
          <a:ext cx="8928000" cy="418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2209680"/>
                    <a:ext cx="89280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310520" y="59436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= 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請問你嘅腰圍大約係幾多吋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?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7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flipH="1" rot="16200000">
            <a:off x="448164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graphicFrame>
        <p:nvGraphicFramePr>
          <p:cNvPr id="163" name=""/>
          <p:cNvGraphicFramePr/>
          <p:nvPr/>
        </p:nvGraphicFramePr>
        <p:xfrm>
          <a:off x="0" y="1371600"/>
          <a:ext cx="9063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063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請問你宜家既身高同體重大約是幾多？</a:t>
            </a:r>
            <a:br>
              <a:rPr sz="2800"/>
            </a:b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[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計算身體質量指數，即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Body Mass Index(BMI)]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 BMI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計算方法為體重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公斤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)/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高度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米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)²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6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 flipH="1" rot="16200000">
            <a:off x="4481640" y="19047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graphicFrame>
        <p:nvGraphicFramePr>
          <p:cNvPr id="168" name=""/>
          <p:cNvGraphicFramePr/>
          <p:nvPr/>
        </p:nvGraphicFramePr>
        <p:xfrm>
          <a:off x="0" y="1905120"/>
          <a:ext cx="90630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063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486400" y="1905120"/>
          <a:ext cx="2514600" cy="171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251460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腰圍及身體質量指數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28800" y="3276720"/>
          <a:ext cx="684036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76720"/>
                    <a:ext cx="6840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04920" y="914400"/>
          <a:ext cx="6095880" cy="281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14400"/>
                    <a:ext cx="6095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你一星期平均有幾多晚會出街食飯？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只計晚餐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920" y="2003400"/>
          <a:ext cx="9082080" cy="43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003400"/>
                    <a:ext cx="90820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238880" y="6172200"/>
            <a:ext cx="12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76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343400" y="2209680"/>
          <a:ext cx="3886200" cy="174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209680"/>
                    <a:ext cx="38862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被訪者個人背景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752480"/>
          <a:ext cx="8182080" cy="41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1820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93432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685800"/>
          <a:ext cx="8255160" cy="53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25516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746360"/>
          <a:ext cx="96012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6360"/>
                    <a:ext cx="96012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婚姻狀況 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-228600" y="1752480"/>
          <a:ext cx="96012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752480"/>
                    <a:ext cx="96012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個人每個月平均收入 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-152280" y="1219320"/>
          <a:ext cx="96408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219320"/>
                    <a:ext cx="96408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5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居住地區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-304920" y="1143000"/>
          <a:ext cx="9641160" cy="51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143000"/>
                    <a:ext cx="964116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7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別各約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三分一人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不知道任何糖尿病的徵狀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3 %)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糖尿病可能會導致的併發症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30%)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在表示知道的人士當中，最多被訪者能夠正確講出「容易疲倦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2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「劇渴／口渴」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0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糖尿病的徵狀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有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接近四成人士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能準確地回答「失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因視網膜病變、白內障或青光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38%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及「皮膚／足部感染，皮膚潰爛／爛脚／截足」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(37%)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乃屬於糖尿病的併發症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分別各有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一成多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被訪者表示完全不知道糖尿病的高危因素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5%)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如何改善糖尿病的病情 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1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逾四分三被訪人士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76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能正確指出糖尿病是不能根治的，其餘的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兩成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0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認為糖尿病患者能痊癒 。另外有高達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七成三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73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不知道糖尿病空腹血糖指標超過幾多度屬於超標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高達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四分之一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6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並不知道任何預防糖尿病的方法 ，有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四成六人士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46%)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回答「均衡飲食、不要偏食及暴飲暴食」是預防糖尿病的箇中方法 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  <a:ea typeface="標楷體"/>
              </a:rPr>
              <a:t>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試過及未試過驗血糖的人數比例為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二比一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，在有進行測試的被訪者之中，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一半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2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在過去十二個月內進行，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另一半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31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則並非在過去十二個月內進行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略多於六成人士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61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肯定地表示自己並非糖尿病患者，而已經證實患上糖尿病的人數只佔整體樣本的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兩個百分比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七成人士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68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的身體質量屬於正常，另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一成六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6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屬於偏瘦，而屬於過胖及癡肥的則分別佔樣本的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百分之十四及百分之三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14%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及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3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被訪者平均一星期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1.8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晚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會外出用膳。只有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  <a:ea typeface="標楷體"/>
              </a:rPr>
              <a:t>四分一人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(25%)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表示從不或絕少出街食飯 。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 </a:t>
            </a:r>
            <a:r>
              <a:rPr b="1" lang="zh-TW" sz="2200" spc="-1" strike="noStrike">
                <a:solidFill>
                  <a:srgbClr val="ccecff"/>
                </a:solidFill>
                <a:latin typeface="Times New Roman"/>
                <a:ea typeface="標楷體"/>
              </a:rPr>
              <a:t>是次被訪的在職人士之中，女性比男性對糖尿病認識較多，而中年人士亦比其他年齡組別人士的警覺性強。調查又顯示，該等在職人士之中只有六成肯定自己並非糖尿病患者，接近三成半從來沒有進行血糖水平測試，而在願意透露自己身高及體重的被訪者當中，只有接近七成的身體質量指數屬於正常。換言之，大約三分一有關職人士其實需要加強對自己身體的監控，而出現中央肥胖的人士尤須注意。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  <a:ea typeface="標楷體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日期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006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9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至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月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日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訪問對象：年齡介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5 - 55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歲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並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操粵語的本地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                  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在職人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方法：由訪問員直接進行電話訪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樣本數目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577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成功個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回應比率：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67.5%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（以符合資格的目標對象計算 ）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抽樣誤差：少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2.1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，亦即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95%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置信水平下，各個百分比的抽樣誤差為少於正負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4.2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標楷體"/>
              </a:rPr>
              <a:t>個百分比。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30360" indent="-1530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標楷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標楷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Times New Roman"/>
                <a:ea typeface="標楷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患有糖尿病嘅人有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徵狀？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840" y="1752480"/>
          <a:ext cx="89042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1752480"/>
                    <a:ext cx="89042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800600" y="2743200"/>
          <a:ext cx="3824280" cy="206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743200"/>
                    <a:ext cx="38242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095880" y="228600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知唔知道患有糖尿病嘅人有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乜野徵狀？</a:t>
            </a:r>
            <a:br>
              <a:rPr sz="2800"/>
            </a:b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及年齡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0040" y="1212840"/>
          <a:ext cx="536904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212840"/>
                    <a:ext cx="536904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85800" y="3513240"/>
          <a:ext cx="8153280" cy="334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13240"/>
                    <a:ext cx="815328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認為糖尿病可能會導致邊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併發症呢？</a:t>
            </a:r>
            <a:br>
              <a:rPr sz="2800"/>
            </a:b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佔回答人數百分比，基數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=577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093760"/>
          <a:ext cx="9207360" cy="40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20736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1523880"/>
          <a:ext cx="8904240" cy="5334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3880"/>
                    <a:ext cx="8904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114800" y="2590920"/>
          <a:ext cx="4357800" cy="1919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590920"/>
                    <a:ext cx="4357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876920" y="2057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請問你認為糖尿病可能會導致邊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D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  <a:ea typeface="標楷體"/>
              </a:rPr>
              <a:t>併發症呢？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  <a:ea typeface="標楷體"/>
              </a:rPr>
              <a:t>（以性別交义分析比較）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650960"/>
          <a:ext cx="7543800" cy="54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0960"/>
                    <a:ext cx="754380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6-09-28T11:54:46Z</dcterms:modified>
  <cp:revision>872</cp:revision>
  <dc:subject/>
  <dc:title>無投影片標題</dc:title>
</cp:coreProperties>
</file>