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6.wmf" ContentType="image/x-wmf"/>
  <Override PartName="/ppt/media/image19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2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5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6080" y="780840"/>
            <a:ext cx="4896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PMingLiU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5720" y="4765320"/>
            <a:ext cx="4971960" cy="445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9EDCA8-5E18-4E41-A810-8952F5C7980D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8E91FF-B58D-4413-A6B6-5E6057CF0F3C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68305B-9856-47F1-94D6-225E608615B5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929548-2576-40C8-BCAA-9C637A485F19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72B734-F4AF-435C-8860-593A4C02E5EA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761B22-ACB4-48D5-9C7E-9969A737041E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E4260E-6E7C-4111-841C-479579EA4464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274EB7-1669-43E4-A546-3AAC39F5ADCB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1205BC-F5FF-4E36-B403-F3F94A56223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884855-64CA-4909-9437-3EF905C4C502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E6BD84-4899-4F16-BEA7-C93B133DE2E2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8714BA-82EA-4C87-AA00-31386682C928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FF7FA0-22F5-4E61-ACDF-1A97A2027C77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6E31B4-F0DD-4472-BB01-7FBD1C9E5BEC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F965E9-1C4D-4A25-9559-E52F9B38553C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DCBF45-2479-4B21-9615-3F8839744C84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3C4C-4C25-4C38-BD85-357C83297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69DB-2788-45FF-82DB-95A09C708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8CA2-40D3-47B2-A605-4A45FAD82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153E-986D-4F65-8D8D-1098101A7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E1E7-86B5-4892-B7E4-4D9C4B78F9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5910-E4D9-41B7-B9EF-A7BED50C2D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DD9D5-041A-4851-935E-C182C47105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1D60-6470-4D3F-B2F0-D2198F4986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AB53-BEFA-4FBC-8B25-18AF573F59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63BC-C1A3-46B3-A89E-57B5DFB4EB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68BE-562C-49C3-9EA8-28280D2F2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7D78-08CA-42EC-95E0-148D121D6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4AB7-4E1D-42F7-8053-0075EB78C3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DEAE-5E22-411B-B3CB-F8450A11F3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DBCE-1BE2-41B3-8BA3-0ECB6FE4A7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2838-406E-4E5B-8B35-7EB24F9FD5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4A45-4D02-4B7E-A34E-36ED47DD1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0200-F849-426F-8141-911F35BB6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9B95-4A14-47F5-B6D6-A516C9C37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8368-2818-4B90-B171-7EA4CD17A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2579-AE62-4884-9BE1-1D8A9E1D2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527D-F059-4459-90ED-7B4E41CA3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C93C-69DA-4215-A583-9F3365B1B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955E-3D70-4D82-87AC-AD8637BCE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2" name=""/>
          <p:cNvSpPr/>
          <p:nvPr/>
        </p:nvSpPr>
        <p:spPr>
          <a:xfrm>
            <a:off x="28440" y="304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A3F6-9B8A-4698-8662-0F37183656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PMingLiU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900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8FB4-C77C-4709-BEAD-352406F674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MingLiU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PMingLiU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MingLiU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MingLiU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PMingLiU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PMingLiU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PMingLiU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PMingLiU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PMingLi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5029200"/>
            <a:ext cx="2438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鍾庭耀博士 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香港大學民意研究計劃主任 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MingLiU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年</a:t>
            </a:r>
            <a:r>
              <a:rPr b="0" lang="en-GB" sz="2800" spc="-1" strike="noStrike">
                <a:solidFill>
                  <a:srgbClr val="000000"/>
                </a:solidFill>
                <a:latin typeface="PMingLiU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440" y="2057040"/>
            <a:ext cx="8001000" cy="1143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【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視力昏花對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患者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生活質素影響調查</a:t>
            </a: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】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1DDA-E571-4341-9D81-CF6D931A404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PMingLiU"/>
              </a:rPr>
              <a:t>三成五</a:t>
            </a:r>
            <a:r>
              <a:rPr b="1" lang="zh-TW" sz="3400" spc="-1" strike="noStrike">
                <a:solidFill>
                  <a:srgbClr val="000000"/>
                </a:solidFill>
                <a:latin typeface="PMingLiU"/>
              </a:rPr>
              <a:t>沒有求診的視力昏花</a:t>
            </a:r>
            <a:r>
              <a:rPr b="1" lang="zh-CN" sz="3400" spc="-1" strike="noStrike">
                <a:solidFill>
                  <a:srgbClr val="000000"/>
                </a:solidFill>
                <a:latin typeface="PMingLiU"/>
              </a:rPr>
              <a:t>受訪者認爲</a:t>
            </a:r>
            <a:r>
              <a:rPr b="1" lang="zh-TW" sz="3400" spc="-1" strike="noStrike">
                <a:solidFill>
                  <a:srgbClr val="000000"/>
                </a:solidFill>
                <a:latin typeface="PMingLiU"/>
              </a:rPr>
              <a:t>老花</a:t>
            </a:r>
            <a:br>
              <a:rPr sz="34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是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自然現象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而無須求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醫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2184480"/>
          <a:ext cx="853452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84480"/>
                    <a:ext cx="853452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629400" y="6324480"/>
            <a:ext cx="1650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3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752480"/>
            <a:ext cx="73915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不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去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看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醫生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的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最主要原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是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D161-40CB-4B9B-94A5-681A1A4264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四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不知道應如何處理老花問題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93356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3356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59520" y="632448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2 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600200"/>
            <a:ext cx="73915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請問你知道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現時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什麽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方法可以處理老花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題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呢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9666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FBF3-2815-4D81-B954-7FCC6C57C5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三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對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視力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問題視之不理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951200"/>
          <a:ext cx="8915400" cy="44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51200"/>
                    <a:ext cx="891540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364440" y="649116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0 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600200"/>
            <a:ext cx="7391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你試過用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些什麽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方法去改善自己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的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視力問題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9988-A934-4057-8BCA-5F5292C64E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一成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四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受訪者有白內障問題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2536920"/>
          <a:ext cx="6781680" cy="36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36920"/>
                    <a:ext cx="678168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645240" y="60199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905120"/>
            <a:ext cx="69343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Symbol"/>
                <a:ea typeface="Symbol"/>
              </a:rPr>
              <a:t>請問你有</a:t>
            </a: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否</a:t>
            </a:r>
            <a:r>
              <a:rPr b="0" lang="zh-TW" sz="1600" spc="-1" strike="noStrike">
                <a:solidFill>
                  <a:srgbClr val="000000"/>
                </a:solidFill>
                <a:latin typeface="Symbol"/>
                <a:ea typeface="Symbol"/>
              </a:rPr>
              <a:t>白內障問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DD3A-957B-4F30-B164-8B9E567E4E9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一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五有白內障問題的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在</a:t>
            </a: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46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至</a:t>
            </a:r>
            <a:r>
              <a:rPr b="1" lang="en-US" sz="3600" spc="-1" strike="noStrike">
                <a:solidFill>
                  <a:srgbClr val="cc0000"/>
                </a:solidFill>
                <a:latin typeface="PMingLiU"/>
              </a:rPr>
              <a:t>55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歲時開始有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白內障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6600" y="2133720"/>
          <a:ext cx="796428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133720"/>
                    <a:ext cx="796428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095880" y="6354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68 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白內障患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905120"/>
            <a:ext cx="73915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何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時開始有白內障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DC9F-8CB8-4708-B281-D38CA2419C4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三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七患有白內障的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有做過白內障手術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95280" y="2514600"/>
          <a:ext cx="716292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716292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248520" y="6400800"/>
            <a:ext cx="343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68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白內障患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981080"/>
            <a:ext cx="73911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你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否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做過白內障手術</a:t>
            </a:r>
            <a:r>
              <a:rPr b="0" lang="zh-TW" sz="1600" spc="-1" strike="noStrike">
                <a:solidFill>
                  <a:srgbClr val="000000"/>
                </a:solidFill>
                <a:latin typeface="Symbol"/>
                <a:ea typeface="Symbol"/>
              </a:rPr>
              <a:t>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FC95-3117-47F7-8021-485CFCC5149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18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位患有白內障而接受過手術的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仍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需要戴眼鏡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73" name=""/>
          <p:cNvSpPr/>
          <p:nvPr/>
        </p:nvSpPr>
        <p:spPr>
          <a:xfrm>
            <a:off x="6674760" y="6080040"/>
            <a:ext cx="12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2000" spc="-1" strike="noStrike">
                <a:solidFill>
                  <a:srgbClr val="000000"/>
                </a:solidFill>
                <a:latin typeface="PMingLiU"/>
                <a:ea typeface="PMingLiU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1828800"/>
            <a:ext cx="73911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手術後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是否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需要戴眼鏡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1109520"/>
            <a:ext cx="1371600" cy="12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990720" y="2173320"/>
          <a:ext cx="7197480" cy="39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173320"/>
                    <a:ext cx="719748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334120" y="65070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註：因為樣本數目較少，數據只能粗糙參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579C-CB96-4304-8F9F-E2BF33F1B9F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7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位患有白內障而接受過手術後仍需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要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戴眼鏡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的受訪者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表示</a:t>
            </a:r>
            <a:r>
              <a:rPr b="1" lang="zh-CN" sz="2800" spc="-1" strike="noStrike">
                <a:solidFill>
                  <a:srgbClr val="cc0000"/>
                </a:solidFill>
                <a:latin typeface="PMingLiU"/>
              </a:rPr>
              <a:t>無論看任何距離的東西都</a:t>
            </a:r>
            <a:r>
              <a:rPr b="1" lang="zh-TW" sz="2800" spc="-1" strike="noStrike">
                <a:solidFill>
                  <a:srgbClr val="cc0000"/>
                </a:solidFill>
                <a:latin typeface="PMingLiU"/>
              </a:rPr>
              <a:t>需要戴眼鏡</a:t>
            </a:r>
            <a:endParaRPr b="1" lang="en-US" sz="28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95280" y="2133720"/>
          <a:ext cx="6966000" cy="38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966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762600" y="617220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523880"/>
            <a:ext cx="73911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在看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近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物或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物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時需要戴眼鏡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117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257800" y="65070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PMingLiU"/>
                <a:ea typeface="PMingLiU"/>
              </a:rPr>
              <a:t>註：因為樣本數目較少，數據只能粗糙參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1F33-63F5-4F46-B817-73929BEE40A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總結</a:t>
            </a:r>
            <a:endParaRPr b="1" lang="en-US" sz="32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0B1B-C4A1-4CAB-A73A-3F2CB82A370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總結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86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受訪者表示有老花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8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表示早於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6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歲至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45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歲時出現視力昏花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88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受訪者認為視力昏花對其日常生活帶來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不同程度的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影響，包括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: 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閱讀報紙雜誌、書信文件及看超市的價格或標籤等。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5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受訪者擔心視力會不斷衰退，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9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受訪者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不知道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視力昏花所顯示的眼睛健康問題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45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不知道有甚麼方法處理老花；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5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認爲老花是自然現象而無須求醫； 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31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對其視力問題置之不理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84DE-47DC-4755-A2EB-EE9FD55603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調查概況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752480"/>
          <a:ext cx="7772400" cy="4151520"/>
        </p:xfrm>
        <a:graphic>
          <a:graphicData uri="http://schemas.openxmlformats.org/drawingml/2006/table">
            <a:tbl>
              <a:tblPr/>
              <a:tblGrid>
                <a:gridCol w="1752840"/>
                <a:gridCol w="6019560"/>
              </a:tblGrid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目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瞭解港人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出現視力昏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的情况，對患者日常生活及心理的影響、對治療的認知情况，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及其對人工晶體的滿意程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00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6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日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由訪問員直接進行電話訪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對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40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歲或以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，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出現視力昏花人士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([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包括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: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老花、眼鏡度數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加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深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減少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、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者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整體上視力較年輕時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，並操粵語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Times New Roman"/>
                        </a:rPr>
                        <a:t>人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調查機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香港大學民意研究計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成功訪問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0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有效回應比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71.8% 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以符合資格的目標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象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計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抽樣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1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少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.2%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，亦即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95%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置信水平下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各個百分比的抽樣誤差為少於正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4.4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個百分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A0E0-C476-4892-9285-48812302B50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總結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受訪者有白內障問題，佔總樣本中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68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其中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15%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早在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歲時已開始有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白內障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37%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接受過白內障手術，即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25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25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名患有白內障而又接受過白內障手術者當中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其中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人（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72%</a:t>
            </a:r>
            <a:r>
              <a:rPr b="0" lang="en-US" sz="2800" spc="-1" strike="noStrike">
                <a:solidFill>
                  <a:srgbClr val="000000"/>
                </a:solidFill>
                <a:latin typeface="PMingLiU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在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手術後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仍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要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</a:rPr>
              <a:t>配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戴眼鏡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當中包括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PMingLiU"/>
              </a:rPr>
              <a:t>人表示無論看任何距離的東西都需要戴眼鏡</a:t>
            </a:r>
            <a:endParaRPr b="0" lang="en-US" sz="2800" spc="-1" strike="noStrike">
              <a:solidFill>
                <a:srgbClr val="000000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FB18-DA4C-48DD-89E4-50069138D7B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逾八成半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受訪者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有老花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一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四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有白內障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0" y="2077920"/>
          <a:ext cx="861228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2077920"/>
                    <a:ext cx="861228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371600" y="1752480"/>
            <a:ext cx="64771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雙眼曾經出現以下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哪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種視力問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02320" y="632448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2 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D0C6-570C-4959-9697-07422B91CC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三成八受訪者在</a:t>
            </a:r>
            <a:r>
              <a:rPr b="1" lang="en-US" sz="3600" spc="-1" strike="noStrike">
                <a:solidFill>
                  <a:srgbClr val="000000"/>
                </a:solidFill>
                <a:latin typeface="PMingLiU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歲至</a:t>
            </a:r>
            <a:r>
              <a:rPr b="1" lang="en-US" sz="3600" spc="-1" strike="noStrike">
                <a:solidFill>
                  <a:srgbClr val="000000"/>
                </a:solidFill>
                <a:latin typeface="PMingLiU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歲時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出現老花等視力問題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00" name=""/>
          <p:cNvSpPr/>
          <p:nvPr/>
        </p:nvSpPr>
        <p:spPr>
          <a:xfrm>
            <a:off x="679752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905120"/>
            <a:ext cx="73911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何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時開始出現以上情況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2468520"/>
          <a:ext cx="7799400" cy="37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68520"/>
                    <a:ext cx="77994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02A6-093C-459B-ABAF-1144016556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MingLiU"/>
              </a:rPr>
              <a:t>88%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受訪者</a:t>
            </a: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認為其視力昏花問題對</a:t>
            </a:r>
            <a:br>
              <a:rPr sz="3200"/>
            </a:br>
            <a:r>
              <a:rPr b="1" lang="zh-TW" sz="3200" spc="-1" strike="noStrike">
                <a:solidFill>
                  <a:srgbClr val="cc0000"/>
                </a:solidFill>
                <a:latin typeface="PMingLiU"/>
              </a:rPr>
              <a:t>日常生活有不同程</a:t>
            </a:r>
            <a:r>
              <a:rPr b="1" lang="zh-CN" sz="3200" spc="-1" strike="noStrike">
                <a:solidFill>
                  <a:srgbClr val="cc0000"/>
                </a:solidFill>
                <a:latin typeface="PMingLiU"/>
              </a:rPr>
              <a:t>度</a:t>
            </a:r>
            <a:r>
              <a:rPr b="1" lang="zh-TW" sz="3200" spc="-1" strike="noStrike">
                <a:solidFill>
                  <a:srgbClr val="cc0000"/>
                </a:solidFill>
                <a:latin typeface="PMingLiU"/>
              </a:rPr>
              <a:t>的影響</a:t>
            </a:r>
            <a:endParaRPr b="1" lang="en-US" sz="32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05" name=""/>
          <p:cNvSpPr/>
          <p:nvPr/>
        </p:nvSpPr>
        <p:spPr>
          <a:xfrm>
            <a:off x="6721200" y="60199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676520"/>
            <a:ext cx="7391520" cy="72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出現以上情況對你日常生活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的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影響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大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請以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0-10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分評價，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0=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完全沒有影響，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5=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一般／一半半，</a:t>
            </a:r>
            <a:r>
              <a:rPr b="0" lang="en-US" sz="1600" spc="-1" strike="noStrike">
                <a:solidFill>
                  <a:srgbClr val="000000"/>
                </a:solidFill>
                <a:latin typeface="PMingLiU"/>
                <a:ea typeface="PMingLiU"/>
              </a:rPr>
              <a:t>10=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極大影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2514600"/>
          <a:ext cx="72234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223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772400" y="2743200"/>
            <a:ext cx="76320" cy="2286000"/>
          </a:xfrm>
          <a:custGeom>
            <a:avLst/>
            <a:gdLst>
              <a:gd name="textAreaLeft" fmla="*/ 0 w 76320"/>
              <a:gd name="textAreaRight" fmla="*/ 2736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30160" y="31240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MingLiU"/>
                <a:ea typeface="PMingLiU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988B-3741-4BE2-AB5F-0F1A670840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受訪者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認為視力昏花對他們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最大的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</a:rPr>
              <a:t>影響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</a:rPr>
              <a:t>在於</a:t>
            </a:r>
            <a:r>
              <a:rPr b="1" lang="en-US" sz="2800" spc="-1" strike="noStrike">
                <a:solidFill>
                  <a:srgbClr val="000000"/>
                </a:solidFill>
                <a:latin typeface="PMingLiU"/>
              </a:rPr>
              <a:t>:</a:t>
            </a:r>
            <a:br>
              <a:rPr sz="2800"/>
            </a:br>
            <a:r>
              <a:rPr b="1" lang="zh-CN" sz="2400" spc="-1" strike="noStrike">
                <a:solidFill>
                  <a:srgbClr val="cc0000"/>
                </a:solidFill>
                <a:latin typeface="PMingLiU"/>
              </a:rPr>
              <a:t>閱讀</a:t>
            </a:r>
            <a:r>
              <a:rPr b="1" lang="zh-TW" sz="2400" spc="-1" strike="noStrike">
                <a:solidFill>
                  <a:srgbClr val="cc0000"/>
                </a:solidFill>
                <a:latin typeface="PMingLiU"/>
              </a:rPr>
              <a:t>報紙、雜誌、書信、文件 </a:t>
            </a:r>
            <a:r>
              <a:rPr b="1" lang="zh-CN" sz="2400" spc="-1" strike="noStrike">
                <a:solidFill>
                  <a:srgbClr val="cc0000"/>
                </a:solidFill>
                <a:latin typeface="PMingLiU"/>
              </a:rPr>
              <a:t>及看</a:t>
            </a:r>
            <a:r>
              <a:rPr b="1" lang="zh-TW" sz="2400" spc="-1" strike="noStrike">
                <a:solidFill>
                  <a:srgbClr val="cc0000"/>
                </a:solidFill>
                <a:latin typeface="PMingLiU"/>
              </a:rPr>
              <a:t>超市的價格或標籤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 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92280" y="2049480"/>
          <a:ext cx="776448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049480"/>
                    <a:ext cx="77644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8720" y="24382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676520"/>
            <a:ext cx="6553080" cy="3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有否爲你以下的日常活動帶來困難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62640" y="327672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1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62640" y="388620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5720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720" y="525780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720" y="594360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（基數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502</a:t>
            </a:r>
            <a:r>
              <a:rPr b="0" lang="en-US" sz="1400" spc="-1" strike="noStrike">
                <a:solidFill>
                  <a:srgbClr val="000000"/>
                </a:solidFill>
                <a:latin typeface="PMingLiU"/>
                <a:ea typeface="PMingLiU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52C7-8165-4AA1-B1D9-02D2A6AAAF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PMingLiU"/>
              </a:rPr>
              <a:t>三成</a:t>
            </a:r>
            <a:r>
              <a:rPr b="1" lang="zh-TW" sz="3800" spc="-1" strike="noStrike">
                <a:solidFill>
                  <a:srgbClr val="000000"/>
                </a:solidFill>
                <a:latin typeface="PMingLiU"/>
              </a:rPr>
              <a:t>五</a:t>
            </a:r>
            <a:r>
              <a:rPr b="1" lang="zh-CN" sz="3800" spc="-1" strike="noStrike">
                <a:solidFill>
                  <a:srgbClr val="000000"/>
                </a:solidFill>
                <a:latin typeface="PMingLiU"/>
              </a:rPr>
              <a:t>受訪者擔心</a:t>
            </a:r>
            <a:br>
              <a:rPr sz="3800"/>
            </a:br>
            <a:r>
              <a:rPr b="1" lang="zh-CN" sz="3800" spc="-1" strike="noStrike">
                <a:solidFill>
                  <a:srgbClr val="cc0000"/>
                </a:solidFill>
                <a:latin typeface="PMingLiU"/>
              </a:rPr>
              <a:t>視力會不斷衰退</a:t>
            </a:r>
            <a:endParaRPr b="1" lang="en-US" sz="3800" spc="-1" strike="noStrike">
              <a:solidFill>
                <a:srgbClr val="cc0000"/>
              </a:solidFill>
              <a:latin typeface="PMingLiU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752480"/>
            <a:ext cx="7391520" cy="3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同意或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不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同意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以下句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20840" y="2209680"/>
            <a:ext cx="7808760" cy="4267440"/>
            <a:chOff x="420840" y="2209680"/>
            <a:chExt cx="7808760" cy="4267440"/>
          </a:xfrm>
        </p:grpSpPr>
        <p:graphicFrame>
          <p:nvGraphicFramePr>
            <p:cNvPr id="124" name=""/>
            <p:cNvGraphicFramePr/>
            <p:nvPr/>
          </p:nvGraphicFramePr>
          <p:xfrm>
            <a:off x="420840" y="2209680"/>
            <a:ext cx="7808760" cy="426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0840" y="2209680"/>
                      <a:ext cx="7808760" cy="426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3204360" y="281952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7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4360" y="350532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7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4360" y="419112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8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34240" y="480060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8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4240" y="5410080"/>
              <a:ext cx="11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（基數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：</a:t>
              </a:r>
              <a:r>
                <a:rPr b="0" lang="zh-CN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490</a:t>
              </a:r>
              <a:r>
                <a:rPr b="0" lang="en-US" sz="1400" spc="-1" strike="noStrike">
                  <a:solidFill>
                    <a:srgbClr val="000000"/>
                  </a:solidFill>
                  <a:latin typeface="PMingLiU"/>
                  <a:ea typeface="PMingLiU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E4EE-04B3-4299-B446-E34929C0A3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近四成受訪者不知道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視力昏花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代表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眼晴出現甚麼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問題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4640" y="2666880"/>
          <a:ext cx="8009280" cy="37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2666880"/>
                    <a:ext cx="8009280" cy="37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883480" y="641520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478 (</a:t>
            </a: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PMingLiU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911240"/>
            <a:ext cx="6019560" cy="3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覺得若眼鏡度數出現變化、閱讀時眼睛容易疲倦或需調整距離代表你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的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眼睛可能出現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什麽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題或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哪些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眼疾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6D4F-E0F6-478E-B3EB-2B554B1823E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六成</a:t>
            </a:r>
            <a:r>
              <a:rPr b="1" lang="zh-TW" sz="3600" spc="-1" strike="noStrike">
                <a:solidFill>
                  <a:srgbClr val="000000"/>
                </a:solidFill>
                <a:latin typeface="PMingLiU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</a:rPr>
              <a:t>受訪者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沒有因</a:t>
            </a:r>
            <a:r>
              <a:rPr b="1" lang="zh-TW" sz="3600" spc="-1" strike="noStrike">
                <a:solidFill>
                  <a:srgbClr val="cc0000"/>
                </a:solidFill>
                <a:latin typeface="PMingLiU"/>
              </a:rPr>
              <a:t>視力昏花</a:t>
            </a:r>
            <a:r>
              <a:rPr b="1" lang="zh-CN" sz="3600" spc="-1" strike="noStrike">
                <a:solidFill>
                  <a:srgbClr val="cc0000"/>
                </a:solidFill>
                <a:latin typeface="PMingLiU"/>
              </a:rPr>
              <a:t>而去求醫</a:t>
            </a:r>
            <a:endParaRPr b="1" lang="en-US" sz="3600" spc="-1" strike="noStrike">
              <a:solidFill>
                <a:srgbClr val="cc0000"/>
              </a:solidFill>
              <a:latin typeface="PMingLiU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2880" y="2511360"/>
          <a:ext cx="601848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511360"/>
                    <a:ext cx="60184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64524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PMingLiU"/>
                <a:ea typeface="PMingLiU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905120"/>
            <a:ext cx="670536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1e0">
                  <a:alpha val="4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你有</a:t>
            </a: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否</a:t>
            </a:r>
            <a:r>
              <a:rPr b="0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因為以上情況而去求醫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DBED-DB4A-48A6-83BF-05D2AF05A8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10:47:23Z</dcterms:created>
  <dc:creator>Grey Worldwide</dc:creator>
  <dc:description/>
  <dc:language>en-US</dc:language>
  <cp:lastModifiedBy>Alex Lin</cp:lastModifiedBy>
  <dcterms:modified xsi:type="dcterms:W3CDTF">2007-05-08T06:56:34Z</dcterms:modified>
  <cp:revision>1813</cp:revision>
  <dc:subject/>
  <dc:title>QoL Surv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16429259</vt:r8>
  </property>
  <property fmtid="{D5CDD505-2E9C-101B-9397-08002B2CF9AE}" pid="3" name="_AuthorEmail">
    <vt:lpwstr>lokman@hepfree.org</vt:lpwstr>
  </property>
  <property fmtid="{D5CDD505-2E9C-101B-9397-08002B2CF9AE}" pid="4" name="_AuthorEmailDisplayName">
    <vt:lpwstr>Lokman Wong</vt:lpwstr>
  </property>
  <property fmtid="{D5CDD505-2E9C-101B-9397-08002B2CF9AE}" pid="5" name="_EmailSubject">
    <vt:lpwstr>QoL PC - Status</vt:lpwstr>
  </property>
  <property fmtid="{D5CDD505-2E9C-101B-9397-08002B2CF9AE}" pid="6" name="_ReviewingToolsShownOnce">
    <vt:lpwstr/>
  </property>
</Properties>
</file>