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634-35E8-40A1-90D4-22488E9C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1BC-5227-48F5-B593-4B7EAE0C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D01-DCA8-45AA-BDA4-3D2E07DA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BD0-495B-4237-8880-B13BA579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396-279C-4C95-8A57-9170CCB7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FFB-9E0C-4222-AD76-FDC1EA3D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05D-86A6-436F-8552-EDF0D87E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C24-1D4E-475D-8D2C-903CB951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60E-9243-4A06-B047-5ABE65B4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EB2-EA7A-4810-AA38-1EF7744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BF5-838E-49CD-8B03-DAE4F96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323-A5E6-44B1-B534-64B3306E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3A29-EE0E-46DF-A22D-5B50359BFB99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IMPA Quality of Home Life Survey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5214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ffffff"/>
                </a:solidFill>
                <a:latin typeface="Times New Roman"/>
              </a:rPr>
              <a:t>The Public Opinion Programme, HKU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mographics of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pondents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ype of Hous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-723960" y="1289160"/>
          <a:ext cx="10625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23960" y="1289160"/>
                    <a:ext cx="1062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706800" y="1371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1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pproximate size of current hous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93720" y="1442880"/>
          <a:ext cx="810756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442880"/>
                    <a:ext cx="810756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866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35160"/>
          <a:ext cx="8359920" cy="56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5160"/>
                    <a:ext cx="835992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478200" y="1295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ge Grou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52400" y="1471680"/>
          <a:ext cx="7731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471680"/>
                    <a:ext cx="7731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783120" y="1371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73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ducation Attainment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1234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234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402240" y="16002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8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601640"/>
          <a:ext cx="9077400" cy="42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1640"/>
                    <a:ext cx="9077400" cy="42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554520" y="10666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93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tal statu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523880"/>
          <a:ext cx="87138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7138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02240" y="1447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umber of children (if married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30840" y="1295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341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447920"/>
          <a:ext cx="7764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6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nthly household incom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including year-end bonus and double pay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828800"/>
          <a:ext cx="816444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6444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88040" y="1447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2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ousehold siz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22240" y="1341360"/>
          <a:ext cx="753444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341360"/>
                    <a:ext cx="753444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3120" y="20574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4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9-17T04:40:35Z</dcterms:modified>
  <cp:revision>1039</cp:revision>
  <dc:subject/>
  <dc:title>無投影片標題</dc:title>
</cp:coreProperties>
</file>