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5FF0-28F2-42EA-9A21-285E5A35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E017-CCC4-4176-8D91-9B86C19C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005-952E-47AF-BE12-EA356272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103-6040-4DA0-9234-89A6D08E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33A0-9195-4E5D-97EE-D97C0458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E5B-ACED-4F1F-B2B0-E936AEE1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697-2D68-4456-AC09-0B0F4A23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A784-947A-41DE-AF42-96545102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A770-9F37-4852-A8D3-677E3D14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213-3D8A-4066-89ED-0C309F52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01CE-9668-40E7-A32A-2934D504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FA6-E656-435A-9513-930B9FC2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E292-8D48-4FB3-9B43-27878ED74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1600200"/>
          <a:ext cx="11430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1143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838080" y="32004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bile Phones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rs’ Self Perce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167652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香港大學民意研究計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The University of Hong K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Public Opinion 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248520" y="2133720"/>
          <a:ext cx="22860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133720"/>
                    <a:ext cx="2286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Prominent Reason for Changing the Last Mobile 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78000" y="1461960"/>
          <a:ext cx="8534160" cy="520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461960"/>
                    <a:ext cx="8534160" cy="52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Prominent Factor for Choosing the Latest Mobile 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80880" y="1523880"/>
          <a:ext cx="8534520" cy="506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534520" cy="50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ons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Characteristics and Mobile Phone U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22400" y="4495680"/>
            <a:ext cx="37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esented by Dr Ivy L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9907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action between Consumer’s Characteristics, Perception of their Mobile Phone, and Situational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3124080"/>
            <a:ext cx="5334120" cy="21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Foci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Phone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457200"/>
            <a:ext cx="815364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er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lf 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m I a sophisticated (high-class, charming) person? Is sophistication important to m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m I an exciting (spirited, exciting) person? Is being exciting important to m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2971800"/>
            <a:ext cx="82296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lf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observe and control behavior and self-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Control of expressive behavior (e.g., I would probably make a good actor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Propensity to perform in social situation and attract attention to oneself (e.g., In a group of people I am rarely the center of attention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Displaying what others expect one to display in social situations (e.g., I may deceive people by being friendly when I really dislike them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Does expressive behavior agree with internal attributes or situational cu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143000"/>
            <a:ext cx="815328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characteris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Sophisticat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Exci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962520"/>
            <a:ext cx="822960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tion characterist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Sophisticat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Exci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5936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characteris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651040"/>
            <a:ext cx="80769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er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lf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121932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phisticate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66.5 (15.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1217520"/>
            <a:ext cx="2057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62.1 (18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3657600"/>
            <a:ext cx="40384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71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m I a sophisticated person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63.8 (17.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Is sophistication important to m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64.0 (19.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3657600"/>
            <a:ext cx="3809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71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m I an exciting perso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63.1 (18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Is being exciting important to m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65.0 (20.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202680" cy="6899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202680" cy="6899400"/>
          </a:xfrm>
          <a:prstGeom prst="rect">
            <a:avLst/>
          </a:prstGeom>
          <a:solidFill>
            <a:srgbClr val="ccec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49040" y="58482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7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64920" y="55166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6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6400" y="58482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5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82280" y="55166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4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82320" y="58482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3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98200" y="55166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2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14080" y="58482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1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15560" y="55166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6160" y="58482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9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87640" y="55166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8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03520" y="58482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7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03560" y="55166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6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19440" y="58482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5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35320" y="55166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4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36800" y="58482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3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680" y="55166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2360" y="58482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25480" y="55166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15560" y="3128040"/>
            <a:ext cx="92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36080" y="763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36080" y="14112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36080" y="20606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54520" y="270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54520" y="3370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4520" y="4017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54520" y="4667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9800" y="5213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13000" y="893880"/>
            <a:ext cx="46080" cy="4535280"/>
          </a:xfrm>
          <a:custGeom>
            <a:avLst/>
            <a:gdLst/>
            <a:ahLst/>
            <a:rect l="l" t="t" r="r" b="b"/>
            <a:pathLst>
              <a:path w="29" h="2857">
                <a:moveTo>
                  <a:pt x="0" y="0"/>
                </a:moveTo>
                <a:lnTo>
                  <a:pt x="29" y="0"/>
                </a:lnTo>
                <a:moveTo>
                  <a:pt x="0" y="408"/>
                </a:moveTo>
                <a:lnTo>
                  <a:pt x="29" y="408"/>
                </a:lnTo>
                <a:moveTo>
                  <a:pt x="0" y="816"/>
                </a:moveTo>
                <a:lnTo>
                  <a:pt x="29" y="816"/>
                </a:lnTo>
                <a:moveTo>
                  <a:pt x="0" y="1224"/>
                </a:moveTo>
                <a:lnTo>
                  <a:pt x="29" y="1224"/>
                </a:lnTo>
                <a:moveTo>
                  <a:pt x="0" y="1633"/>
                </a:moveTo>
                <a:lnTo>
                  <a:pt x="29" y="1633"/>
                </a:lnTo>
                <a:moveTo>
                  <a:pt x="0" y="2041"/>
                </a:moveTo>
                <a:lnTo>
                  <a:pt x="29" y="2041"/>
                </a:lnTo>
                <a:moveTo>
                  <a:pt x="0" y="2449"/>
                </a:moveTo>
                <a:lnTo>
                  <a:pt x="29" y="2449"/>
                </a:lnTo>
                <a:moveTo>
                  <a:pt x="0" y="2857"/>
                </a:moveTo>
                <a:lnTo>
                  <a:pt x="29" y="2857"/>
                </a:lnTo>
              </a:path>
            </a:pathLst>
          </a:custGeom>
          <a:noFill/>
          <a:ln w="46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5415120"/>
            <a:ext cx="6635880" cy="72720"/>
          </a:xfrm>
          <a:custGeom>
            <a:avLst/>
            <a:gdLst/>
            <a:ahLst/>
            <a:rect l="l" t="t" r="r" b="b"/>
            <a:pathLst>
              <a:path w="4180" h="46">
                <a:moveTo>
                  <a:pt x="4180" y="0"/>
                </a:moveTo>
                <a:lnTo>
                  <a:pt x="4180" y="46"/>
                </a:lnTo>
                <a:moveTo>
                  <a:pt x="3938" y="0"/>
                </a:moveTo>
                <a:lnTo>
                  <a:pt x="3938" y="46"/>
                </a:lnTo>
                <a:moveTo>
                  <a:pt x="3696" y="0"/>
                </a:moveTo>
                <a:lnTo>
                  <a:pt x="3696" y="46"/>
                </a:lnTo>
                <a:moveTo>
                  <a:pt x="3445" y="0"/>
                </a:moveTo>
                <a:lnTo>
                  <a:pt x="3445" y="46"/>
                </a:lnTo>
                <a:moveTo>
                  <a:pt x="3203" y="0"/>
                </a:moveTo>
                <a:lnTo>
                  <a:pt x="3203" y="46"/>
                </a:lnTo>
                <a:moveTo>
                  <a:pt x="2951" y="0"/>
                </a:moveTo>
                <a:lnTo>
                  <a:pt x="2951" y="46"/>
                </a:lnTo>
                <a:moveTo>
                  <a:pt x="2709" y="0"/>
                </a:moveTo>
                <a:lnTo>
                  <a:pt x="2709" y="46"/>
                </a:lnTo>
                <a:moveTo>
                  <a:pt x="2458" y="0"/>
                </a:moveTo>
                <a:lnTo>
                  <a:pt x="2458" y="46"/>
                </a:lnTo>
                <a:moveTo>
                  <a:pt x="2216" y="0"/>
                </a:moveTo>
                <a:lnTo>
                  <a:pt x="2216" y="46"/>
                </a:lnTo>
                <a:moveTo>
                  <a:pt x="1964" y="0"/>
                </a:moveTo>
                <a:lnTo>
                  <a:pt x="1964" y="46"/>
                </a:lnTo>
                <a:moveTo>
                  <a:pt x="1722" y="0"/>
                </a:moveTo>
                <a:lnTo>
                  <a:pt x="1722" y="46"/>
                </a:lnTo>
                <a:moveTo>
                  <a:pt x="1471" y="0"/>
                </a:moveTo>
                <a:lnTo>
                  <a:pt x="1471" y="46"/>
                </a:lnTo>
                <a:moveTo>
                  <a:pt x="1229" y="0"/>
                </a:moveTo>
                <a:lnTo>
                  <a:pt x="1229" y="46"/>
                </a:lnTo>
                <a:moveTo>
                  <a:pt x="977" y="0"/>
                </a:moveTo>
                <a:lnTo>
                  <a:pt x="977" y="46"/>
                </a:lnTo>
                <a:moveTo>
                  <a:pt x="735" y="0"/>
                </a:moveTo>
                <a:lnTo>
                  <a:pt x="735" y="46"/>
                </a:lnTo>
                <a:moveTo>
                  <a:pt x="484" y="0"/>
                </a:moveTo>
                <a:lnTo>
                  <a:pt x="484" y="46"/>
                </a:lnTo>
                <a:moveTo>
                  <a:pt x="242" y="0"/>
                </a:moveTo>
                <a:lnTo>
                  <a:pt x="242" y="46"/>
                </a:lnTo>
                <a:moveTo>
                  <a:pt x="0" y="0"/>
                </a:moveTo>
                <a:lnTo>
                  <a:pt x="0" y="46"/>
                </a:lnTo>
              </a:path>
            </a:pathLst>
          </a:custGeom>
          <a:noFill/>
          <a:ln w="46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59080" y="893880"/>
            <a:ext cx="7375320" cy="4535280"/>
          </a:xfrm>
          <a:prstGeom prst="rect">
            <a:avLst/>
          </a:prstGeom>
          <a:solidFill>
            <a:srgbClr val="ccec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59080" y="893880"/>
            <a:ext cx="7375320" cy="4535280"/>
          </a:xfrm>
          <a:custGeom>
            <a:avLst/>
            <a:gdLst/>
            <a:ahLst/>
            <a:rect l="l" t="t" r="r" b="b"/>
            <a:pathLst>
              <a:path w="4646" h="2857">
                <a:moveTo>
                  <a:pt x="0" y="2857"/>
                </a:moveTo>
                <a:lnTo>
                  <a:pt x="4646" y="2857"/>
                </a:lnTo>
                <a:moveTo>
                  <a:pt x="4646" y="2857"/>
                </a:moveTo>
                <a:lnTo>
                  <a:pt x="4646" y="0"/>
                </a:lnTo>
                <a:moveTo>
                  <a:pt x="4646" y="0"/>
                </a:moveTo>
                <a:lnTo>
                  <a:pt x="0" y="0"/>
                </a:lnTo>
                <a:moveTo>
                  <a:pt x="0" y="0"/>
                </a:moveTo>
                <a:lnTo>
                  <a:pt x="0" y="28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96200" y="5400720"/>
            <a:ext cx="352440" cy="28440"/>
          </a:xfrm>
          <a:custGeom>
            <a:avLst/>
            <a:gdLst/>
            <a:ahLst/>
            <a:rect l="l" t="t" r="r" b="b"/>
            <a:pathLst>
              <a:path w="222" h="18">
                <a:moveTo>
                  <a:pt x="0" y="18"/>
                </a:moveTo>
                <a:lnTo>
                  <a:pt x="0" y="18"/>
                </a:lnTo>
                <a:lnTo>
                  <a:pt x="222" y="18"/>
                </a:lnTo>
                <a:lnTo>
                  <a:pt x="222" y="0"/>
                </a:lnTo>
                <a:lnTo>
                  <a:pt x="0" y="0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96240" y="5329080"/>
            <a:ext cx="368280" cy="100080"/>
          </a:xfrm>
          <a:custGeom>
            <a:avLst/>
            <a:gdLst/>
            <a:ahLst/>
            <a:rect l="l" t="t" r="r" b="b"/>
            <a:pathLst>
              <a:path w="232" h="63">
                <a:moveTo>
                  <a:pt x="0" y="63"/>
                </a:moveTo>
                <a:lnTo>
                  <a:pt x="0" y="63"/>
                </a:lnTo>
                <a:lnTo>
                  <a:pt x="232" y="63"/>
                </a:lnTo>
                <a:lnTo>
                  <a:pt x="232" y="0"/>
                </a:lnTo>
                <a:lnTo>
                  <a:pt x="0" y="0"/>
                </a:lnTo>
                <a:lnTo>
                  <a:pt x="0" y="63"/>
                </a:lnTo>
                <a:lnTo>
                  <a:pt x="0" y="6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12120" y="5357880"/>
            <a:ext cx="353880" cy="71280"/>
          </a:xfrm>
          <a:custGeom>
            <a:avLst/>
            <a:gdLst/>
            <a:ahLst/>
            <a:rect l="l" t="t" r="r" b="b"/>
            <a:pathLst>
              <a:path w="223" h="45">
                <a:moveTo>
                  <a:pt x="0" y="45"/>
                </a:moveTo>
                <a:lnTo>
                  <a:pt x="0" y="45"/>
                </a:lnTo>
                <a:lnTo>
                  <a:pt x="223" y="45"/>
                </a:lnTo>
                <a:lnTo>
                  <a:pt x="223" y="0"/>
                </a:lnTo>
                <a:lnTo>
                  <a:pt x="0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3600" y="5099040"/>
            <a:ext cx="368280" cy="330120"/>
          </a:xfrm>
          <a:custGeom>
            <a:avLst/>
            <a:gdLst/>
            <a:ahLst/>
            <a:rect l="l" t="t" r="r" b="b"/>
            <a:pathLst>
              <a:path w="232" h="208">
                <a:moveTo>
                  <a:pt x="0" y="208"/>
                </a:moveTo>
                <a:lnTo>
                  <a:pt x="0" y="208"/>
                </a:lnTo>
                <a:lnTo>
                  <a:pt x="232" y="208"/>
                </a:lnTo>
                <a:lnTo>
                  <a:pt x="232" y="0"/>
                </a:lnTo>
                <a:lnTo>
                  <a:pt x="0" y="0"/>
                </a:lnTo>
                <a:lnTo>
                  <a:pt x="0" y="208"/>
                </a:lnTo>
                <a:lnTo>
                  <a:pt x="0" y="20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29480" y="4651200"/>
            <a:ext cx="352440" cy="777960"/>
          </a:xfrm>
          <a:custGeom>
            <a:avLst/>
            <a:gdLst/>
            <a:ahLst/>
            <a:rect l="l" t="t" r="r" b="b"/>
            <a:pathLst>
              <a:path w="222" h="490">
                <a:moveTo>
                  <a:pt x="0" y="490"/>
                </a:moveTo>
                <a:lnTo>
                  <a:pt x="0" y="490"/>
                </a:lnTo>
                <a:lnTo>
                  <a:pt x="222" y="490"/>
                </a:lnTo>
                <a:lnTo>
                  <a:pt x="222" y="0"/>
                </a:lnTo>
                <a:lnTo>
                  <a:pt x="0" y="0"/>
                </a:lnTo>
                <a:lnTo>
                  <a:pt x="0" y="490"/>
                </a:lnTo>
                <a:lnTo>
                  <a:pt x="0" y="49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45360" y="4162320"/>
            <a:ext cx="352440" cy="1266840"/>
          </a:xfrm>
          <a:custGeom>
            <a:avLst/>
            <a:gdLst/>
            <a:ahLst/>
            <a:rect l="l" t="t" r="r" b="b"/>
            <a:pathLst>
              <a:path w="222" h="798">
                <a:moveTo>
                  <a:pt x="0" y="798"/>
                </a:moveTo>
                <a:lnTo>
                  <a:pt x="0" y="798"/>
                </a:lnTo>
                <a:lnTo>
                  <a:pt x="222" y="798"/>
                </a:lnTo>
                <a:lnTo>
                  <a:pt x="222" y="0"/>
                </a:lnTo>
                <a:lnTo>
                  <a:pt x="0" y="0"/>
                </a:lnTo>
                <a:lnTo>
                  <a:pt x="0" y="798"/>
                </a:lnTo>
                <a:lnTo>
                  <a:pt x="0" y="79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5040" y="3413160"/>
            <a:ext cx="354240" cy="2016000"/>
          </a:xfrm>
          <a:custGeom>
            <a:avLst/>
            <a:gdLst/>
            <a:ahLst/>
            <a:rect l="l" t="t" r="r" b="b"/>
            <a:pathLst>
              <a:path w="223" h="1270">
                <a:moveTo>
                  <a:pt x="0" y="1270"/>
                </a:moveTo>
                <a:lnTo>
                  <a:pt x="0" y="1270"/>
                </a:lnTo>
                <a:lnTo>
                  <a:pt x="223" y="1270"/>
                </a:lnTo>
                <a:lnTo>
                  <a:pt x="223" y="0"/>
                </a:lnTo>
                <a:lnTo>
                  <a:pt x="0" y="0"/>
                </a:lnTo>
                <a:lnTo>
                  <a:pt x="0" y="1270"/>
                </a:lnTo>
                <a:lnTo>
                  <a:pt x="0" y="127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0920" y="3067200"/>
            <a:ext cx="354240" cy="2361960"/>
          </a:xfrm>
          <a:custGeom>
            <a:avLst/>
            <a:gdLst/>
            <a:ahLst/>
            <a:rect l="l" t="t" r="r" b="b"/>
            <a:pathLst>
              <a:path w="223" h="1488">
                <a:moveTo>
                  <a:pt x="0" y="1488"/>
                </a:moveTo>
                <a:lnTo>
                  <a:pt x="0" y="1488"/>
                </a:lnTo>
                <a:lnTo>
                  <a:pt x="223" y="1488"/>
                </a:lnTo>
                <a:lnTo>
                  <a:pt x="223" y="0"/>
                </a:lnTo>
                <a:lnTo>
                  <a:pt x="0" y="0"/>
                </a:lnTo>
                <a:lnTo>
                  <a:pt x="0" y="1488"/>
                </a:lnTo>
                <a:lnTo>
                  <a:pt x="0" y="148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62400" y="2347920"/>
            <a:ext cx="352440" cy="3081240"/>
          </a:xfrm>
          <a:custGeom>
            <a:avLst/>
            <a:gdLst/>
            <a:ahLst/>
            <a:rect l="l" t="t" r="r" b="b"/>
            <a:pathLst>
              <a:path w="222" h="1941">
                <a:moveTo>
                  <a:pt x="0" y="1941"/>
                </a:moveTo>
                <a:lnTo>
                  <a:pt x="0" y="1941"/>
                </a:lnTo>
                <a:lnTo>
                  <a:pt x="222" y="1941"/>
                </a:lnTo>
                <a:lnTo>
                  <a:pt x="222" y="0"/>
                </a:lnTo>
                <a:lnTo>
                  <a:pt x="0" y="0"/>
                </a:lnTo>
                <a:lnTo>
                  <a:pt x="0" y="1941"/>
                </a:lnTo>
                <a:lnTo>
                  <a:pt x="0" y="1941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78280" y="2290680"/>
            <a:ext cx="352440" cy="3138480"/>
          </a:xfrm>
          <a:custGeom>
            <a:avLst/>
            <a:gdLst/>
            <a:ahLst/>
            <a:rect l="l" t="t" r="r" b="b"/>
            <a:pathLst>
              <a:path w="222" h="1977">
                <a:moveTo>
                  <a:pt x="0" y="1977"/>
                </a:moveTo>
                <a:lnTo>
                  <a:pt x="0" y="1977"/>
                </a:lnTo>
                <a:lnTo>
                  <a:pt x="222" y="1977"/>
                </a:lnTo>
                <a:lnTo>
                  <a:pt x="222" y="0"/>
                </a:lnTo>
                <a:lnTo>
                  <a:pt x="0" y="0"/>
                </a:lnTo>
                <a:lnTo>
                  <a:pt x="0" y="1977"/>
                </a:lnTo>
                <a:lnTo>
                  <a:pt x="0" y="1977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78320" y="1252440"/>
            <a:ext cx="353880" cy="4176720"/>
          </a:xfrm>
          <a:custGeom>
            <a:avLst/>
            <a:gdLst/>
            <a:ahLst/>
            <a:rect l="l" t="t" r="r" b="b"/>
            <a:pathLst>
              <a:path w="223" h="2631">
                <a:moveTo>
                  <a:pt x="0" y="2631"/>
                </a:moveTo>
                <a:lnTo>
                  <a:pt x="0" y="2631"/>
                </a:lnTo>
                <a:lnTo>
                  <a:pt x="223" y="2631"/>
                </a:lnTo>
                <a:lnTo>
                  <a:pt x="223" y="0"/>
                </a:lnTo>
                <a:lnTo>
                  <a:pt x="0" y="0"/>
                </a:lnTo>
                <a:lnTo>
                  <a:pt x="0" y="2631"/>
                </a:lnTo>
                <a:lnTo>
                  <a:pt x="0" y="2631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94200" y="1987560"/>
            <a:ext cx="353880" cy="3441600"/>
          </a:xfrm>
          <a:custGeom>
            <a:avLst/>
            <a:gdLst/>
            <a:ahLst/>
            <a:rect l="l" t="t" r="r" b="b"/>
            <a:pathLst>
              <a:path w="223" h="2168">
                <a:moveTo>
                  <a:pt x="0" y="2168"/>
                </a:moveTo>
                <a:lnTo>
                  <a:pt x="0" y="2168"/>
                </a:lnTo>
                <a:lnTo>
                  <a:pt x="223" y="2168"/>
                </a:lnTo>
                <a:lnTo>
                  <a:pt x="223" y="0"/>
                </a:lnTo>
                <a:lnTo>
                  <a:pt x="0" y="0"/>
                </a:lnTo>
                <a:lnTo>
                  <a:pt x="0" y="2168"/>
                </a:lnTo>
                <a:lnTo>
                  <a:pt x="0" y="216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95680" y="2030400"/>
            <a:ext cx="352440" cy="3398760"/>
          </a:xfrm>
          <a:custGeom>
            <a:avLst/>
            <a:gdLst/>
            <a:ahLst/>
            <a:rect l="l" t="t" r="r" b="b"/>
            <a:pathLst>
              <a:path w="222" h="2141">
                <a:moveTo>
                  <a:pt x="0" y="2141"/>
                </a:moveTo>
                <a:lnTo>
                  <a:pt x="0" y="2141"/>
                </a:lnTo>
                <a:lnTo>
                  <a:pt x="222" y="2141"/>
                </a:lnTo>
                <a:lnTo>
                  <a:pt x="222" y="0"/>
                </a:lnTo>
                <a:lnTo>
                  <a:pt x="0" y="0"/>
                </a:lnTo>
                <a:lnTo>
                  <a:pt x="0" y="2141"/>
                </a:lnTo>
                <a:lnTo>
                  <a:pt x="0" y="2141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11560" y="2736720"/>
            <a:ext cx="352440" cy="2692440"/>
          </a:xfrm>
          <a:custGeom>
            <a:avLst/>
            <a:gdLst/>
            <a:ahLst/>
            <a:rect l="l" t="t" r="r" b="b"/>
            <a:pathLst>
              <a:path w="222" h="1696">
                <a:moveTo>
                  <a:pt x="0" y="1696"/>
                </a:moveTo>
                <a:lnTo>
                  <a:pt x="0" y="1696"/>
                </a:lnTo>
                <a:lnTo>
                  <a:pt x="222" y="1696"/>
                </a:lnTo>
                <a:lnTo>
                  <a:pt x="222" y="0"/>
                </a:lnTo>
                <a:lnTo>
                  <a:pt x="0" y="0"/>
                </a:lnTo>
                <a:lnTo>
                  <a:pt x="0" y="1696"/>
                </a:lnTo>
                <a:lnTo>
                  <a:pt x="0" y="1696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1600" y="3514680"/>
            <a:ext cx="368280" cy="1914480"/>
          </a:xfrm>
          <a:custGeom>
            <a:avLst/>
            <a:gdLst/>
            <a:ahLst/>
            <a:rect l="l" t="t" r="r" b="b"/>
            <a:pathLst>
              <a:path w="232" h="1206">
                <a:moveTo>
                  <a:pt x="0" y="1206"/>
                </a:moveTo>
                <a:lnTo>
                  <a:pt x="0" y="1206"/>
                </a:lnTo>
                <a:lnTo>
                  <a:pt x="232" y="1206"/>
                </a:lnTo>
                <a:lnTo>
                  <a:pt x="232" y="0"/>
                </a:lnTo>
                <a:lnTo>
                  <a:pt x="0" y="0"/>
                </a:lnTo>
                <a:lnTo>
                  <a:pt x="0" y="1206"/>
                </a:lnTo>
                <a:lnTo>
                  <a:pt x="0" y="1206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27120" y="3932280"/>
            <a:ext cx="354240" cy="1496880"/>
          </a:xfrm>
          <a:custGeom>
            <a:avLst/>
            <a:gdLst/>
            <a:ahLst/>
            <a:rect l="l" t="t" r="r" b="b"/>
            <a:pathLst>
              <a:path w="223" h="943">
                <a:moveTo>
                  <a:pt x="0" y="943"/>
                </a:moveTo>
                <a:lnTo>
                  <a:pt x="0" y="943"/>
                </a:lnTo>
                <a:lnTo>
                  <a:pt x="223" y="943"/>
                </a:lnTo>
                <a:lnTo>
                  <a:pt x="223" y="0"/>
                </a:lnTo>
                <a:lnTo>
                  <a:pt x="0" y="0"/>
                </a:lnTo>
                <a:lnTo>
                  <a:pt x="0" y="943"/>
                </a:lnTo>
                <a:lnTo>
                  <a:pt x="0" y="94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27160" y="4622760"/>
            <a:ext cx="370080" cy="806400"/>
          </a:xfrm>
          <a:custGeom>
            <a:avLst/>
            <a:gdLst/>
            <a:ahLst/>
            <a:rect l="l" t="t" r="r" b="b"/>
            <a:pathLst>
              <a:path w="233" h="508">
                <a:moveTo>
                  <a:pt x="0" y="508"/>
                </a:moveTo>
                <a:lnTo>
                  <a:pt x="0" y="508"/>
                </a:lnTo>
                <a:lnTo>
                  <a:pt x="233" y="508"/>
                </a:lnTo>
                <a:lnTo>
                  <a:pt x="233" y="0"/>
                </a:lnTo>
                <a:lnTo>
                  <a:pt x="0" y="0"/>
                </a:lnTo>
                <a:lnTo>
                  <a:pt x="0" y="508"/>
                </a:lnTo>
                <a:lnTo>
                  <a:pt x="0" y="50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44480" y="5329080"/>
            <a:ext cx="352440" cy="100080"/>
          </a:xfrm>
          <a:custGeom>
            <a:avLst/>
            <a:gdLst/>
            <a:ahLst/>
            <a:rect l="l" t="t" r="r" b="b"/>
            <a:pathLst>
              <a:path w="222" h="63">
                <a:moveTo>
                  <a:pt x="0" y="63"/>
                </a:moveTo>
                <a:lnTo>
                  <a:pt x="0" y="63"/>
                </a:lnTo>
                <a:lnTo>
                  <a:pt x="222" y="63"/>
                </a:lnTo>
                <a:lnTo>
                  <a:pt x="222" y="0"/>
                </a:lnTo>
                <a:lnTo>
                  <a:pt x="0" y="0"/>
                </a:lnTo>
                <a:lnTo>
                  <a:pt x="0" y="63"/>
                </a:lnTo>
                <a:lnTo>
                  <a:pt x="0" y="6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459080" y="893880"/>
            <a:ext cx="1440" cy="453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59080" y="5429160"/>
            <a:ext cx="7375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3049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ion of Scores on the Self-monitoring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1676520"/>
            <a:ext cx="1905120" cy="6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verage : 7.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td erro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: 0.10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90920" y="609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ile phone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05740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ne sophist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Phone exc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4495680"/>
            <a:ext cx="42670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am sophisticat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ng sophisticated is importa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495680"/>
            <a:ext cx="37339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am excit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ng exciting is importa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666880" y="12949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333760" y="12949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057400" y="25905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429000" y="25142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715000" y="25905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086600" y="25142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9320" y="1600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monitoring scores are related 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2819520"/>
            <a:ext cx="67053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 – younger people tend to score hig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– males tend to score hig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 of mobile phone changed in the past 2 years – people who scored higher tend to have changed more ph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tline of 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 of this study - Dr R Ch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of mobile phone usage in Hong Kong - Dr R Ch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 between consumer characteristics and mobile phone usage - Dr I L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for after-market services - Dr R Ch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66680" y="990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 between Self-Concept and Self-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2666880"/>
            <a:ext cx="72392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between self-rating of sophistication and importance ratings   of sophistication is higher for low self-monitors than for high self-monito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between self-rating of excitement and importance ratings of excitement is higher for low self-monitors than for high self-moni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304920"/>
            <a:ext cx="5334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lf-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elf-monitors: scored top 25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self-monitors: scored bottom 25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2057400"/>
            <a:ext cx="79250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000000"/>
                </a:solidFill>
                <a:uFillTx/>
                <a:latin typeface="Arial"/>
              </a:rPr>
              <a:t>Self-concept schemat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ophistication/ Excitement schematics: giving above average sophistication/ excitement score and considered sophistication as having above average impor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ophistication/ Excitement aschematics: both self score and importance score below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4479840"/>
            <a:ext cx="75438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000000"/>
                </a:solidFill>
                <a:uFillTx/>
                <a:latin typeface="Arial"/>
              </a:rPr>
              <a:t>Phone schemat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ophistication/ Excitement schematic: giving above average sophistication/ excitement score to their mobile 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ophistication/ Excitement aschematic: giving below average sophistication/ excitement score to their mobile 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160164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concept is related to perception of mobile phon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2744640"/>
            <a:ext cx="77724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Sophistication schematics perceived their phone as more sophisticated than aschematics: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72.1 vs. 59.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327560"/>
            <a:ext cx="77724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Excitement schematics perceived their phone as more exciting than aschematic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67.4 vs. 56.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4400" y="1828800"/>
            <a:ext cx="6781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16016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monitoring is related to mobile phone s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274464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self-monitors were more likely to select their mobile phone because the “brand and model was the most popular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7621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Characteristics, Phone Characteristics,          &amp; Situational Characterist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2057400"/>
            <a:ext cx="769644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ophistication schematics were </a:t>
            </a:r>
            <a:r>
              <a:rPr b="1" lang="zh-TW" sz="2000" spc="-1" strike="noStrike" u="sng">
                <a:solidFill>
                  <a:srgbClr val="000000"/>
                </a:solidFill>
                <a:uFillTx/>
                <a:latin typeface="Arial"/>
              </a:rPr>
              <a:t>less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likely than aschematics to use their mobile phone in a sophisticated situ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n a sophisticated situation, high self-monitors were more likely than low self-monitors to use their mobile phone if they perceived their mobile phone to be sophistica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n an exciting situation, usage likelihood was related to usage satisfaction for low self-monitors but not for high self-moni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fter being made aware of the excitement dimension of a situation, high self-monitors looked for a future mobile phone that was more exciting than sophistica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23880" y="2133720"/>
            <a:ext cx="678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rehensive understanding of mobile phone preference  and usage require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-dimensional appro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includes an understanding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ile 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tional fa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mand for After-market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4480" y="4267080"/>
            <a:ext cx="47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esented by Dr Robert Ch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ing of the Old Mobile 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78000" y="1527120"/>
          <a:ext cx="8534160" cy="506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527120"/>
                    <a:ext cx="8534160" cy="50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ys to Tackle the Problem of Not Knowing How to Use Certain Functions of the Mobile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82760" y="1227240"/>
          <a:ext cx="8494560" cy="541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227240"/>
                    <a:ext cx="8494560" cy="54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of Services/Solutions Provided by Different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35080" y="1604880"/>
          <a:ext cx="8532720" cy="491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1604880"/>
                    <a:ext cx="853272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6553080" y="1295280"/>
            <a:ext cx="1752840" cy="60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erage : 7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d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.47</a:t>
            </a:r>
            <a:r>
              <a:rPr b="0" i="1" lang="en-US" sz="19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 of This Stu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academic study on the psychological dimension of mobile phone users in Hong K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sored by a leading mobile phone supp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ly designed by the HKU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s open for public con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of Services/Solutions Provided by Different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35080" y="1676520"/>
          <a:ext cx="853272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1676520"/>
                    <a:ext cx="85327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6553080" y="1295280"/>
            <a:ext cx="1752840" cy="86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erage : 72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d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.73</a:t>
            </a:r>
            <a:r>
              <a:rPr b="0" lang="en-US" sz="1900" spc="-1" strike="noStrike">
                <a:solidFill>
                  <a:srgbClr val="000000"/>
                </a:solidFill>
                <a:latin typeface="新細明體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ing of the Damaged Mobile 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82760" y="1357200"/>
          <a:ext cx="8494560" cy="512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357200"/>
                    <a:ext cx="8494560" cy="51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Repair Service Ever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8600" y="1676520"/>
          <a:ext cx="8586720" cy="498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86720" cy="49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553080" y="1447920"/>
            <a:ext cx="182880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erage : 67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d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.63</a:t>
            </a:r>
            <a:r>
              <a:rPr b="0" i="1" lang="en-US" sz="18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Repair Service Ever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1676520"/>
          <a:ext cx="8586720" cy="498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86720" cy="49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553080" y="1447920"/>
            <a:ext cx="182880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erage : 67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d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Awareness of After-Marke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52280" y="1828800"/>
          <a:ext cx="8664840" cy="47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866484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312840" y="1604880"/>
          <a:ext cx="865188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1604880"/>
                    <a:ext cx="86518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eived Importance of After-Market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red Aspects of After-Marke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65040" y="1565280"/>
          <a:ext cx="8585280" cy="487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1565280"/>
                    <a:ext cx="858528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7696080" y="4572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175248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細明體"/>
              </a:rPr>
              <a:t>END OF PRESEN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772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Surv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to 20 May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g Kong residents aged 18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ve who speak Canto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 survey with intervi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535 successfu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6.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1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ttern of Mobile Phone Usage in Hong K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1840" y="4191120"/>
            <a:ext cx="47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esented by Dr Robert Ch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 of Mobile Phone Used Most Frequ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04920" y="1422360"/>
          <a:ext cx="8673840" cy="488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22360"/>
                    <a:ext cx="867384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action with the Mobile Phon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Most Frequ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80880" y="1523880"/>
          <a:ext cx="8572680" cy="493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57268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324480" y="2133720"/>
            <a:ext cx="1905120" cy="60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erage : 7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d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.39</a:t>
            </a:r>
            <a:r>
              <a:rPr b="0" i="1" lang="en-US" sz="19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action with the Mobile Phon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Most Frequ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1523880"/>
          <a:ext cx="8572680" cy="493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57268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6324480" y="2133720"/>
            <a:ext cx="190512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erage : 74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d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.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of Mobile Phones Changed Over the Last 2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04920" y="1574640"/>
          <a:ext cx="8750160" cy="476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74640"/>
                    <a:ext cx="8750160" cy="47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6019920" y="2590920"/>
            <a:ext cx="1828800" cy="60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erage : 2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d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.48</a:t>
            </a:r>
            <a:r>
              <a:rPr b="0" i="1" lang="en-US" sz="19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cliff</cp:lastModifiedBy>
  <cp:lastPrinted>2001-07-24T10:51:50Z</cp:lastPrinted>
  <dcterms:modified xsi:type="dcterms:W3CDTF">2002-09-02T06:26:10Z</dcterms:modified>
  <cp:revision>271</cp:revision>
  <dc:subject/>
  <dc:title>無投影片標題</dc:title>
</cp:coreProperties>
</file>