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C809-2552-4184-865B-8F127B098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2FB8-ED72-433F-ACE1-3A78BAAC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144D-7AC9-49C0-BCAA-2594C393C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047A-E672-4F6C-A281-63DDDD230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5A18-1DDD-4E13-BBEA-9BA793C6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DA57-24D1-418F-98E0-01F62F80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BBB5-8E5B-4E22-8D57-92E4AD34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9988-D5D6-4463-9C7B-284129FB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F37B-0600-421C-9B7E-1173FA78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2481-A45C-4D4B-BAD3-B36653D7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FD31-E796-4C96-B008-058918E6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D495-97B6-4446-A94E-54C8F625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57ED-6BFF-412D-AC17-D3ABAF523CC0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819520"/>
            <a:ext cx="7238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IT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檔案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III  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之</a:t>
            </a:r>
            <a:br>
              <a:rPr sz="3200"/>
            </a:br>
            <a:br>
              <a:rPr sz="800"/>
            </a:b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香港中小企與內地商貿電子化意見調查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8380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 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Arial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Arial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295280" y="685800"/>
          <a:ext cx="139068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685800"/>
                    <a:ext cx="13906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5181480" y="5029200"/>
            <a:ext cx="2819520" cy="7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新細明體"/>
              </a:rPr>
              <a:t>鍾庭耀博士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2003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年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月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26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4952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Times New Roman"/>
              </a:rPr>
              <a:t>結果簡報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2590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343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52280" y="1778040"/>
          <a:ext cx="8610840" cy="48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78040"/>
                    <a:ext cx="861084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304920" y="2286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中港兩地於商業應用上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運用資訊科技的成熟程度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447920" y="2209680"/>
          <a:ext cx="2286000" cy="1096920"/>
        </p:xfrm>
        <a:graphic>
          <a:graphicData uri="http://schemas.openxmlformats.org/drawingml/2006/table">
            <a:tbl>
              <a:tblPr/>
              <a:tblGrid>
                <a:gridCol w="941400"/>
                <a:gridCol w="645840"/>
                <a:gridCol w="698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香港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內地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平均數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0.2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5.0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標準誤差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78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.86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solidFill>
                      <a:srgbClr val="0000cc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83808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05320" y="1295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99"/>
                </a:solidFill>
                <a:latin typeface="新細明體"/>
              </a:rPr>
              <a:t>（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基數 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= 503</a:t>
            </a:r>
            <a:r>
              <a:rPr b="1" lang="zh-TW" sz="1800" spc="-1" strike="noStrike">
                <a:solidFill>
                  <a:srgbClr val="ffff99"/>
                </a:solidFill>
                <a:latin typeface="新細明體"/>
              </a:rPr>
              <a:t>）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380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現階段於營商方面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較內地優勝之處（除資訊科技外）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09480" y="1371600"/>
          <a:ext cx="8001000" cy="4948200"/>
        </p:xfrm>
        <a:graphic>
          <a:graphicData uri="http://schemas.openxmlformats.org/drawingml/2006/table">
            <a:tbl>
              <a:tblPr/>
              <a:tblGrid>
                <a:gridCol w="4038840"/>
                <a:gridCol w="685800"/>
                <a:gridCol w="1752480"/>
                <a:gridCol w="1523880"/>
              </a:tblGrid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頻數 </a:t>
                      </a:r>
                      <a:endParaRPr b="0" lang="en-US" sz="15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佔答案總數百分比</a:t>
                      </a:r>
                      <a:endParaRPr b="0" lang="en-US" sz="15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（基數</a:t>
                      </a: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=542</a:t>
                      </a: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） </a:t>
                      </a:r>
                      <a:endParaRPr b="0" lang="en-US" sz="15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佔總樣本百分比</a:t>
                      </a:r>
                      <a:endParaRPr b="0" lang="en-US" sz="15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（基數</a:t>
                      </a: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=503</a:t>
                      </a: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） </a:t>
                      </a:r>
                      <a:endParaRPr b="0" lang="en-US" sz="15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開放貿易政策╱自由市場</a:t>
                      </a:r>
                      <a:endParaRPr b="0" lang="en-US" sz="15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3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7.2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8.5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大量管理人材</a:t>
                      </a:r>
                      <a:endParaRPr b="0" lang="en-US" sz="15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7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6.1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7.3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營商、會計同法律方面係國際上都享有兼容性</a:t>
                      </a:r>
                      <a:endParaRPr b="0" lang="en-US" sz="15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9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.2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.8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香港人生產力高╱效率高╱有責任感╱勤力</a:t>
                      </a:r>
                      <a:endParaRPr b="0" lang="en-US" sz="15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9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.2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.8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資訊發達、通訊方便</a:t>
                      </a:r>
                      <a:endParaRPr b="0" lang="en-US" sz="15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.6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.2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香港人英語水平高</a:t>
                      </a:r>
                      <a:endParaRPr b="0" lang="en-US" sz="15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.6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0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處於亞太區既有利位置</a:t>
                      </a:r>
                      <a:endParaRPr b="0" lang="en-US" sz="15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.9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.2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營商經驗豐富、信譽良好</a:t>
                      </a:r>
                      <a:endParaRPr b="0" lang="en-US" sz="15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.3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.6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銀行╱金融體制完善</a:t>
                      </a:r>
                      <a:endParaRPr b="0" lang="en-US" sz="15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.0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.2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其他 </a:t>
                      </a:r>
                      <a:endParaRPr b="0" lang="en-US" sz="15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1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.6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.2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沒有優勢 </a:t>
                      </a:r>
                      <a:endParaRPr b="0" lang="en-US" sz="15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5.7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6.9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唔知╱難講 </a:t>
                      </a:r>
                      <a:endParaRPr b="0" lang="en-US" sz="15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.7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.3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合計 </a:t>
                      </a:r>
                      <a:endParaRPr b="0" lang="en-US" sz="15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42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.0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22860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香港保持其區內競爭力的最重要因素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04720" y="1833480"/>
          <a:ext cx="8067960" cy="451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1833480"/>
                    <a:ext cx="8067960" cy="45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990720" y="14479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1066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99"/>
                </a:solidFill>
                <a:latin typeface="新細明體"/>
              </a:rPr>
              <a:t>（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基數 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= 503</a:t>
            </a:r>
            <a:r>
              <a:rPr b="1" lang="zh-TW" sz="1800" spc="-1" strike="noStrike">
                <a:solidFill>
                  <a:srgbClr val="ffff99"/>
                </a:solidFill>
                <a:latin typeface="新細明體"/>
              </a:rPr>
              <a:t>）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144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</a:rPr>
              <a:t>小結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1905120"/>
            <a:ext cx="69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就資訊科技於商業應用的成熟程度方面，香港得分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70.2 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，內地得分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55.0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，兩地相差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15.2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分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在沒有提示下，企業認為香港的優勢主要是「開放貿易政策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╱自由市場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」（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19%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）及「大量管理人材 」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(17%)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；不過，亦有六分一（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17%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）表示香港並無優勝之處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分別有三成四（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34%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）及三成一（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31%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）企業認為「獨立、可靠的法律制度 」及「國際化營商環境 」對香港保持其區內競爭力最為重要 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1219320" cy="3962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83808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2133720"/>
            <a:ext cx="7696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99"/>
                </a:solidFill>
                <a:latin typeface="Times New Roman"/>
                <a:ea typeface="細明體"/>
              </a:rPr>
              <a:t>報告完畢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99"/>
                </a:solidFill>
                <a:latin typeface="Times New Roman"/>
                <a:ea typeface="細明體"/>
              </a:rPr>
              <a:t>謝謝 </a:t>
            </a:r>
            <a:r>
              <a:rPr b="1" lang="zh-TW" sz="5400" spc="-1" strike="noStrike">
                <a:solidFill>
                  <a:srgbClr val="ffff99"/>
                </a:solidFill>
                <a:latin typeface="Times New Roman"/>
                <a:ea typeface="細明體"/>
              </a:rPr>
              <a:t>!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1905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4572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19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99"/>
                </a:solidFill>
                <a:latin typeface="Times New Roman"/>
              </a:rPr>
              <a:t>樣本資料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1752480"/>
            <a:ext cx="7086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訪問日期：  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2003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年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1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月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30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日 至 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2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月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7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日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訪問對象：  與內地有業務往來的本地中小型企業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                    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（中小企業定義：本地員工人數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50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人以下的公司，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       製造業公司則為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100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人以下）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調查方法：  由訪問員直接進行電話訪問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樣本數目：  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503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個成功個案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回應比率：  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86.8% 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（以目標訪問對象計算）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抽樣誤差：  少於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2.2%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5238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管理內部運作 </a:t>
            </a: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(</a:t>
            </a: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人事、會計等</a:t>
            </a: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) </a:t>
            </a: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的方法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38080" y="1981080"/>
          <a:ext cx="7848720" cy="434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7848720" cy="434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838080" y="16002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1219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99"/>
                </a:solidFill>
                <a:latin typeface="新細明體"/>
              </a:rPr>
              <a:t>（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基數 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= 503</a:t>
            </a:r>
            <a:r>
              <a:rPr b="1" lang="zh-TW" sz="1800" spc="-1" strike="noStrike">
                <a:solidFill>
                  <a:srgbClr val="ffff99"/>
                </a:solidFill>
                <a:latin typeface="新細明體"/>
              </a:rPr>
              <a:t>）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-685800" y="1371600"/>
          <a:ext cx="91440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85800" y="1371600"/>
                    <a:ext cx="91440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8380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使用「電子銀行服務」或「電子報關」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管理公司營運資金的情況</a:t>
            </a: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562720" y="5105520"/>
          <a:ext cx="2971440" cy="1033200"/>
        </p:xfrm>
        <a:graphic>
          <a:graphicData uri="http://schemas.openxmlformats.org/drawingml/2006/table">
            <a:tbl>
              <a:tblPr/>
              <a:tblGrid>
                <a:gridCol w="1845360"/>
                <a:gridCol w="1126080"/>
              </a:tblGrid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有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7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無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7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唔知╱唔清楚 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838080" y="17524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1371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99"/>
                </a:solidFill>
                <a:latin typeface="新細明體"/>
              </a:rPr>
              <a:t>（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基數 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= 503</a:t>
            </a:r>
            <a:r>
              <a:rPr b="1" lang="zh-TW" sz="1800" spc="-1" strike="noStrike">
                <a:solidFill>
                  <a:srgbClr val="ffff99"/>
                </a:solidFill>
                <a:latin typeface="新細明體"/>
              </a:rPr>
              <a:t>）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3808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運用資訊科技於業務拓展及市場推廣方面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19040" y="1212840"/>
          <a:ext cx="8210520" cy="603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1212840"/>
                    <a:ext cx="8210520" cy="60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5105520" y="5181480"/>
          <a:ext cx="3352680" cy="1028880"/>
        </p:xfrm>
        <a:graphic>
          <a:graphicData uri="http://schemas.openxmlformats.org/drawingml/2006/table">
            <a:tbl>
              <a:tblPr/>
              <a:tblGrid>
                <a:gridCol w="1805040"/>
                <a:gridCol w="15476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有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0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無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8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唔知╱唔清楚 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838080" y="13716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990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99"/>
                </a:solidFill>
                <a:latin typeface="新細明體"/>
              </a:rPr>
              <a:t>（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基數 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= 503</a:t>
            </a:r>
            <a:r>
              <a:rPr b="1" lang="zh-TW" sz="1800" spc="-1" strike="noStrike">
                <a:solidFill>
                  <a:srgbClr val="ffff99"/>
                </a:solidFill>
                <a:latin typeface="新細明體"/>
              </a:rPr>
              <a:t>）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533520" y="1285920"/>
          <a:ext cx="8001000" cy="55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85920"/>
                    <a:ext cx="8001000" cy="55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運用資訊科技於客戶接觸方面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343400" y="5105520"/>
          <a:ext cx="3962160" cy="1033200"/>
        </p:xfrm>
        <a:graphic>
          <a:graphicData uri="http://schemas.openxmlformats.org/drawingml/2006/table">
            <a:tbl>
              <a:tblPr/>
              <a:tblGrid>
                <a:gridCol w="2460240"/>
                <a:gridCol w="1501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有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2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無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7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唔知╱唔清楚 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762120" y="14479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81280" y="1066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99"/>
                </a:solidFill>
                <a:latin typeface="新細明體"/>
              </a:rPr>
              <a:t>（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基數 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= 503</a:t>
            </a:r>
            <a:r>
              <a:rPr b="1" lang="zh-TW" sz="1800" spc="-1" strike="noStrike">
                <a:solidFill>
                  <a:srgbClr val="ffff99"/>
                </a:solidFill>
                <a:latin typeface="新細明體"/>
              </a:rPr>
              <a:t>）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處理中港兩地業務的主要溝通模式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85800" y="1828800"/>
          <a:ext cx="7870680" cy="463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870680" cy="463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762120" y="14479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81280" y="1066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99"/>
                </a:solidFill>
                <a:latin typeface="新細明體"/>
              </a:rPr>
              <a:t>（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基數 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= 503</a:t>
            </a:r>
            <a:r>
              <a:rPr b="1" lang="zh-TW" sz="1800" spc="-1" strike="noStrike">
                <a:solidFill>
                  <a:srgbClr val="ffff99"/>
                </a:solidFill>
                <a:latin typeface="新細明體"/>
              </a:rPr>
              <a:t>）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中港兩地業務以電腦聯線的情況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（不包括 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170 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間表示沒有於內地設廠或辦公室的企業）</a:t>
            </a: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85800" y="2209680"/>
          <a:ext cx="7870680" cy="411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870680" cy="41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762120" y="18288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1447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99"/>
                </a:solidFill>
                <a:latin typeface="新細明體"/>
              </a:rPr>
              <a:t>（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基數 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= 333</a:t>
            </a:r>
            <a:r>
              <a:rPr b="1" lang="zh-TW" sz="1800" spc="-1" strike="noStrike">
                <a:solidFill>
                  <a:srgbClr val="ffff99"/>
                </a:solidFill>
                <a:latin typeface="新細明體"/>
              </a:rPr>
              <a:t>）</a:t>
            </a:r>
            <a:r>
              <a:rPr b="1" lang="zh-TW" sz="1800" spc="-1" strike="noStrike">
                <a:solidFill>
                  <a:srgbClr val="ffff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144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</a:rPr>
              <a:t>小結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1981080"/>
            <a:ext cx="6858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超過五成半（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57%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）企業以電腦管理內部運作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五成七（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57%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）有採用「電子銀行服務」或「電子報關」管理公司的營運資金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八成（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80%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）有運用資訊科技處理業務拓展及市場推廣工作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逾七成（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72%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）有運用資訊科技處理客戶接觸事宜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企業處理中港兩地業務的溝通模式主要為電話（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51%)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，其次為電腦（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30%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）及傳真（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11%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）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超過三成（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31%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</a:rPr>
              <a:t>）有設廠或辦公室於內地的企業表示其中港兩地業務已透過電腦聯線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1219320" cy="3962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3808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cliff</cp:lastModifiedBy>
  <cp:lastPrinted>2001-04-04T10:00:24Z</cp:lastPrinted>
  <dcterms:modified xsi:type="dcterms:W3CDTF">2003-02-26T03:26:19Z</dcterms:modified>
  <cp:revision>760</cp:revision>
  <dc:subject/>
  <dc:title>無投影片標題</dc:title>
</cp:coreProperties>
</file>