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media/image13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448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580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448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580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448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5800" y="190476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448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5800" y="417348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080" y="417348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904760"/>
            <a:ext cx="3941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173480"/>
            <a:ext cx="807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80880"/>
            <a:ext cx="4572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經濟低</a:t>
            </a:r>
            <a:r>
              <a:rPr b="1" lang="zh-TW" sz="3000" spc="-1" strike="noStrike">
                <a:solidFill>
                  <a:srgbClr val="ffffff"/>
                </a:solidFill>
                <a:latin typeface="PMingLiU"/>
                <a:ea typeface="PMingLiU"/>
              </a:rPr>
              <a:t>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45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66"/>
                </a:solidFill>
                <a:latin typeface="PMingLiU"/>
                <a:ea typeface="PMingLiU"/>
              </a:rPr>
              <a:t>沙士疫情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29200"/>
            <a:ext cx="9144000" cy="1851480"/>
          </a:xfrm>
          <a:prstGeom prst="rect">
            <a:avLst/>
          </a:prstGeom>
          <a:solidFill>
            <a:srgbClr val="d9f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人口統計資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43000"/>
            <a:ext cx="901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白領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"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為兩餐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" 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飲食研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33000" y="1905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PMingLiU"/>
                <a:ea typeface="PMingLiU"/>
              </a:rPr>
              <a:t>意見調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2666880"/>
            <a:ext cx="9144000" cy="2362320"/>
            <a:chOff x="0" y="2666880"/>
            <a:chExt cx="9144000" cy="2362320"/>
          </a:xfrm>
        </p:grpSpPr>
        <p:sp>
          <p:nvSpPr>
            <p:cNvPr id="82" name=""/>
            <p:cNvSpPr/>
            <p:nvPr/>
          </p:nvSpPr>
          <p:spPr>
            <a:xfrm>
              <a:off x="0" y="2666880"/>
              <a:ext cx="9144000" cy="236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76320" y="2743200"/>
              <a:ext cx="4799880" cy="76320"/>
              <a:chOff x="76320" y="2743200"/>
              <a:chExt cx="4799880" cy="763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2514600" y="2743200"/>
                <a:ext cx="2361600" cy="76320"/>
                <a:chOff x="2514600" y="2743200"/>
                <a:chExt cx="2361600" cy="76320"/>
              </a:xfrm>
            </p:grpSpPr>
            <p:grpSp>
              <p:nvGrpSpPr>
                <p:cNvPr id="85" name=""/>
                <p:cNvGrpSpPr/>
                <p:nvPr/>
              </p:nvGrpSpPr>
              <p:grpSpPr>
                <a:xfrm>
                  <a:off x="2514600" y="2743200"/>
                  <a:ext cx="1142640" cy="76320"/>
                  <a:chOff x="2514600" y="2743200"/>
                  <a:chExt cx="1142640" cy="7632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2514600" y="2743200"/>
                    <a:ext cx="533160" cy="76320"/>
                    <a:chOff x="2514600" y="2743200"/>
                    <a:chExt cx="533160" cy="763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2514600" y="2743200"/>
                      <a:ext cx="228600" cy="76320"/>
                      <a:chOff x="2514600" y="2743200"/>
                      <a:chExt cx="228600" cy="7632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251460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266688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2819160" y="2743200"/>
                      <a:ext cx="228600" cy="76320"/>
                      <a:chOff x="2819160" y="2743200"/>
                      <a:chExt cx="228600" cy="7632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8191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29714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3" name=""/>
                  <p:cNvGrpSpPr/>
                  <p:nvPr/>
                </p:nvGrpSpPr>
                <p:grpSpPr>
                  <a:xfrm>
                    <a:off x="3124080" y="2743200"/>
                    <a:ext cx="533160" cy="76320"/>
                    <a:chOff x="3124080" y="2743200"/>
                    <a:chExt cx="533160" cy="76320"/>
                  </a:xfrm>
                </p:grpSpPr>
                <p:grpSp>
                  <p:nvGrpSpPr>
                    <p:cNvPr id="94" name=""/>
                    <p:cNvGrpSpPr/>
                    <p:nvPr/>
                  </p:nvGrpSpPr>
                  <p:grpSpPr>
                    <a:xfrm>
                      <a:off x="3124080" y="2743200"/>
                      <a:ext cx="228600" cy="76320"/>
                      <a:chOff x="3124080" y="2743200"/>
                      <a:chExt cx="228600" cy="76320"/>
                    </a:xfrm>
                  </p:grpSpPr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31240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32763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" name=""/>
                    <p:cNvGrpSpPr/>
                    <p:nvPr/>
                  </p:nvGrpSpPr>
                  <p:grpSpPr>
                    <a:xfrm>
                      <a:off x="3428640" y="2743200"/>
                      <a:ext cx="228600" cy="76320"/>
                      <a:chOff x="3428640" y="2743200"/>
                      <a:chExt cx="228600" cy="76320"/>
                    </a:xfrm>
                  </p:grpSpPr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34286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35809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3733560" y="2743200"/>
                  <a:ext cx="1142640" cy="76320"/>
                  <a:chOff x="3733560" y="2743200"/>
                  <a:chExt cx="1142640" cy="7632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3733560" y="2743200"/>
                    <a:ext cx="533160" cy="76320"/>
                    <a:chOff x="3733560" y="2743200"/>
                    <a:chExt cx="533160" cy="76320"/>
                  </a:xfrm>
                </p:grpSpPr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3733560" y="2743200"/>
                      <a:ext cx="228600" cy="76320"/>
                      <a:chOff x="3733560" y="2743200"/>
                      <a:chExt cx="228600" cy="7632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37335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38858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4038120" y="2743200"/>
                      <a:ext cx="228600" cy="76320"/>
                      <a:chOff x="4038120" y="2743200"/>
                      <a:chExt cx="228600" cy="76320"/>
                    </a:xfrm>
                  </p:grpSpPr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40381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41904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4343040" y="2743200"/>
                    <a:ext cx="533160" cy="76320"/>
                    <a:chOff x="4343040" y="2743200"/>
                    <a:chExt cx="533160" cy="76320"/>
                  </a:xfrm>
                </p:grpSpPr>
                <p:grpSp>
                  <p:nvGrpSpPr>
                    <p:cNvPr id="109" name=""/>
                    <p:cNvGrpSpPr/>
                    <p:nvPr/>
                  </p:nvGrpSpPr>
                  <p:grpSpPr>
                    <a:xfrm>
                      <a:off x="4343040" y="2743200"/>
                      <a:ext cx="228600" cy="76320"/>
                      <a:chOff x="4343040" y="2743200"/>
                      <a:chExt cx="228600" cy="76320"/>
                    </a:xfrm>
                  </p:grpSpPr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43430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44953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4647600" y="2743200"/>
                      <a:ext cx="228600" cy="76320"/>
                      <a:chOff x="4647600" y="2743200"/>
                      <a:chExt cx="228600" cy="7632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64760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479988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76320" y="2743200"/>
                <a:ext cx="2361600" cy="76320"/>
                <a:chOff x="76320" y="2743200"/>
                <a:chExt cx="2361600" cy="763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76320" y="2743200"/>
                  <a:ext cx="1142640" cy="76320"/>
                  <a:chOff x="76320" y="2743200"/>
                  <a:chExt cx="1142640" cy="7632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76320" y="2743200"/>
                    <a:ext cx="533160" cy="76320"/>
                    <a:chOff x="76320" y="2743200"/>
                    <a:chExt cx="533160" cy="76320"/>
                  </a:xfrm>
                </p:grpSpPr>
                <p:grpSp>
                  <p:nvGrpSpPr>
                    <p:cNvPr id="118" name=""/>
                    <p:cNvGrpSpPr/>
                    <p:nvPr/>
                  </p:nvGrpSpPr>
                  <p:grpSpPr>
                    <a:xfrm>
                      <a:off x="76320" y="2743200"/>
                      <a:ext cx="228600" cy="76320"/>
                      <a:chOff x="76320" y="2743200"/>
                      <a:chExt cx="228600" cy="76320"/>
                    </a:xfrm>
                  </p:grpSpPr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763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2286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" name=""/>
                    <p:cNvGrpSpPr/>
                    <p:nvPr/>
                  </p:nvGrpSpPr>
                  <p:grpSpPr>
                    <a:xfrm>
                      <a:off x="380880" y="2743200"/>
                      <a:ext cx="228600" cy="76320"/>
                      <a:chOff x="380880" y="2743200"/>
                      <a:chExt cx="228600" cy="76320"/>
                    </a:xfrm>
                  </p:grpSpPr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808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5331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685800" y="2743200"/>
                    <a:ext cx="533160" cy="76320"/>
                    <a:chOff x="685800" y="2743200"/>
                    <a:chExt cx="533160" cy="76320"/>
                  </a:xfrm>
                </p:grpSpPr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685800" y="2743200"/>
                      <a:ext cx="228600" cy="76320"/>
                      <a:chOff x="685800" y="2743200"/>
                      <a:chExt cx="228600" cy="7632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68580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83808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990360" y="2743200"/>
                      <a:ext cx="228600" cy="76320"/>
                      <a:chOff x="990360" y="2743200"/>
                      <a:chExt cx="228600" cy="76320"/>
                    </a:xfrm>
                  </p:grpSpPr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9903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1426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295280" y="2743200"/>
                  <a:ext cx="1142640" cy="76320"/>
                  <a:chOff x="1295280" y="2743200"/>
                  <a:chExt cx="1142640" cy="76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295280" y="2743200"/>
                    <a:ext cx="533160" cy="76320"/>
                    <a:chOff x="1295280" y="2743200"/>
                    <a:chExt cx="533160" cy="76320"/>
                  </a:xfrm>
                </p:grpSpPr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1295280" y="2743200"/>
                      <a:ext cx="228600" cy="76320"/>
                      <a:chOff x="1295280" y="2743200"/>
                      <a:chExt cx="228600" cy="76320"/>
                    </a:xfrm>
                  </p:grpSpPr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12952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14475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" name=""/>
                    <p:cNvGrpSpPr/>
                    <p:nvPr/>
                  </p:nvGrpSpPr>
                  <p:grpSpPr>
                    <a:xfrm>
                      <a:off x="1599840" y="2743200"/>
                      <a:ext cx="228600" cy="76320"/>
                      <a:chOff x="1599840" y="2743200"/>
                      <a:chExt cx="228600" cy="76320"/>
                    </a:xfrm>
                  </p:grpSpPr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15998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17521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904760" y="2743200"/>
                    <a:ext cx="533160" cy="76320"/>
                    <a:chOff x="1904760" y="2743200"/>
                    <a:chExt cx="533160" cy="76320"/>
                  </a:xfrm>
                </p:grpSpPr>
                <p:grpSp>
                  <p:nvGrpSpPr>
                    <p:cNvPr id="140" name=""/>
                    <p:cNvGrpSpPr/>
                    <p:nvPr/>
                  </p:nvGrpSpPr>
                  <p:grpSpPr>
                    <a:xfrm>
                      <a:off x="1904760" y="2743200"/>
                      <a:ext cx="228600" cy="76320"/>
                      <a:chOff x="1904760" y="2743200"/>
                      <a:chExt cx="228600" cy="76320"/>
                    </a:xfrm>
                  </p:grpSpPr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9047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0570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3" name=""/>
                    <p:cNvGrpSpPr/>
                    <p:nvPr/>
                  </p:nvGrpSpPr>
                  <p:grpSpPr>
                    <a:xfrm>
                      <a:off x="2209320" y="2743200"/>
                      <a:ext cx="228600" cy="76320"/>
                      <a:chOff x="2209320" y="2743200"/>
                      <a:chExt cx="228600" cy="76320"/>
                    </a:xfrm>
                  </p:grpSpPr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22093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23616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46" name=""/>
            <p:cNvGrpSpPr/>
            <p:nvPr/>
          </p:nvGrpSpPr>
          <p:grpSpPr>
            <a:xfrm>
              <a:off x="6781680" y="2743200"/>
              <a:ext cx="2361600" cy="76320"/>
              <a:chOff x="6781680" y="2743200"/>
              <a:chExt cx="2361600" cy="763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781680" y="2743200"/>
                <a:ext cx="1142640" cy="76320"/>
                <a:chOff x="6781680" y="2743200"/>
                <a:chExt cx="1142640" cy="7632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6781680" y="2743200"/>
                  <a:ext cx="533160" cy="76320"/>
                  <a:chOff x="6781680" y="2743200"/>
                  <a:chExt cx="533160" cy="763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781680" y="2743200"/>
                    <a:ext cx="228600" cy="76320"/>
                    <a:chOff x="6781680" y="2743200"/>
                    <a:chExt cx="228600" cy="7632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78168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3396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7086240" y="2743200"/>
                    <a:ext cx="228600" cy="76320"/>
                    <a:chOff x="7086240" y="2743200"/>
                    <a:chExt cx="228600" cy="7632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08624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23852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391160" y="2743200"/>
                  <a:ext cx="533160" cy="76320"/>
                  <a:chOff x="7391160" y="2743200"/>
                  <a:chExt cx="533160" cy="7632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391160" y="2743200"/>
                    <a:ext cx="228600" cy="76320"/>
                    <a:chOff x="7391160" y="2743200"/>
                    <a:chExt cx="228600" cy="763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39116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54344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695720" y="2743200"/>
                    <a:ext cx="228600" cy="76320"/>
                    <a:chOff x="7695720" y="2743200"/>
                    <a:chExt cx="228600" cy="7632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69572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84800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8000640" y="2743200"/>
                <a:ext cx="1142640" cy="76320"/>
                <a:chOff x="8000640" y="2743200"/>
                <a:chExt cx="1142640" cy="7632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8000640" y="2743200"/>
                  <a:ext cx="533160" cy="76320"/>
                  <a:chOff x="8000640" y="2743200"/>
                  <a:chExt cx="533160" cy="7632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8000640" y="2743200"/>
                    <a:ext cx="228600" cy="76320"/>
                    <a:chOff x="8000640" y="2743200"/>
                    <a:chExt cx="228600" cy="7632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800064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815292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8305200" y="2743200"/>
                    <a:ext cx="228600" cy="76320"/>
                    <a:chOff x="8305200" y="2743200"/>
                    <a:chExt cx="228600" cy="7632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830520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845748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8610120" y="2743200"/>
                  <a:ext cx="533160" cy="76320"/>
                  <a:chOff x="8610120" y="2743200"/>
                  <a:chExt cx="533160" cy="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610120" y="2743200"/>
                    <a:ext cx="228600" cy="76320"/>
                    <a:chOff x="8610120" y="2743200"/>
                    <a:chExt cx="228600" cy="7632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61012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76240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8914680" y="2743200"/>
                    <a:ext cx="228600" cy="76320"/>
                    <a:chOff x="8914680" y="2743200"/>
                    <a:chExt cx="228600" cy="7632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891468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906696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7" name=""/>
            <p:cNvGrpSpPr/>
            <p:nvPr/>
          </p:nvGrpSpPr>
          <p:grpSpPr>
            <a:xfrm>
              <a:off x="4952880" y="2743200"/>
              <a:ext cx="533160" cy="76320"/>
              <a:chOff x="4952880" y="2743200"/>
              <a:chExt cx="533160" cy="763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4952880" y="2743200"/>
                <a:ext cx="228600" cy="76320"/>
                <a:chOff x="4952880" y="2743200"/>
                <a:chExt cx="228600" cy="76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952880" y="27432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05160" y="27432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257440" y="2743200"/>
                <a:ext cx="228600" cy="76320"/>
                <a:chOff x="5257440" y="2743200"/>
                <a:chExt cx="228600" cy="763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257440" y="27432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409720" y="27432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5562720" y="2743200"/>
              <a:ext cx="1142640" cy="76320"/>
              <a:chOff x="5562720" y="2743200"/>
              <a:chExt cx="1142640" cy="763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5562720" y="2743200"/>
                <a:ext cx="533160" cy="76320"/>
                <a:chOff x="5562720" y="2743200"/>
                <a:chExt cx="533160" cy="7632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5562720" y="2743200"/>
                  <a:ext cx="228600" cy="76320"/>
                  <a:chOff x="5562720" y="2743200"/>
                  <a:chExt cx="22860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556272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71500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5867280" y="2743200"/>
                  <a:ext cx="228600" cy="76320"/>
                  <a:chOff x="5867280" y="2743200"/>
                  <a:chExt cx="228600" cy="763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586728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01956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172200" y="2743200"/>
                <a:ext cx="533160" cy="76320"/>
                <a:chOff x="6172200" y="2743200"/>
                <a:chExt cx="533160" cy="763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172200" y="2743200"/>
                  <a:ext cx="228600" cy="76320"/>
                  <a:chOff x="6172200" y="2743200"/>
                  <a:chExt cx="228600" cy="763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17220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32448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6476760" y="2743200"/>
                  <a:ext cx="228600" cy="76320"/>
                  <a:chOff x="6476760" y="2743200"/>
                  <a:chExt cx="228600" cy="763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647676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62904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9" name=""/>
            <p:cNvGrpSpPr/>
            <p:nvPr/>
          </p:nvGrpSpPr>
          <p:grpSpPr>
            <a:xfrm>
              <a:off x="0" y="4876920"/>
              <a:ext cx="4799880" cy="75960"/>
              <a:chOff x="0" y="4876920"/>
              <a:chExt cx="4799880" cy="759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2438280" y="4876920"/>
                <a:ext cx="2361600" cy="75960"/>
                <a:chOff x="2438280" y="4876920"/>
                <a:chExt cx="2361600" cy="7596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2438280" y="4876920"/>
                  <a:ext cx="1142640" cy="75960"/>
                  <a:chOff x="2438280" y="4876920"/>
                  <a:chExt cx="1142640" cy="75960"/>
                </a:xfrm>
              </p:grpSpPr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2438280" y="4876920"/>
                    <a:ext cx="533160" cy="75960"/>
                    <a:chOff x="2438280" y="4876920"/>
                    <a:chExt cx="533160" cy="7596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2438280" y="4876920"/>
                      <a:ext cx="228600" cy="75960"/>
                      <a:chOff x="2438280" y="4876920"/>
                      <a:chExt cx="228600" cy="7596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24382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25905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2742840" y="4876920"/>
                      <a:ext cx="228600" cy="75960"/>
                      <a:chOff x="2742840" y="4876920"/>
                      <a:chExt cx="228600" cy="7596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7428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28951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3047760" y="4876920"/>
                    <a:ext cx="533160" cy="75960"/>
                    <a:chOff x="3047760" y="4876920"/>
                    <a:chExt cx="533160" cy="7596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3047760" y="4876920"/>
                      <a:ext cx="228600" cy="75960"/>
                      <a:chOff x="3047760" y="4876920"/>
                      <a:chExt cx="228600" cy="7596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30477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32000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3352320" y="4876920"/>
                      <a:ext cx="228600" cy="75960"/>
                      <a:chOff x="3352320" y="4876920"/>
                      <a:chExt cx="228600" cy="759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33523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35046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3657240" y="4876920"/>
                  <a:ext cx="1142640" cy="75960"/>
                  <a:chOff x="3657240" y="4876920"/>
                  <a:chExt cx="1142640" cy="7596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657240" y="4876920"/>
                    <a:ext cx="533160" cy="75960"/>
                    <a:chOff x="3657240" y="4876920"/>
                    <a:chExt cx="533160" cy="7596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3657240" y="4876920"/>
                      <a:ext cx="228600" cy="75960"/>
                      <a:chOff x="3657240" y="4876920"/>
                      <a:chExt cx="228600" cy="75960"/>
                    </a:xfrm>
                  </p:grpSpPr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36572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38095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3961800" y="4876920"/>
                      <a:ext cx="228600" cy="75960"/>
                      <a:chOff x="3961800" y="4876920"/>
                      <a:chExt cx="228600" cy="75960"/>
                    </a:xfrm>
                  </p:grpSpPr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396180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411408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4266720" y="4876920"/>
                    <a:ext cx="533160" cy="75960"/>
                    <a:chOff x="4266720" y="4876920"/>
                    <a:chExt cx="533160" cy="75960"/>
                  </a:xfrm>
                </p:grpSpPr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4266720" y="4876920"/>
                      <a:ext cx="228600" cy="75960"/>
                      <a:chOff x="4266720" y="4876920"/>
                      <a:chExt cx="228600" cy="7596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42667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4190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4571280" y="4876920"/>
                      <a:ext cx="228600" cy="75960"/>
                      <a:chOff x="4571280" y="4876920"/>
                      <a:chExt cx="228600" cy="75960"/>
                    </a:xfrm>
                  </p:grpSpPr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5712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7235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0" y="4876920"/>
                <a:ext cx="2361600" cy="75960"/>
                <a:chOff x="0" y="4876920"/>
                <a:chExt cx="2361600" cy="7596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0" y="4876920"/>
                  <a:ext cx="1142640" cy="75960"/>
                  <a:chOff x="0" y="4876920"/>
                  <a:chExt cx="1142640" cy="75960"/>
                </a:xfrm>
              </p:grpSpPr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0" y="4876920"/>
                    <a:ext cx="533160" cy="75960"/>
                    <a:chOff x="0" y="4876920"/>
                    <a:chExt cx="533160" cy="75960"/>
                  </a:xfrm>
                </p:grpSpPr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0" y="4876920"/>
                      <a:ext cx="228600" cy="75960"/>
                      <a:chOff x="0" y="4876920"/>
                      <a:chExt cx="228600" cy="7596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15228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304560" y="4876920"/>
                      <a:ext cx="228600" cy="75960"/>
                      <a:chOff x="304560" y="4876920"/>
                      <a:chExt cx="228600" cy="7596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3045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4568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609480" y="4876920"/>
                    <a:ext cx="533160" cy="75960"/>
                    <a:chOff x="609480" y="4876920"/>
                    <a:chExt cx="533160" cy="7596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609480" y="4876920"/>
                      <a:ext cx="228600" cy="75960"/>
                      <a:chOff x="609480" y="4876920"/>
                      <a:chExt cx="228600" cy="7596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6094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7617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914040" y="4876920"/>
                      <a:ext cx="228600" cy="75960"/>
                      <a:chOff x="914040" y="4876920"/>
                      <a:chExt cx="228600" cy="75960"/>
                    </a:xfrm>
                  </p:grpSpPr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9140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10663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218960" y="4876920"/>
                  <a:ext cx="1142640" cy="75960"/>
                  <a:chOff x="1218960" y="4876920"/>
                  <a:chExt cx="1142640" cy="7596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1218960" y="4876920"/>
                    <a:ext cx="533160" cy="75960"/>
                    <a:chOff x="1218960" y="4876920"/>
                    <a:chExt cx="533160" cy="7596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1218960" y="4876920"/>
                      <a:ext cx="228600" cy="75960"/>
                      <a:chOff x="1218960" y="4876920"/>
                      <a:chExt cx="228600" cy="7596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12189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13712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2" name=""/>
                    <p:cNvGrpSpPr/>
                    <p:nvPr/>
                  </p:nvGrpSpPr>
                  <p:grpSpPr>
                    <a:xfrm>
                      <a:off x="1523520" y="4876920"/>
                      <a:ext cx="228600" cy="75960"/>
                      <a:chOff x="1523520" y="4876920"/>
                      <a:chExt cx="228600" cy="75960"/>
                    </a:xfrm>
                  </p:grpSpPr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15235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16758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1828440" y="4876920"/>
                    <a:ext cx="533160" cy="75960"/>
                    <a:chOff x="1828440" y="4876920"/>
                    <a:chExt cx="533160" cy="75960"/>
                  </a:xfrm>
                </p:grpSpPr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1828440" y="4876920"/>
                      <a:ext cx="228600" cy="75960"/>
                      <a:chOff x="1828440" y="4876920"/>
                      <a:chExt cx="228600" cy="7596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18284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19807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2133000" y="4876920"/>
                      <a:ext cx="228600" cy="75960"/>
                      <a:chOff x="2133000" y="4876920"/>
                      <a:chExt cx="228600" cy="75960"/>
                    </a:xfrm>
                  </p:grpSpPr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13300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228528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62" name=""/>
            <p:cNvGrpSpPr/>
            <p:nvPr/>
          </p:nvGrpSpPr>
          <p:grpSpPr>
            <a:xfrm>
              <a:off x="6705720" y="4876920"/>
              <a:ext cx="2361600" cy="75960"/>
              <a:chOff x="6705720" y="4876920"/>
              <a:chExt cx="2361600" cy="759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705720" y="4876920"/>
                <a:ext cx="1142640" cy="75960"/>
                <a:chOff x="6705720" y="4876920"/>
                <a:chExt cx="1142640" cy="7596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6705720" y="4876920"/>
                  <a:ext cx="533160" cy="75960"/>
                  <a:chOff x="6705720" y="4876920"/>
                  <a:chExt cx="533160" cy="7596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6705720" y="4876920"/>
                    <a:ext cx="228600" cy="75960"/>
                    <a:chOff x="6705720" y="4876920"/>
                    <a:chExt cx="228600" cy="7596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572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85800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7010280" y="4876920"/>
                    <a:ext cx="228600" cy="75960"/>
                    <a:chOff x="7010280" y="4876920"/>
                    <a:chExt cx="228600" cy="7596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01028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16256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315200" y="4876920"/>
                  <a:ext cx="533160" cy="75960"/>
                  <a:chOff x="7315200" y="4876920"/>
                  <a:chExt cx="533160" cy="7596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7315200" y="4876920"/>
                    <a:ext cx="228600" cy="75960"/>
                    <a:chOff x="7315200" y="4876920"/>
                    <a:chExt cx="228600" cy="759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31520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46748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7619760" y="4876920"/>
                    <a:ext cx="228600" cy="75960"/>
                    <a:chOff x="7619760" y="4876920"/>
                    <a:chExt cx="228600" cy="759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61976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77204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8" name=""/>
              <p:cNvGrpSpPr/>
              <p:nvPr/>
            </p:nvGrpSpPr>
            <p:grpSpPr>
              <a:xfrm>
                <a:off x="7924680" y="4876920"/>
                <a:ext cx="1142640" cy="75960"/>
                <a:chOff x="7924680" y="4876920"/>
                <a:chExt cx="1142640" cy="7596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7924680" y="4876920"/>
                  <a:ext cx="533160" cy="75960"/>
                  <a:chOff x="7924680" y="4876920"/>
                  <a:chExt cx="533160" cy="75960"/>
                </a:xfrm>
              </p:grpSpPr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7924680" y="4876920"/>
                    <a:ext cx="228600" cy="75960"/>
                    <a:chOff x="7924680" y="4876920"/>
                    <a:chExt cx="228600" cy="7596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92468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07696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8229240" y="4876920"/>
                    <a:ext cx="228600" cy="75960"/>
                    <a:chOff x="8229240" y="4876920"/>
                    <a:chExt cx="228600" cy="7596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22924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838152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8534160" y="4876920"/>
                  <a:ext cx="533160" cy="75960"/>
                  <a:chOff x="8534160" y="4876920"/>
                  <a:chExt cx="533160" cy="7596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8534160" y="4876920"/>
                    <a:ext cx="228600" cy="75960"/>
                    <a:chOff x="8534160" y="4876920"/>
                    <a:chExt cx="228600" cy="759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53416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68644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8838720" y="4876920"/>
                    <a:ext cx="228600" cy="75960"/>
                    <a:chOff x="8838720" y="4876920"/>
                    <a:chExt cx="228600" cy="7596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83872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99100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3" name=""/>
            <p:cNvGrpSpPr/>
            <p:nvPr/>
          </p:nvGrpSpPr>
          <p:grpSpPr>
            <a:xfrm>
              <a:off x="4876920" y="4876920"/>
              <a:ext cx="533160" cy="75960"/>
              <a:chOff x="4876920" y="4876920"/>
              <a:chExt cx="533160" cy="759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4876920" y="4876920"/>
                <a:ext cx="228600" cy="75960"/>
                <a:chOff x="4876920" y="4876920"/>
                <a:chExt cx="228600" cy="75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876920" y="48769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029200" y="48769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81480" y="4876920"/>
                <a:ext cx="228600" cy="75960"/>
                <a:chOff x="5181480" y="4876920"/>
                <a:chExt cx="228600" cy="759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81480" y="48769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333760" y="48769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5486400" y="4876920"/>
              <a:ext cx="1142640" cy="75960"/>
              <a:chOff x="5486400" y="4876920"/>
              <a:chExt cx="1142640" cy="759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486400" y="4876920"/>
                <a:ext cx="533160" cy="75960"/>
                <a:chOff x="5486400" y="4876920"/>
                <a:chExt cx="533160" cy="7596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486400" y="4876920"/>
                  <a:ext cx="228600" cy="75960"/>
                  <a:chOff x="5486400" y="4876920"/>
                  <a:chExt cx="228600" cy="759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548640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63868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5790960" y="4876920"/>
                  <a:ext cx="228600" cy="75960"/>
                  <a:chOff x="5790960" y="4876920"/>
                  <a:chExt cx="228600" cy="759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579096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94324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6095880" y="4876920"/>
                <a:ext cx="533160" cy="75960"/>
                <a:chOff x="6095880" y="4876920"/>
                <a:chExt cx="533160" cy="7596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6095880" y="4876920"/>
                  <a:ext cx="228600" cy="75960"/>
                  <a:chOff x="6095880" y="4876920"/>
                  <a:chExt cx="228600" cy="759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09588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24816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6400440" y="4876920"/>
                  <a:ext cx="228600" cy="75960"/>
                  <a:chOff x="6400440" y="4876920"/>
                  <a:chExt cx="228600" cy="7596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640044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55272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15" name="man_looking_watch" descr=""/>
            <p:cNvPicPr/>
            <p:nvPr/>
          </p:nvPicPr>
          <p:blipFill>
            <a:blip r:embed="rId1"/>
            <a:stretch/>
          </p:blipFill>
          <p:spPr>
            <a:xfrm>
              <a:off x="0" y="2895480"/>
              <a:ext cx="259092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mtr01" descr=""/>
            <p:cNvPicPr/>
            <p:nvPr/>
          </p:nvPicPr>
          <p:blipFill>
            <a:blip r:embed="rId2"/>
            <a:stretch/>
          </p:blipFill>
          <p:spPr>
            <a:xfrm>
              <a:off x="2743200" y="2895480"/>
              <a:ext cx="32767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executives_lunch" descr=""/>
            <p:cNvPicPr/>
            <p:nvPr/>
          </p:nvPicPr>
          <p:blipFill>
            <a:blip r:embed="rId3"/>
            <a:stretch/>
          </p:blipFill>
          <p:spPr>
            <a:xfrm>
              <a:off x="6176880" y="2895480"/>
              <a:ext cx="2967120" cy="194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受訪者是否家庭經濟支柱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710136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4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971800" y="3581280"/>
            <a:ext cx="2743200" cy="551520"/>
            <a:chOff x="2971800" y="3581280"/>
            <a:chExt cx="2743200" cy="551520"/>
          </a:xfrm>
        </p:grpSpPr>
        <p:sp>
          <p:nvSpPr>
            <p:cNvPr id="377" name=""/>
            <p:cNvSpPr/>
            <p:nvPr/>
          </p:nvSpPr>
          <p:spPr>
            <a:xfrm>
              <a:off x="4800600" y="3733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71800" y="3581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受訪者教育程度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066680" y="1828800"/>
          <a:ext cx="701064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1064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5638680" y="63244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7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調查概況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09480" y="1371600"/>
          <a:ext cx="8077320" cy="5114880"/>
        </p:xfrm>
        <a:graphic>
          <a:graphicData uri="http://schemas.openxmlformats.org/drawingml/2006/table">
            <a:tbl>
              <a:tblPr/>
              <a:tblGrid>
                <a:gridCol w="2416320"/>
                <a:gridCol w="566100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了解現今經濟壓力及非典型肺炎肆虐下香港白領人士的飲食行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8-4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歲，有進食早餐及午餐習慣的在職白領人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00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日至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香港大學民意研究計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電話隨機抽樣訪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1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成功回應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抽樣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少於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調查情況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28600" y="1523880"/>
            <a:ext cx="8686800" cy="3896280"/>
            <a:chOff x="228600" y="1523880"/>
            <a:chExt cx="8686800" cy="3896280"/>
          </a:xfrm>
        </p:grpSpPr>
        <p:sp>
          <p:nvSpPr>
            <p:cNvPr id="322" name=""/>
            <p:cNvSpPr/>
            <p:nvPr/>
          </p:nvSpPr>
          <p:spPr>
            <a:xfrm>
              <a:off x="655308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7400" y="4038480"/>
              <a:ext cx="1447920" cy="106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沒有合適受訪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292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23880" y="1523880"/>
              <a:ext cx="6019920" cy="368280"/>
            </a:xfrm>
            <a:prstGeom prst="rect">
              <a:avLst/>
            </a:prstGeom>
            <a:solidFill>
              <a:srgbClr val="8bd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電話號碼總數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:2,535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0" y="2362320"/>
              <a:ext cx="2971800" cy="1202760"/>
            </a:xfrm>
            <a:prstGeom prst="rect">
              <a:avLst/>
            </a:prstGeom>
            <a:solidFill>
              <a:srgbClr val="b4e8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成功接觸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,699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23880" y="2362320"/>
              <a:ext cx="2971800" cy="642600"/>
            </a:xfrm>
            <a:prstGeom prst="rect">
              <a:avLst/>
            </a:prstGeom>
            <a:solidFill>
              <a:srgbClr val="b4e8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未能成功接觸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(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如無人接聽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公司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傳真號碼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) 836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81280" y="4038480"/>
              <a:ext cx="1600200" cy="106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能於調查期內受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561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57800" y="4038480"/>
              <a:ext cx="1828800" cy="10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拒絕受訪              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(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包括訪問中途掛線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259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62920" y="4038480"/>
              <a:ext cx="1752480" cy="138168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成功訪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數目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                </a:t>
              </a: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511</a:t>
              </a: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362320" y="1905120"/>
              <a:ext cx="4190760" cy="457200"/>
              <a:chOff x="2362320" y="1905120"/>
              <a:chExt cx="4190760" cy="457200"/>
            </a:xfrm>
          </p:grpSpPr>
          <p:sp>
            <p:nvSpPr>
              <p:cNvPr id="331" name=""/>
              <p:cNvSpPr/>
              <p:nvPr/>
            </p:nvSpPr>
            <p:spPr>
              <a:xfrm>
                <a:off x="4426200" y="1905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62320" y="2133720"/>
                <a:ext cx="419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62320" y="2133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53080" y="2133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447920" y="3581280"/>
              <a:ext cx="624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608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588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9548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600" y="4038480"/>
              <a:ext cx="1752480" cy="106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言語不通及其他問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76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197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被訪者個人背景資料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受訪者性別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710136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3581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男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受訪者年齡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710136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362320" y="2286000"/>
            <a:ext cx="3504960" cy="2224440"/>
            <a:chOff x="2362320" y="2286000"/>
            <a:chExt cx="3504960" cy="2224440"/>
          </a:xfrm>
        </p:grpSpPr>
        <p:sp>
          <p:nvSpPr>
            <p:cNvPr id="354" name=""/>
            <p:cNvSpPr/>
            <p:nvPr/>
          </p:nvSpPr>
          <p:spPr>
            <a:xfrm>
              <a:off x="4572000" y="411156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26-35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62320" y="3730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36-45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25480" y="2286000"/>
              <a:ext cx="106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8-25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受訪者婚姻狀況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21337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7126560" y="6149880"/>
            <a:ext cx="135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6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6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962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已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未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4200" y="1660680"/>
            <a:ext cx="15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分居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離婚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喪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受訪者職業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914400" y="1828800"/>
          <a:ext cx="7620120" cy="39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2012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5334120" y="60958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9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受訪者個人收入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143000" y="1981080"/>
          <a:ext cx="7315200" cy="39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31520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5334120" y="60958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467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tony</cp:lastModifiedBy>
  <dcterms:modified xsi:type="dcterms:W3CDTF">2003-07-10T09:56:11Z</dcterms:modified>
  <cp:revision>297</cp:revision>
  <dc:subject/>
  <dc:title>PowerPoint Presentation</dc:title>
</cp:coreProperties>
</file>