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a5b"/>
                </a:solidFill>
                <a:latin typeface="CG Omega"/>
              </a:rPr>
              <a:t>Click to edit the title text format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8a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G Omeg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G Omeg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G Omeg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G Omeg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G Omeg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G Omeg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8a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380880"/>
            <a:ext cx="457200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CG Omega"/>
                <a:ea typeface="PMingLiU"/>
              </a:rPr>
              <a:t>經濟低</a:t>
            </a:r>
            <a:r>
              <a:rPr b="1" lang="zh-TW" sz="3000" spc="-1" strike="noStrike">
                <a:solidFill>
                  <a:srgbClr val="ffffff"/>
                </a:solidFill>
                <a:latin typeface="CG Omega"/>
                <a:ea typeface="PMingLiU"/>
              </a:rPr>
              <a:t>迷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380880"/>
            <a:ext cx="45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66"/>
                </a:solidFill>
                <a:latin typeface="CG Omega"/>
                <a:ea typeface="PMingLiU"/>
              </a:rPr>
              <a:t>沙士疫情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029200"/>
            <a:ext cx="9144000" cy="1912680"/>
          </a:xfrm>
          <a:prstGeom prst="rect">
            <a:avLst/>
          </a:prstGeom>
          <a:solidFill>
            <a:srgbClr val="d9f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講者：劉立儀小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         </a:t>
            </a:r>
            <a:r>
              <a:rPr b="1" i="1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註冊營養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2003</a:t>
            </a:r>
            <a:r>
              <a:rPr b="1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年</a:t>
            </a:r>
            <a:r>
              <a:rPr b="1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6</a:t>
            </a:r>
            <a:r>
              <a:rPr b="1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月</a:t>
            </a:r>
            <a:r>
              <a:rPr b="1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26</a:t>
            </a:r>
            <a:r>
              <a:rPr b="1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52840" y="121932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ffff"/>
                </a:solidFill>
                <a:latin typeface="CG Omega"/>
                <a:ea typeface="PMingLiU"/>
              </a:rPr>
              <a:t>香港白領飲食營養分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2666880"/>
            <a:ext cx="9144000" cy="2362320"/>
            <a:chOff x="0" y="2666880"/>
            <a:chExt cx="9144000" cy="2362320"/>
          </a:xfrm>
        </p:grpSpPr>
        <p:sp>
          <p:nvSpPr>
            <p:cNvPr id="81" name=""/>
            <p:cNvSpPr/>
            <p:nvPr/>
          </p:nvSpPr>
          <p:spPr>
            <a:xfrm>
              <a:off x="0" y="2666880"/>
              <a:ext cx="9144000" cy="236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76320" y="2743200"/>
              <a:ext cx="4799880" cy="76320"/>
              <a:chOff x="76320" y="2743200"/>
              <a:chExt cx="4799880" cy="7632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2514600" y="2743200"/>
                <a:ext cx="2361600" cy="76320"/>
                <a:chOff x="2514600" y="2743200"/>
                <a:chExt cx="2361600" cy="76320"/>
              </a:xfrm>
            </p:grpSpPr>
            <p:grpSp>
              <p:nvGrpSpPr>
                <p:cNvPr id="84" name=""/>
                <p:cNvGrpSpPr/>
                <p:nvPr/>
              </p:nvGrpSpPr>
              <p:grpSpPr>
                <a:xfrm>
                  <a:off x="2514600" y="2743200"/>
                  <a:ext cx="1142640" cy="76320"/>
                  <a:chOff x="2514600" y="2743200"/>
                  <a:chExt cx="1142640" cy="76320"/>
                </a:xfrm>
              </p:grpSpPr>
              <p:grpSp>
                <p:nvGrpSpPr>
                  <p:cNvPr id="85" name=""/>
                  <p:cNvGrpSpPr/>
                  <p:nvPr/>
                </p:nvGrpSpPr>
                <p:grpSpPr>
                  <a:xfrm>
                    <a:off x="2514600" y="2743200"/>
                    <a:ext cx="533160" cy="76320"/>
                    <a:chOff x="2514600" y="2743200"/>
                    <a:chExt cx="533160" cy="76320"/>
                  </a:xfrm>
                </p:grpSpPr>
                <p:grpSp>
                  <p:nvGrpSpPr>
                    <p:cNvPr id="86" name=""/>
                    <p:cNvGrpSpPr/>
                    <p:nvPr/>
                  </p:nvGrpSpPr>
                  <p:grpSpPr>
                    <a:xfrm>
                      <a:off x="2514600" y="2743200"/>
                      <a:ext cx="228600" cy="76320"/>
                      <a:chOff x="2514600" y="2743200"/>
                      <a:chExt cx="228600" cy="76320"/>
                    </a:xfrm>
                  </p:grpSpPr>
                  <p:sp>
                    <p:nvSpPr>
                      <p:cNvPr id="87" name=""/>
                      <p:cNvSpPr/>
                      <p:nvPr/>
                    </p:nvSpPr>
                    <p:spPr>
                      <a:xfrm>
                        <a:off x="251460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" name=""/>
                      <p:cNvSpPr/>
                      <p:nvPr/>
                    </p:nvSpPr>
                    <p:spPr>
                      <a:xfrm>
                        <a:off x="266688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9" name=""/>
                    <p:cNvGrpSpPr/>
                    <p:nvPr/>
                  </p:nvGrpSpPr>
                  <p:grpSpPr>
                    <a:xfrm>
                      <a:off x="2819160" y="2743200"/>
                      <a:ext cx="228600" cy="76320"/>
                      <a:chOff x="2819160" y="2743200"/>
                      <a:chExt cx="228600" cy="76320"/>
                    </a:xfrm>
                  </p:grpSpPr>
                  <p:sp>
                    <p:nvSpPr>
                      <p:cNvPr id="90" name=""/>
                      <p:cNvSpPr/>
                      <p:nvPr/>
                    </p:nvSpPr>
                    <p:spPr>
                      <a:xfrm>
                        <a:off x="281916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" name=""/>
                      <p:cNvSpPr/>
                      <p:nvPr/>
                    </p:nvSpPr>
                    <p:spPr>
                      <a:xfrm>
                        <a:off x="297144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92" name=""/>
                  <p:cNvGrpSpPr/>
                  <p:nvPr/>
                </p:nvGrpSpPr>
                <p:grpSpPr>
                  <a:xfrm>
                    <a:off x="3124080" y="2743200"/>
                    <a:ext cx="533160" cy="76320"/>
                    <a:chOff x="3124080" y="2743200"/>
                    <a:chExt cx="533160" cy="76320"/>
                  </a:xfrm>
                </p:grpSpPr>
                <p:grpSp>
                  <p:nvGrpSpPr>
                    <p:cNvPr id="93" name=""/>
                    <p:cNvGrpSpPr/>
                    <p:nvPr/>
                  </p:nvGrpSpPr>
                  <p:grpSpPr>
                    <a:xfrm>
                      <a:off x="3124080" y="2743200"/>
                      <a:ext cx="228600" cy="76320"/>
                      <a:chOff x="3124080" y="2743200"/>
                      <a:chExt cx="228600" cy="76320"/>
                    </a:xfrm>
                  </p:grpSpPr>
                  <p:sp>
                    <p:nvSpPr>
                      <p:cNvPr id="94" name=""/>
                      <p:cNvSpPr/>
                      <p:nvPr/>
                    </p:nvSpPr>
                    <p:spPr>
                      <a:xfrm>
                        <a:off x="312408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" name=""/>
                      <p:cNvSpPr/>
                      <p:nvPr/>
                    </p:nvSpPr>
                    <p:spPr>
                      <a:xfrm>
                        <a:off x="327636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6" name=""/>
                    <p:cNvGrpSpPr/>
                    <p:nvPr/>
                  </p:nvGrpSpPr>
                  <p:grpSpPr>
                    <a:xfrm>
                      <a:off x="3428640" y="2743200"/>
                      <a:ext cx="228600" cy="76320"/>
                      <a:chOff x="3428640" y="2743200"/>
                      <a:chExt cx="228600" cy="76320"/>
                    </a:xfrm>
                  </p:grpSpPr>
                  <p:sp>
                    <p:nvSpPr>
                      <p:cNvPr id="97" name=""/>
                      <p:cNvSpPr/>
                      <p:nvPr/>
                    </p:nvSpPr>
                    <p:spPr>
                      <a:xfrm>
                        <a:off x="342864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" name=""/>
                      <p:cNvSpPr/>
                      <p:nvPr/>
                    </p:nvSpPr>
                    <p:spPr>
                      <a:xfrm>
                        <a:off x="358092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3733560" y="2743200"/>
                  <a:ext cx="1142640" cy="76320"/>
                  <a:chOff x="3733560" y="2743200"/>
                  <a:chExt cx="1142640" cy="76320"/>
                </a:xfrm>
              </p:grpSpPr>
              <p:grpSp>
                <p:nvGrpSpPr>
                  <p:cNvPr id="100" name=""/>
                  <p:cNvGrpSpPr/>
                  <p:nvPr/>
                </p:nvGrpSpPr>
                <p:grpSpPr>
                  <a:xfrm>
                    <a:off x="3733560" y="2743200"/>
                    <a:ext cx="533160" cy="76320"/>
                    <a:chOff x="3733560" y="2743200"/>
                    <a:chExt cx="533160" cy="76320"/>
                  </a:xfrm>
                </p:grpSpPr>
                <p:grpSp>
                  <p:nvGrpSpPr>
                    <p:cNvPr id="101" name=""/>
                    <p:cNvGrpSpPr/>
                    <p:nvPr/>
                  </p:nvGrpSpPr>
                  <p:grpSpPr>
                    <a:xfrm>
                      <a:off x="3733560" y="2743200"/>
                      <a:ext cx="228600" cy="76320"/>
                      <a:chOff x="3733560" y="2743200"/>
                      <a:chExt cx="228600" cy="76320"/>
                    </a:xfrm>
                  </p:grpSpPr>
                  <p:sp>
                    <p:nvSpPr>
                      <p:cNvPr id="102" name=""/>
                      <p:cNvSpPr/>
                      <p:nvPr/>
                    </p:nvSpPr>
                    <p:spPr>
                      <a:xfrm>
                        <a:off x="373356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" name=""/>
                      <p:cNvSpPr/>
                      <p:nvPr/>
                    </p:nvSpPr>
                    <p:spPr>
                      <a:xfrm>
                        <a:off x="388584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4" name=""/>
                    <p:cNvGrpSpPr/>
                    <p:nvPr/>
                  </p:nvGrpSpPr>
                  <p:grpSpPr>
                    <a:xfrm>
                      <a:off x="4038120" y="2743200"/>
                      <a:ext cx="228600" cy="76320"/>
                      <a:chOff x="4038120" y="2743200"/>
                      <a:chExt cx="228600" cy="76320"/>
                    </a:xfrm>
                  </p:grpSpPr>
                  <p:sp>
                    <p:nvSpPr>
                      <p:cNvPr id="105" name=""/>
                      <p:cNvSpPr/>
                      <p:nvPr/>
                    </p:nvSpPr>
                    <p:spPr>
                      <a:xfrm>
                        <a:off x="403812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" name=""/>
                      <p:cNvSpPr/>
                      <p:nvPr/>
                    </p:nvSpPr>
                    <p:spPr>
                      <a:xfrm>
                        <a:off x="419040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4343040" y="2743200"/>
                    <a:ext cx="533160" cy="76320"/>
                    <a:chOff x="4343040" y="2743200"/>
                    <a:chExt cx="533160" cy="76320"/>
                  </a:xfrm>
                </p:grpSpPr>
                <p:grpSp>
                  <p:nvGrpSpPr>
                    <p:cNvPr id="108" name=""/>
                    <p:cNvGrpSpPr/>
                    <p:nvPr/>
                  </p:nvGrpSpPr>
                  <p:grpSpPr>
                    <a:xfrm>
                      <a:off x="4343040" y="2743200"/>
                      <a:ext cx="228600" cy="76320"/>
                      <a:chOff x="4343040" y="2743200"/>
                      <a:chExt cx="228600" cy="76320"/>
                    </a:xfrm>
                  </p:grpSpPr>
                  <p:sp>
                    <p:nvSpPr>
                      <p:cNvPr id="109" name=""/>
                      <p:cNvSpPr/>
                      <p:nvPr/>
                    </p:nvSpPr>
                    <p:spPr>
                      <a:xfrm>
                        <a:off x="434304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" name=""/>
                      <p:cNvSpPr/>
                      <p:nvPr/>
                    </p:nvSpPr>
                    <p:spPr>
                      <a:xfrm>
                        <a:off x="449532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1" name=""/>
                    <p:cNvGrpSpPr/>
                    <p:nvPr/>
                  </p:nvGrpSpPr>
                  <p:grpSpPr>
                    <a:xfrm>
                      <a:off x="4647600" y="2743200"/>
                      <a:ext cx="228600" cy="76320"/>
                      <a:chOff x="4647600" y="2743200"/>
                      <a:chExt cx="228600" cy="76320"/>
                    </a:xfrm>
                  </p:grpSpPr>
                  <p:sp>
                    <p:nvSpPr>
                      <p:cNvPr id="112" name=""/>
                      <p:cNvSpPr/>
                      <p:nvPr/>
                    </p:nvSpPr>
                    <p:spPr>
                      <a:xfrm>
                        <a:off x="464760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" name=""/>
                      <p:cNvSpPr/>
                      <p:nvPr/>
                    </p:nvSpPr>
                    <p:spPr>
                      <a:xfrm>
                        <a:off x="479988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14" name=""/>
              <p:cNvGrpSpPr/>
              <p:nvPr/>
            </p:nvGrpSpPr>
            <p:grpSpPr>
              <a:xfrm>
                <a:off x="76320" y="2743200"/>
                <a:ext cx="2361600" cy="76320"/>
                <a:chOff x="76320" y="2743200"/>
                <a:chExt cx="2361600" cy="76320"/>
              </a:xfrm>
            </p:grpSpPr>
            <p:grpSp>
              <p:nvGrpSpPr>
                <p:cNvPr id="115" name=""/>
                <p:cNvGrpSpPr/>
                <p:nvPr/>
              </p:nvGrpSpPr>
              <p:grpSpPr>
                <a:xfrm>
                  <a:off x="76320" y="2743200"/>
                  <a:ext cx="1142640" cy="76320"/>
                  <a:chOff x="76320" y="2743200"/>
                  <a:chExt cx="1142640" cy="76320"/>
                </a:xfrm>
              </p:grpSpPr>
              <p:grpSp>
                <p:nvGrpSpPr>
                  <p:cNvPr id="116" name=""/>
                  <p:cNvGrpSpPr/>
                  <p:nvPr/>
                </p:nvGrpSpPr>
                <p:grpSpPr>
                  <a:xfrm>
                    <a:off x="76320" y="2743200"/>
                    <a:ext cx="533160" cy="76320"/>
                    <a:chOff x="76320" y="2743200"/>
                    <a:chExt cx="533160" cy="76320"/>
                  </a:xfrm>
                </p:grpSpPr>
                <p:grpSp>
                  <p:nvGrpSpPr>
                    <p:cNvPr id="117" name=""/>
                    <p:cNvGrpSpPr/>
                    <p:nvPr/>
                  </p:nvGrpSpPr>
                  <p:grpSpPr>
                    <a:xfrm>
                      <a:off x="76320" y="2743200"/>
                      <a:ext cx="228600" cy="76320"/>
                      <a:chOff x="76320" y="2743200"/>
                      <a:chExt cx="228600" cy="76320"/>
                    </a:xfrm>
                  </p:grpSpPr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7632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" name=""/>
                      <p:cNvSpPr/>
                      <p:nvPr/>
                    </p:nvSpPr>
                    <p:spPr>
                      <a:xfrm>
                        <a:off x="22860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0" name=""/>
                    <p:cNvGrpSpPr/>
                    <p:nvPr/>
                  </p:nvGrpSpPr>
                  <p:grpSpPr>
                    <a:xfrm>
                      <a:off x="380880" y="2743200"/>
                      <a:ext cx="228600" cy="76320"/>
                      <a:chOff x="380880" y="2743200"/>
                      <a:chExt cx="228600" cy="76320"/>
                    </a:xfrm>
                  </p:grpSpPr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8088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53316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685800" y="2743200"/>
                    <a:ext cx="533160" cy="76320"/>
                    <a:chOff x="685800" y="2743200"/>
                    <a:chExt cx="533160" cy="76320"/>
                  </a:xfrm>
                </p:grpSpPr>
                <p:grpSp>
                  <p:nvGrpSpPr>
                    <p:cNvPr id="124" name=""/>
                    <p:cNvGrpSpPr/>
                    <p:nvPr/>
                  </p:nvGrpSpPr>
                  <p:grpSpPr>
                    <a:xfrm>
                      <a:off x="685800" y="2743200"/>
                      <a:ext cx="228600" cy="76320"/>
                      <a:chOff x="685800" y="2743200"/>
                      <a:chExt cx="228600" cy="76320"/>
                    </a:xfrm>
                  </p:grpSpPr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68580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" name=""/>
                      <p:cNvSpPr/>
                      <p:nvPr/>
                    </p:nvSpPr>
                    <p:spPr>
                      <a:xfrm>
                        <a:off x="83808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7" name=""/>
                    <p:cNvGrpSpPr/>
                    <p:nvPr/>
                  </p:nvGrpSpPr>
                  <p:grpSpPr>
                    <a:xfrm>
                      <a:off x="990360" y="2743200"/>
                      <a:ext cx="228600" cy="76320"/>
                      <a:chOff x="990360" y="2743200"/>
                      <a:chExt cx="228600" cy="76320"/>
                    </a:xfrm>
                  </p:grpSpPr>
                  <p:sp>
                    <p:nvSpPr>
                      <p:cNvPr id="128" name=""/>
                      <p:cNvSpPr/>
                      <p:nvPr/>
                    </p:nvSpPr>
                    <p:spPr>
                      <a:xfrm>
                        <a:off x="99036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" name=""/>
                      <p:cNvSpPr/>
                      <p:nvPr/>
                    </p:nvSpPr>
                    <p:spPr>
                      <a:xfrm>
                        <a:off x="114264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1295280" y="2743200"/>
                  <a:ext cx="1142640" cy="76320"/>
                  <a:chOff x="1295280" y="2743200"/>
                  <a:chExt cx="1142640" cy="76320"/>
                </a:xfrm>
              </p:grpSpPr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1295280" y="2743200"/>
                    <a:ext cx="533160" cy="76320"/>
                    <a:chOff x="1295280" y="2743200"/>
                    <a:chExt cx="533160" cy="76320"/>
                  </a:xfrm>
                </p:grpSpPr>
                <p:grpSp>
                  <p:nvGrpSpPr>
                    <p:cNvPr id="132" name=""/>
                    <p:cNvGrpSpPr/>
                    <p:nvPr/>
                  </p:nvGrpSpPr>
                  <p:grpSpPr>
                    <a:xfrm>
                      <a:off x="1295280" y="2743200"/>
                      <a:ext cx="228600" cy="76320"/>
                      <a:chOff x="1295280" y="2743200"/>
                      <a:chExt cx="228600" cy="76320"/>
                    </a:xfrm>
                  </p:grpSpPr>
                  <p:sp>
                    <p:nvSpPr>
                      <p:cNvPr id="133" name=""/>
                      <p:cNvSpPr/>
                      <p:nvPr/>
                    </p:nvSpPr>
                    <p:spPr>
                      <a:xfrm>
                        <a:off x="129528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" name=""/>
                      <p:cNvSpPr/>
                      <p:nvPr/>
                    </p:nvSpPr>
                    <p:spPr>
                      <a:xfrm>
                        <a:off x="144756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5" name=""/>
                    <p:cNvGrpSpPr/>
                    <p:nvPr/>
                  </p:nvGrpSpPr>
                  <p:grpSpPr>
                    <a:xfrm>
                      <a:off x="1599840" y="2743200"/>
                      <a:ext cx="228600" cy="76320"/>
                      <a:chOff x="1599840" y="2743200"/>
                      <a:chExt cx="228600" cy="76320"/>
                    </a:xfrm>
                  </p:grpSpPr>
                  <p:sp>
                    <p:nvSpPr>
                      <p:cNvPr id="136" name=""/>
                      <p:cNvSpPr/>
                      <p:nvPr/>
                    </p:nvSpPr>
                    <p:spPr>
                      <a:xfrm>
                        <a:off x="159984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" name=""/>
                      <p:cNvSpPr/>
                      <p:nvPr/>
                    </p:nvSpPr>
                    <p:spPr>
                      <a:xfrm>
                        <a:off x="175212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1904760" y="2743200"/>
                    <a:ext cx="533160" cy="76320"/>
                    <a:chOff x="1904760" y="2743200"/>
                    <a:chExt cx="533160" cy="76320"/>
                  </a:xfrm>
                </p:grpSpPr>
                <p:grpSp>
                  <p:nvGrpSpPr>
                    <p:cNvPr id="139" name=""/>
                    <p:cNvGrpSpPr/>
                    <p:nvPr/>
                  </p:nvGrpSpPr>
                  <p:grpSpPr>
                    <a:xfrm>
                      <a:off x="1904760" y="2743200"/>
                      <a:ext cx="228600" cy="76320"/>
                      <a:chOff x="1904760" y="2743200"/>
                      <a:chExt cx="228600" cy="76320"/>
                    </a:xfrm>
                  </p:grpSpPr>
                  <p:sp>
                    <p:nvSpPr>
                      <p:cNvPr id="140" name=""/>
                      <p:cNvSpPr/>
                      <p:nvPr/>
                    </p:nvSpPr>
                    <p:spPr>
                      <a:xfrm>
                        <a:off x="190476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" name=""/>
                      <p:cNvSpPr/>
                      <p:nvPr/>
                    </p:nvSpPr>
                    <p:spPr>
                      <a:xfrm>
                        <a:off x="205704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2" name=""/>
                    <p:cNvGrpSpPr/>
                    <p:nvPr/>
                  </p:nvGrpSpPr>
                  <p:grpSpPr>
                    <a:xfrm>
                      <a:off x="2209320" y="2743200"/>
                      <a:ext cx="228600" cy="76320"/>
                      <a:chOff x="2209320" y="2743200"/>
                      <a:chExt cx="228600" cy="76320"/>
                    </a:xfrm>
                  </p:grpSpPr>
                  <p:sp>
                    <p:nvSpPr>
                      <p:cNvPr id="143" name=""/>
                      <p:cNvSpPr/>
                      <p:nvPr/>
                    </p:nvSpPr>
                    <p:spPr>
                      <a:xfrm>
                        <a:off x="2209320" y="2743200"/>
                        <a:ext cx="7596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" name=""/>
                      <p:cNvSpPr/>
                      <p:nvPr/>
                    </p:nvSpPr>
                    <p:spPr>
                      <a:xfrm>
                        <a:off x="2361600" y="2743200"/>
                        <a:ext cx="76320" cy="76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145" name=""/>
            <p:cNvGrpSpPr/>
            <p:nvPr/>
          </p:nvGrpSpPr>
          <p:grpSpPr>
            <a:xfrm>
              <a:off x="6781680" y="2743200"/>
              <a:ext cx="2361600" cy="76320"/>
              <a:chOff x="6781680" y="2743200"/>
              <a:chExt cx="2361600" cy="7632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6781680" y="2743200"/>
                <a:ext cx="1142640" cy="76320"/>
                <a:chOff x="6781680" y="2743200"/>
                <a:chExt cx="1142640" cy="7632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6781680" y="2743200"/>
                  <a:ext cx="533160" cy="76320"/>
                  <a:chOff x="6781680" y="2743200"/>
                  <a:chExt cx="533160" cy="76320"/>
                </a:xfrm>
              </p:grpSpPr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6781680" y="2743200"/>
                    <a:ext cx="228600" cy="76320"/>
                    <a:chOff x="6781680" y="2743200"/>
                    <a:chExt cx="228600" cy="7632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6781680" y="27432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6933960" y="27432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7086240" y="2743200"/>
                    <a:ext cx="228600" cy="76320"/>
                    <a:chOff x="7086240" y="2743200"/>
                    <a:chExt cx="228600" cy="7632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7086240" y="27432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7238520" y="27432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391160" y="2743200"/>
                  <a:ext cx="533160" cy="76320"/>
                  <a:chOff x="7391160" y="2743200"/>
                  <a:chExt cx="533160" cy="76320"/>
                </a:xfrm>
              </p:grpSpPr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7391160" y="2743200"/>
                    <a:ext cx="228600" cy="76320"/>
                    <a:chOff x="7391160" y="2743200"/>
                    <a:chExt cx="228600" cy="7632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7391160" y="27432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7543440" y="27432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7695720" y="2743200"/>
                    <a:ext cx="228600" cy="76320"/>
                    <a:chOff x="7695720" y="2743200"/>
                    <a:chExt cx="228600" cy="7632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7695720" y="27432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7848000" y="27432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1" name=""/>
              <p:cNvGrpSpPr/>
              <p:nvPr/>
            </p:nvGrpSpPr>
            <p:grpSpPr>
              <a:xfrm>
                <a:off x="8000640" y="2743200"/>
                <a:ext cx="1142640" cy="76320"/>
                <a:chOff x="8000640" y="2743200"/>
                <a:chExt cx="1142640" cy="7632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8000640" y="2743200"/>
                  <a:ext cx="533160" cy="76320"/>
                  <a:chOff x="8000640" y="2743200"/>
                  <a:chExt cx="533160" cy="76320"/>
                </a:xfrm>
              </p:grpSpPr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8000640" y="2743200"/>
                    <a:ext cx="228600" cy="76320"/>
                    <a:chOff x="8000640" y="2743200"/>
                    <a:chExt cx="228600" cy="7632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8000640" y="27432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8152920" y="27432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8305200" y="2743200"/>
                    <a:ext cx="228600" cy="76320"/>
                    <a:chOff x="8305200" y="2743200"/>
                    <a:chExt cx="228600" cy="76320"/>
                  </a:xfrm>
                </p:grpSpPr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8305200" y="27432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8457480" y="27432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8610120" y="2743200"/>
                  <a:ext cx="533160" cy="76320"/>
                  <a:chOff x="8610120" y="2743200"/>
                  <a:chExt cx="533160" cy="76320"/>
                </a:xfrm>
              </p:grpSpPr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8610120" y="2743200"/>
                    <a:ext cx="228600" cy="76320"/>
                    <a:chOff x="8610120" y="2743200"/>
                    <a:chExt cx="228600" cy="76320"/>
                  </a:xfrm>
                </p:grpSpPr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8610120" y="27432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8762400" y="27432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8914680" y="2743200"/>
                    <a:ext cx="228600" cy="76320"/>
                    <a:chOff x="8914680" y="2743200"/>
                    <a:chExt cx="228600" cy="7632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8914680" y="2743200"/>
                      <a:ext cx="7596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9066960" y="2743200"/>
                      <a:ext cx="763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76" name=""/>
            <p:cNvGrpSpPr/>
            <p:nvPr/>
          </p:nvGrpSpPr>
          <p:grpSpPr>
            <a:xfrm>
              <a:off x="4952880" y="2743200"/>
              <a:ext cx="533160" cy="76320"/>
              <a:chOff x="4952880" y="2743200"/>
              <a:chExt cx="533160" cy="7632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4952880" y="2743200"/>
                <a:ext cx="228600" cy="76320"/>
                <a:chOff x="4952880" y="2743200"/>
                <a:chExt cx="228600" cy="763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952880" y="2743200"/>
                  <a:ext cx="75960" cy="7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105160" y="2743200"/>
                  <a:ext cx="76320" cy="7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257440" y="2743200"/>
                <a:ext cx="228600" cy="76320"/>
                <a:chOff x="5257440" y="2743200"/>
                <a:chExt cx="228600" cy="763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257440" y="2743200"/>
                  <a:ext cx="75960" cy="7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409720" y="2743200"/>
                  <a:ext cx="76320" cy="7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3" name=""/>
            <p:cNvGrpSpPr/>
            <p:nvPr/>
          </p:nvGrpSpPr>
          <p:grpSpPr>
            <a:xfrm>
              <a:off x="5562720" y="2743200"/>
              <a:ext cx="1142640" cy="76320"/>
              <a:chOff x="5562720" y="2743200"/>
              <a:chExt cx="1142640" cy="7632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5562720" y="2743200"/>
                <a:ext cx="533160" cy="76320"/>
                <a:chOff x="5562720" y="2743200"/>
                <a:chExt cx="533160" cy="76320"/>
              </a:xfrm>
            </p:grpSpPr>
            <p:grpSp>
              <p:nvGrpSpPr>
                <p:cNvPr id="185" name=""/>
                <p:cNvGrpSpPr/>
                <p:nvPr/>
              </p:nvGrpSpPr>
              <p:grpSpPr>
                <a:xfrm>
                  <a:off x="5562720" y="2743200"/>
                  <a:ext cx="228600" cy="76320"/>
                  <a:chOff x="5562720" y="2743200"/>
                  <a:chExt cx="228600" cy="763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5562720" y="2743200"/>
                    <a:ext cx="7596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5715000" y="2743200"/>
                    <a:ext cx="763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5867280" y="2743200"/>
                  <a:ext cx="228600" cy="76320"/>
                  <a:chOff x="5867280" y="2743200"/>
                  <a:chExt cx="228600" cy="7632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5867280" y="2743200"/>
                    <a:ext cx="7596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019560" y="2743200"/>
                    <a:ext cx="763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1" name=""/>
              <p:cNvGrpSpPr/>
              <p:nvPr/>
            </p:nvGrpSpPr>
            <p:grpSpPr>
              <a:xfrm>
                <a:off x="6172200" y="2743200"/>
                <a:ext cx="533160" cy="76320"/>
                <a:chOff x="6172200" y="2743200"/>
                <a:chExt cx="533160" cy="7632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6172200" y="2743200"/>
                  <a:ext cx="228600" cy="76320"/>
                  <a:chOff x="6172200" y="2743200"/>
                  <a:chExt cx="228600" cy="7632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6172200" y="2743200"/>
                    <a:ext cx="7596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6324480" y="2743200"/>
                    <a:ext cx="763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6476760" y="2743200"/>
                  <a:ext cx="228600" cy="76320"/>
                  <a:chOff x="6476760" y="2743200"/>
                  <a:chExt cx="228600" cy="763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476760" y="2743200"/>
                    <a:ext cx="7596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629040" y="2743200"/>
                    <a:ext cx="763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8" name=""/>
            <p:cNvGrpSpPr/>
            <p:nvPr/>
          </p:nvGrpSpPr>
          <p:grpSpPr>
            <a:xfrm>
              <a:off x="0" y="4876920"/>
              <a:ext cx="4799880" cy="75960"/>
              <a:chOff x="0" y="4876920"/>
              <a:chExt cx="4799880" cy="7596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2438280" y="4876920"/>
                <a:ext cx="2361600" cy="75960"/>
                <a:chOff x="2438280" y="4876920"/>
                <a:chExt cx="2361600" cy="7596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2438280" y="4876920"/>
                  <a:ext cx="1142640" cy="75960"/>
                  <a:chOff x="2438280" y="4876920"/>
                  <a:chExt cx="1142640" cy="75960"/>
                </a:xfrm>
              </p:grpSpPr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2438280" y="4876920"/>
                    <a:ext cx="533160" cy="75960"/>
                    <a:chOff x="2438280" y="4876920"/>
                    <a:chExt cx="533160" cy="75960"/>
                  </a:xfrm>
                </p:grpSpPr>
                <p:grpSp>
                  <p:nvGrpSpPr>
                    <p:cNvPr id="202" name=""/>
                    <p:cNvGrpSpPr/>
                    <p:nvPr/>
                  </p:nvGrpSpPr>
                  <p:grpSpPr>
                    <a:xfrm>
                      <a:off x="2438280" y="4876920"/>
                      <a:ext cx="228600" cy="75960"/>
                      <a:chOff x="2438280" y="4876920"/>
                      <a:chExt cx="228600" cy="75960"/>
                    </a:xfrm>
                  </p:grpSpPr>
                  <p:sp>
                    <p:nvSpPr>
                      <p:cNvPr id="203" name=""/>
                      <p:cNvSpPr/>
                      <p:nvPr/>
                    </p:nvSpPr>
                    <p:spPr>
                      <a:xfrm>
                        <a:off x="243828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259056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5" name=""/>
                    <p:cNvGrpSpPr/>
                    <p:nvPr/>
                  </p:nvGrpSpPr>
                  <p:grpSpPr>
                    <a:xfrm>
                      <a:off x="2742840" y="4876920"/>
                      <a:ext cx="228600" cy="75960"/>
                      <a:chOff x="2742840" y="4876920"/>
                      <a:chExt cx="228600" cy="75960"/>
                    </a:xfrm>
                  </p:grpSpPr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274284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289512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3047760" y="4876920"/>
                    <a:ext cx="533160" cy="75960"/>
                    <a:chOff x="3047760" y="4876920"/>
                    <a:chExt cx="533160" cy="75960"/>
                  </a:xfrm>
                </p:grpSpPr>
                <p:grpSp>
                  <p:nvGrpSpPr>
                    <p:cNvPr id="209" name=""/>
                    <p:cNvGrpSpPr/>
                    <p:nvPr/>
                  </p:nvGrpSpPr>
                  <p:grpSpPr>
                    <a:xfrm>
                      <a:off x="3047760" y="4876920"/>
                      <a:ext cx="228600" cy="75960"/>
                      <a:chOff x="3047760" y="4876920"/>
                      <a:chExt cx="228600" cy="75960"/>
                    </a:xfrm>
                  </p:grpSpPr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304776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320004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2" name=""/>
                    <p:cNvGrpSpPr/>
                    <p:nvPr/>
                  </p:nvGrpSpPr>
                  <p:grpSpPr>
                    <a:xfrm>
                      <a:off x="3352320" y="4876920"/>
                      <a:ext cx="228600" cy="75960"/>
                      <a:chOff x="3352320" y="4876920"/>
                      <a:chExt cx="228600" cy="75960"/>
                    </a:xfrm>
                  </p:grpSpPr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335232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350460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3657240" y="4876920"/>
                  <a:ext cx="1142640" cy="75960"/>
                  <a:chOff x="3657240" y="4876920"/>
                  <a:chExt cx="1142640" cy="75960"/>
                </a:xfrm>
              </p:grpSpPr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3657240" y="4876920"/>
                    <a:ext cx="533160" cy="75960"/>
                    <a:chOff x="3657240" y="4876920"/>
                    <a:chExt cx="533160" cy="75960"/>
                  </a:xfrm>
                </p:grpSpPr>
                <p:grpSp>
                  <p:nvGrpSpPr>
                    <p:cNvPr id="217" name=""/>
                    <p:cNvGrpSpPr/>
                    <p:nvPr/>
                  </p:nvGrpSpPr>
                  <p:grpSpPr>
                    <a:xfrm>
                      <a:off x="3657240" y="4876920"/>
                      <a:ext cx="228600" cy="75960"/>
                      <a:chOff x="3657240" y="4876920"/>
                      <a:chExt cx="228600" cy="75960"/>
                    </a:xfrm>
                  </p:grpSpPr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365724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>
                        <a:off x="380952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3961800" y="4876920"/>
                      <a:ext cx="228600" cy="75960"/>
                      <a:chOff x="3961800" y="4876920"/>
                      <a:chExt cx="228600" cy="75960"/>
                    </a:xfrm>
                  </p:grpSpPr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396180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"/>
                      <p:cNvSpPr/>
                      <p:nvPr/>
                    </p:nvSpPr>
                    <p:spPr>
                      <a:xfrm>
                        <a:off x="411408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4266720" y="4876920"/>
                    <a:ext cx="533160" cy="75960"/>
                    <a:chOff x="4266720" y="4876920"/>
                    <a:chExt cx="533160" cy="75960"/>
                  </a:xfrm>
                </p:grpSpPr>
                <p:grpSp>
                  <p:nvGrpSpPr>
                    <p:cNvPr id="224" name=""/>
                    <p:cNvGrpSpPr/>
                    <p:nvPr/>
                  </p:nvGrpSpPr>
                  <p:grpSpPr>
                    <a:xfrm>
                      <a:off x="4266720" y="4876920"/>
                      <a:ext cx="228600" cy="75960"/>
                      <a:chOff x="4266720" y="4876920"/>
                      <a:chExt cx="228600" cy="75960"/>
                    </a:xfrm>
                  </p:grpSpPr>
                  <p:sp>
                    <p:nvSpPr>
                      <p:cNvPr id="225" name=""/>
                      <p:cNvSpPr/>
                      <p:nvPr/>
                    </p:nvSpPr>
                    <p:spPr>
                      <a:xfrm>
                        <a:off x="426672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" name=""/>
                      <p:cNvSpPr/>
                      <p:nvPr/>
                    </p:nvSpPr>
                    <p:spPr>
                      <a:xfrm>
                        <a:off x="441900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7" name=""/>
                    <p:cNvGrpSpPr/>
                    <p:nvPr/>
                  </p:nvGrpSpPr>
                  <p:grpSpPr>
                    <a:xfrm>
                      <a:off x="4571280" y="4876920"/>
                      <a:ext cx="228600" cy="75960"/>
                      <a:chOff x="4571280" y="4876920"/>
                      <a:chExt cx="228600" cy="75960"/>
                    </a:xfrm>
                  </p:grpSpPr>
                  <p:sp>
                    <p:nvSpPr>
                      <p:cNvPr id="228" name=""/>
                      <p:cNvSpPr/>
                      <p:nvPr/>
                    </p:nvSpPr>
                    <p:spPr>
                      <a:xfrm>
                        <a:off x="457128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" name=""/>
                      <p:cNvSpPr/>
                      <p:nvPr/>
                    </p:nvSpPr>
                    <p:spPr>
                      <a:xfrm>
                        <a:off x="472356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230" name=""/>
              <p:cNvGrpSpPr/>
              <p:nvPr/>
            </p:nvGrpSpPr>
            <p:grpSpPr>
              <a:xfrm>
                <a:off x="0" y="4876920"/>
                <a:ext cx="2361600" cy="75960"/>
                <a:chOff x="0" y="4876920"/>
                <a:chExt cx="2361600" cy="7596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0" y="4876920"/>
                  <a:ext cx="1142640" cy="75960"/>
                  <a:chOff x="0" y="4876920"/>
                  <a:chExt cx="1142640" cy="75960"/>
                </a:xfrm>
              </p:grpSpPr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0" y="4876920"/>
                    <a:ext cx="533160" cy="75960"/>
                    <a:chOff x="0" y="4876920"/>
                    <a:chExt cx="533160" cy="75960"/>
                  </a:xfrm>
                </p:grpSpPr>
                <p:grpSp>
                  <p:nvGrpSpPr>
                    <p:cNvPr id="233" name=""/>
                    <p:cNvGrpSpPr/>
                    <p:nvPr/>
                  </p:nvGrpSpPr>
                  <p:grpSpPr>
                    <a:xfrm>
                      <a:off x="0" y="4876920"/>
                      <a:ext cx="228600" cy="75960"/>
                      <a:chOff x="0" y="4876920"/>
                      <a:chExt cx="228600" cy="75960"/>
                    </a:xfrm>
                  </p:grpSpPr>
                  <p:sp>
                    <p:nvSpPr>
                      <p:cNvPr id="234" name=""/>
                      <p:cNvSpPr/>
                      <p:nvPr/>
                    </p:nvSpPr>
                    <p:spPr>
                      <a:xfrm>
                        <a:off x="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5" name=""/>
                      <p:cNvSpPr/>
                      <p:nvPr/>
                    </p:nvSpPr>
                    <p:spPr>
                      <a:xfrm>
                        <a:off x="15228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6" name=""/>
                    <p:cNvGrpSpPr/>
                    <p:nvPr/>
                  </p:nvGrpSpPr>
                  <p:grpSpPr>
                    <a:xfrm>
                      <a:off x="304560" y="4876920"/>
                      <a:ext cx="228600" cy="75960"/>
                      <a:chOff x="304560" y="4876920"/>
                      <a:chExt cx="228600" cy="75960"/>
                    </a:xfrm>
                  </p:grpSpPr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30456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45684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609480" y="4876920"/>
                    <a:ext cx="533160" cy="75960"/>
                    <a:chOff x="609480" y="4876920"/>
                    <a:chExt cx="533160" cy="75960"/>
                  </a:xfrm>
                </p:grpSpPr>
                <p:grpSp>
                  <p:nvGrpSpPr>
                    <p:cNvPr id="240" name=""/>
                    <p:cNvGrpSpPr/>
                    <p:nvPr/>
                  </p:nvGrpSpPr>
                  <p:grpSpPr>
                    <a:xfrm>
                      <a:off x="609480" y="4876920"/>
                      <a:ext cx="228600" cy="75960"/>
                      <a:chOff x="609480" y="4876920"/>
                      <a:chExt cx="228600" cy="75960"/>
                    </a:xfrm>
                  </p:grpSpPr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60948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" name=""/>
                      <p:cNvSpPr/>
                      <p:nvPr/>
                    </p:nvSpPr>
                    <p:spPr>
                      <a:xfrm>
                        <a:off x="76176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3" name=""/>
                    <p:cNvGrpSpPr/>
                    <p:nvPr/>
                  </p:nvGrpSpPr>
                  <p:grpSpPr>
                    <a:xfrm>
                      <a:off x="914040" y="4876920"/>
                      <a:ext cx="228600" cy="75960"/>
                      <a:chOff x="914040" y="4876920"/>
                      <a:chExt cx="228600" cy="75960"/>
                    </a:xfrm>
                  </p:grpSpPr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91404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>
                        <a:off x="106632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1218960" y="4876920"/>
                  <a:ext cx="1142640" cy="75960"/>
                  <a:chOff x="1218960" y="4876920"/>
                  <a:chExt cx="1142640" cy="75960"/>
                </a:xfrm>
              </p:grpSpPr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1218960" y="4876920"/>
                    <a:ext cx="533160" cy="75960"/>
                    <a:chOff x="1218960" y="4876920"/>
                    <a:chExt cx="533160" cy="75960"/>
                  </a:xfrm>
                </p:grpSpPr>
                <p:grpSp>
                  <p:nvGrpSpPr>
                    <p:cNvPr id="248" name=""/>
                    <p:cNvGrpSpPr/>
                    <p:nvPr/>
                  </p:nvGrpSpPr>
                  <p:grpSpPr>
                    <a:xfrm>
                      <a:off x="1218960" y="4876920"/>
                      <a:ext cx="228600" cy="75960"/>
                      <a:chOff x="1218960" y="4876920"/>
                      <a:chExt cx="228600" cy="75960"/>
                    </a:xfrm>
                  </p:grpSpPr>
                  <p:sp>
                    <p:nvSpPr>
                      <p:cNvPr id="249" name=""/>
                      <p:cNvSpPr/>
                      <p:nvPr/>
                    </p:nvSpPr>
                    <p:spPr>
                      <a:xfrm>
                        <a:off x="121896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137124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1" name=""/>
                    <p:cNvGrpSpPr/>
                    <p:nvPr/>
                  </p:nvGrpSpPr>
                  <p:grpSpPr>
                    <a:xfrm>
                      <a:off x="1523520" y="4876920"/>
                      <a:ext cx="228600" cy="75960"/>
                      <a:chOff x="1523520" y="4876920"/>
                      <a:chExt cx="228600" cy="75960"/>
                    </a:xfrm>
                  </p:grpSpPr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152352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167580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1828440" y="4876920"/>
                    <a:ext cx="533160" cy="75960"/>
                    <a:chOff x="1828440" y="4876920"/>
                    <a:chExt cx="533160" cy="75960"/>
                  </a:xfrm>
                </p:grpSpPr>
                <p:grpSp>
                  <p:nvGrpSpPr>
                    <p:cNvPr id="255" name=""/>
                    <p:cNvGrpSpPr/>
                    <p:nvPr/>
                  </p:nvGrpSpPr>
                  <p:grpSpPr>
                    <a:xfrm>
                      <a:off x="1828440" y="4876920"/>
                      <a:ext cx="228600" cy="75960"/>
                      <a:chOff x="1828440" y="4876920"/>
                      <a:chExt cx="228600" cy="75960"/>
                    </a:xfrm>
                  </p:grpSpPr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182844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198072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2133000" y="4876920"/>
                      <a:ext cx="228600" cy="75960"/>
                      <a:chOff x="2133000" y="4876920"/>
                      <a:chExt cx="228600" cy="7596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2133000" y="4876920"/>
                        <a:ext cx="7596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2285280" y="4876920"/>
                        <a:ext cx="76320" cy="75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261" name=""/>
            <p:cNvGrpSpPr/>
            <p:nvPr/>
          </p:nvGrpSpPr>
          <p:grpSpPr>
            <a:xfrm>
              <a:off x="6705720" y="4876920"/>
              <a:ext cx="2361600" cy="75960"/>
              <a:chOff x="6705720" y="4876920"/>
              <a:chExt cx="2361600" cy="7596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6705720" y="4876920"/>
                <a:ext cx="1142640" cy="75960"/>
                <a:chOff x="6705720" y="4876920"/>
                <a:chExt cx="1142640" cy="7596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6705720" y="4876920"/>
                  <a:ext cx="533160" cy="75960"/>
                  <a:chOff x="6705720" y="4876920"/>
                  <a:chExt cx="533160" cy="75960"/>
                </a:xfrm>
              </p:grpSpPr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6705720" y="4876920"/>
                    <a:ext cx="228600" cy="75960"/>
                    <a:chOff x="6705720" y="4876920"/>
                    <a:chExt cx="228600" cy="7596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705720" y="48769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858000" y="48769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010280" y="4876920"/>
                    <a:ext cx="228600" cy="75960"/>
                    <a:chOff x="7010280" y="4876920"/>
                    <a:chExt cx="228600" cy="759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010280" y="48769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7162560" y="48769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7315200" y="4876920"/>
                  <a:ext cx="533160" cy="75960"/>
                  <a:chOff x="7315200" y="4876920"/>
                  <a:chExt cx="533160" cy="75960"/>
                </a:xfrm>
              </p:grpSpPr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7315200" y="4876920"/>
                    <a:ext cx="228600" cy="75960"/>
                    <a:chOff x="7315200" y="4876920"/>
                    <a:chExt cx="228600" cy="7596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315200" y="48769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7467480" y="48769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7619760" y="4876920"/>
                    <a:ext cx="228600" cy="75960"/>
                    <a:chOff x="7619760" y="4876920"/>
                    <a:chExt cx="228600" cy="7596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19760" y="48769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7772040" y="48769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7924680" y="4876920"/>
                <a:ext cx="1142640" cy="75960"/>
                <a:chOff x="7924680" y="4876920"/>
                <a:chExt cx="1142640" cy="7596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7924680" y="4876920"/>
                  <a:ext cx="533160" cy="75960"/>
                  <a:chOff x="7924680" y="4876920"/>
                  <a:chExt cx="533160" cy="75960"/>
                </a:xfrm>
              </p:grpSpPr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7924680" y="4876920"/>
                    <a:ext cx="228600" cy="75960"/>
                    <a:chOff x="7924680" y="4876920"/>
                    <a:chExt cx="228600" cy="7596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924680" y="48769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8076960" y="48769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8229240" y="4876920"/>
                    <a:ext cx="228600" cy="75960"/>
                    <a:chOff x="8229240" y="4876920"/>
                    <a:chExt cx="228600" cy="7596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229240" y="48769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381520" y="48769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8534160" y="4876920"/>
                  <a:ext cx="533160" cy="75960"/>
                  <a:chOff x="8534160" y="4876920"/>
                  <a:chExt cx="533160" cy="75960"/>
                </a:xfrm>
              </p:grpSpPr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8534160" y="4876920"/>
                    <a:ext cx="228600" cy="75960"/>
                    <a:chOff x="8534160" y="4876920"/>
                    <a:chExt cx="228600" cy="7596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534160" y="48769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686440" y="48769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8838720" y="4876920"/>
                    <a:ext cx="228600" cy="75960"/>
                    <a:chOff x="8838720" y="4876920"/>
                    <a:chExt cx="228600" cy="7596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8838720" y="4876920"/>
                      <a:ext cx="7596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991000" y="4876920"/>
                      <a:ext cx="763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92" name=""/>
            <p:cNvGrpSpPr/>
            <p:nvPr/>
          </p:nvGrpSpPr>
          <p:grpSpPr>
            <a:xfrm>
              <a:off x="4876920" y="4876920"/>
              <a:ext cx="533160" cy="75960"/>
              <a:chOff x="4876920" y="4876920"/>
              <a:chExt cx="533160" cy="7596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4876920" y="4876920"/>
                <a:ext cx="228600" cy="75960"/>
                <a:chOff x="4876920" y="4876920"/>
                <a:chExt cx="228600" cy="759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876920" y="4876920"/>
                  <a:ext cx="75960" cy="75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029200" y="4876920"/>
                  <a:ext cx="76320" cy="75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5181480" y="4876920"/>
                <a:ext cx="228600" cy="75960"/>
                <a:chOff x="5181480" y="4876920"/>
                <a:chExt cx="228600" cy="759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181480" y="4876920"/>
                  <a:ext cx="75960" cy="75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333760" y="4876920"/>
                  <a:ext cx="76320" cy="75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9" name=""/>
            <p:cNvGrpSpPr/>
            <p:nvPr/>
          </p:nvGrpSpPr>
          <p:grpSpPr>
            <a:xfrm>
              <a:off x="5486400" y="4876920"/>
              <a:ext cx="1142640" cy="75960"/>
              <a:chOff x="5486400" y="4876920"/>
              <a:chExt cx="1142640" cy="7596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5486400" y="4876920"/>
                <a:ext cx="533160" cy="75960"/>
                <a:chOff x="5486400" y="4876920"/>
                <a:chExt cx="533160" cy="75960"/>
              </a:xfrm>
            </p:grpSpPr>
            <p:grpSp>
              <p:nvGrpSpPr>
                <p:cNvPr id="301" name=""/>
                <p:cNvGrpSpPr/>
                <p:nvPr/>
              </p:nvGrpSpPr>
              <p:grpSpPr>
                <a:xfrm>
                  <a:off x="5486400" y="4876920"/>
                  <a:ext cx="228600" cy="75960"/>
                  <a:chOff x="5486400" y="4876920"/>
                  <a:chExt cx="228600" cy="7596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5486400" y="4876920"/>
                    <a:ext cx="7596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5638680" y="4876920"/>
                    <a:ext cx="763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5790960" y="4876920"/>
                  <a:ext cx="228600" cy="75960"/>
                  <a:chOff x="5790960" y="4876920"/>
                  <a:chExt cx="228600" cy="7596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5790960" y="4876920"/>
                    <a:ext cx="7596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5943240" y="4876920"/>
                    <a:ext cx="763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7" name=""/>
              <p:cNvGrpSpPr/>
              <p:nvPr/>
            </p:nvGrpSpPr>
            <p:grpSpPr>
              <a:xfrm>
                <a:off x="6095880" y="4876920"/>
                <a:ext cx="533160" cy="75960"/>
                <a:chOff x="6095880" y="4876920"/>
                <a:chExt cx="533160" cy="75960"/>
              </a:xfrm>
            </p:grpSpPr>
            <p:grpSp>
              <p:nvGrpSpPr>
                <p:cNvPr id="308" name=""/>
                <p:cNvGrpSpPr/>
                <p:nvPr/>
              </p:nvGrpSpPr>
              <p:grpSpPr>
                <a:xfrm>
                  <a:off x="6095880" y="4876920"/>
                  <a:ext cx="228600" cy="75960"/>
                  <a:chOff x="6095880" y="4876920"/>
                  <a:chExt cx="228600" cy="7596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6095880" y="4876920"/>
                    <a:ext cx="7596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6248160" y="4876920"/>
                    <a:ext cx="763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6400440" y="4876920"/>
                  <a:ext cx="228600" cy="75960"/>
                  <a:chOff x="6400440" y="4876920"/>
                  <a:chExt cx="228600" cy="75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6400440" y="4876920"/>
                    <a:ext cx="7596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6552720" y="4876920"/>
                    <a:ext cx="763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314" name="man_looking_watch" descr=""/>
            <p:cNvPicPr/>
            <p:nvPr/>
          </p:nvPicPr>
          <p:blipFill>
            <a:blip r:embed="rId1"/>
            <a:stretch/>
          </p:blipFill>
          <p:spPr>
            <a:xfrm>
              <a:off x="0" y="2895480"/>
              <a:ext cx="2590920" cy="19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mtr01" descr=""/>
            <p:cNvPicPr/>
            <p:nvPr/>
          </p:nvPicPr>
          <p:blipFill>
            <a:blip r:embed="rId2"/>
            <a:stretch/>
          </p:blipFill>
          <p:spPr>
            <a:xfrm>
              <a:off x="2743200" y="2895480"/>
              <a:ext cx="3276720" cy="19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executives_lunch" descr=""/>
            <p:cNvPicPr/>
            <p:nvPr/>
          </p:nvPicPr>
          <p:blipFill>
            <a:blip r:embed="rId3"/>
            <a:stretch/>
          </p:blipFill>
          <p:spPr>
            <a:xfrm>
              <a:off x="6176880" y="2895480"/>
              <a:ext cx="2967120" cy="194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自備午餐白領建議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少選雞翼，或可選雞膇仔；雞肉要去皮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把肉類切成肉絲、肉粒、加入適量蔬菜作配菜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多帶水果作飯後甜品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按健康食物比例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健康早餐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/</a:t>
            </a: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午餐食物比例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57200" y="1270080"/>
            <a:ext cx="8029440" cy="5435280"/>
            <a:chOff x="457200" y="1270080"/>
            <a:chExt cx="8029440" cy="5435280"/>
          </a:xfrm>
        </p:grpSpPr>
        <p:grpSp>
          <p:nvGrpSpPr>
            <p:cNvPr id="342" name=""/>
            <p:cNvGrpSpPr/>
            <p:nvPr/>
          </p:nvGrpSpPr>
          <p:grpSpPr>
            <a:xfrm>
              <a:off x="1905120" y="1720800"/>
              <a:ext cx="5409720" cy="4984560"/>
              <a:chOff x="1905120" y="1720800"/>
              <a:chExt cx="5409720" cy="4984560"/>
            </a:xfrm>
          </p:grpSpPr>
          <p:sp>
            <p:nvSpPr>
              <p:cNvPr id="343" name=""/>
              <p:cNvSpPr/>
              <p:nvPr/>
            </p:nvSpPr>
            <p:spPr>
              <a:xfrm>
                <a:off x="1905120" y="1720800"/>
                <a:ext cx="5409720" cy="4984560"/>
              </a:xfrm>
              <a:prstGeom prst="ellipse">
                <a:avLst/>
              </a:prstGeom>
              <a:solidFill>
                <a:srgbClr val="e7b1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556880" y="1720800"/>
                <a:ext cx="0" cy="498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4556880" y="2356920"/>
                <a:ext cx="1802880" cy="20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2895480" y="49528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½ </a:t>
              </a:r>
              <a:r>
                <a:rPr b="1" lang="zh-TW" sz="24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五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72000" y="42670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1/3 </a:t>
              </a:r>
              <a:r>
                <a:rPr b="1" lang="zh-TW" sz="24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蔬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72000" y="274320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1/6 </a:t>
              </a:r>
              <a:r>
                <a:rPr b="1" lang="zh-TW" sz="24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肉類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9" name="meat" descr=""/>
            <p:cNvPicPr/>
            <p:nvPr/>
          </p:nvPicPr>
          <p:blipFill>
            <a:blip r:embed="rId1"/>
            <a:stretch/>
          </p:blipFill>
          <p:spPr>
            <a:xfrm>
              <a:off x="4419720" y="1270080"/>
              <a:ext cx="2522520" cy="166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vegetable" descr=""/>
            <p:cNvPicPr/>
            <p:nvPr/>
          </p:nvPicPr>
          <p:blipFill>
            <a:blip r:embed="rId2"/>
            <a:stretch/>
          </p:blipFill>
          <p:spPr>
            <a:xfrm>
              <a:off x="5486400" y="2895480"/>
              <a:ext cx="3000240" cy="335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wheat" descr=""/>
            <p:cNvPicPr/>
            <p:nvPr/>
          </p:nvPicPr>
          <p:blipFill>
            <a:blip r:embed="rId3"/>
            <a:stretch/>
          </p:blipFill>
          <p:spPr>
            <a:xfrm>
              <a:off x="457200" y="2257560"/>
              <a:ext cx="4191120" cy="2771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對茶餐廳的煮食建議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餐牌內提供「健康選擇」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烹調肉類以「飛水」取代「拉油」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免「尾油」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減少使用動物脂肪，如牛油；由客人自行塗上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增加蔬菜份量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如客人要求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提供「低脂淡奶」或「低脂奶」用於飲品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少油烹調方法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家中煮食建議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肉類切膏，雞肉去皮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使用脫脂或低脂奶類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湯水隔去湯面油份；使用去皮雞或瘦肉煲湯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多用蒸、煮、燜等低脂煮食方法；運用易潔鑊煮食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雞蛋每星期進食少於三隻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煮食購買材料跟隨健康比例：五穀 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&gt; 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蔬果 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&gt; 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肉類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多使用降膽固醇的食物作材料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水果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蔬菜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燕麥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健康早餐例子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62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 u="sng">
                <a:solidFill>
                  <a:srgbClr val="000000"/>
                </a:solidFill>
                <a:uFillTx/>
                <a:latin typeface="CG Omega"/>
                <a:ea typeface="PMingLiU"/>
              </a:rPr>
              <a:t>家中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低脂芝士三文治 </a:t>
            </a:r>
            <a:r>
              <a:rPr b="0" lang="zh-TW" sz="2000" spc="-1" strike="noStrike">
                <a:solidFill>
                  <a:srgbClr val="ff0066"/>
                </a:solidFill>
                <a:latin typeface="CG Omega"/>
                <a:ea typeface="PMingLiU"/>
              </a:rPr>
              <a:t>(</a:t>
            </a:r>
            <a:r>
              <a:rPr b="0" lang="zh-TW" sz="2000" spc="-1" strike="noStrike">
                <a:solidFill>
                  <a:srgbClr val="ff0066"/>
                </a:solidFill>
                <a:latin typeface="CG Omega"/>
                <a:ea typeface="PMingLiU"/>
              </a:rPr>
              <a:t>麥包，少許軟身植物牛油</a:t>
            </a:r>
            <a:r>
              <a:rPr b="0" lang="zh-TW" sz="2000" spc="-1" strike="noStrike">
                <a:solidFill>
                  <a:srgbClr val="ff0066"/>
                </a:solidFill>
                <a:latin typeface="CG Omega"/>
                <a:ea typeface="PMingLiU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 +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鮮果汁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瘦肉菜糙米粉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+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清茶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牛奶麥皮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+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麥包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瘦肉燕麥粥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+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豆漿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3962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000000"/>
                </a:solidFill>
                <a:uFillTx/>
                <a:latin typeface="CG Omega"/>
                <a:ea typeface="PMingLiU"/>
              </a:rPr>
              <a:t>茶餐廳 </a:t>
            </a:r>
            <a:r>
              <a:rPr b="1" lang="zh-TW" sz="2000" spc="-1" strike="noStrike" u="sng">
                <a:solidFill>
                  <a:srgbClr val="000000"/>
                </a:solidFill>
                <a:uFillTx/>
                <a:latin typeface="CG Omega"/>
                <a:ea typeface="PMingLiU"/>
              </a:rPr>
              <a:t>/ </a:t>
            </a:r>
            <a:r>
              <a:rPr b="1" lang="zh-TW" sz="2000" spc="-1" strike="noStrike" u="sng">
                <a:solidFill>
                  <a:srgbClr val="000000"/>
                </a:solidFill>
                <a:uFillTx/>
                <a:latin typeface="CG Omega"/>
                <a:ea typeface="PMingLiU"/>
              </a:rPr>
              <a:t>快餐店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冬菇粟米粥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+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蒸腸粉 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(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走油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冬菇雞絲米粉 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+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麥方包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自行塗植物牛油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) +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熱奶茶 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(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少奶 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/ 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用低脂奶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火腿蛋三文治 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(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烚蛋，麥包；免牛油 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/ 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少植物牛油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火腿雜菜通粉 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+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熱咖啡 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(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少奶 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/ 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用低脂奶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62485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 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* 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對茶餐廳建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" y="63244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66"/>
                </a:solidFill>
                <a:latin typeface="CG Omega"/>
                <a:ea typeface="PMingLiU"/>
              </a:rPr>
              <a:t> </a:t>
            </a:r>
            <a:r>
              <a:rPr b="0" lang="zh-TW" sz="2000" spc="-1" strike="noStrike">
                <a:solidFill>
                  <a:srgbClr val="ff0066"/>
                </a:solidFill>
                <a:latin typeface="CG Omega"/>
                <a:ea typeface="PMingLiU"/>
              </a:rPr>
              <a:t>* </a:t>
            </a:r>
            <a:r>
              <a:rPr b="0" lang="zh-TW" sz="2000" spc="-1" strike="noStrike">
                <a:solidFill>
                  <a:srgbClr val="ff0066"/>
                </a:solidFill>
                <a:latin typeface="CG Omega"/>
                <a:ea typeface="PMingLiU"/>
              </a:rPr>
              <a:t>家中高纖低脂建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健康午餐例子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62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000000"/>
                </a:solidFill>
                <a:uFillTx/>
                <a:latin typeface="CG Omega"/>
                <a:ea typeface="PMingLiU"/>
              </a:rPr>
              <a:t>自備飯盒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高纖肉醬意粉 </a:t>
            </a:r>
            <a:r>
              <a:rPr b="0" lang="zh-TW" sz="2000" spc="-1" strike="noStrike">
                <a:solidFill>
                  <a:srgbClr val="ff0066"/>
                </a:solidFill>
                <a:latin typeface="CG Omega"/>
                <a:ea typeface="PMingLiU"/>
              </a:rPr>
              <a:t>(</a:t>
            </a:r>
            <a:r>
              <a:rPr b="0" lang="zh-TW" sz="2000" spc="-1" strike="noStrike">
                <a:solidFill>
                  <a:srgbClr val="ff0066"/>
                </a:solidFill>
                <a:latin typeface="CG Omega"/>
                <a:ea typeface="PMingLiU"/>
              </a:rPr>
              <a:t>加蘑菇 </a:t>
            </a:r>
            <a:r>
              <a:rPr b="0" lang="zh-TW" sz="2000" spc="-1" strike="noStrike">
                <a:solidFill>
                  <a:srgbClr val="ff0066"/>
                </a:solidFill>
                <a:latin typeface="CG Omega"/>
                <a:ea typeface="PMingLiU"/>
              </a:rPr>
              <a:t>+ </a:t>
            </a:r>
            <a:r>
              <a:rPr b="0" lang="zh-TW" sz="2000" spc="-1" strike="noStrike">
                <a:solidFill>
                  <a:srgbClr val="ff0066"/>
                </a:solidFill>
                <a:latin typeface="CG Omega"/>
                <a:ea typeface="PMingLiU"/>
              </a:rPr>
              <a:t>紅腰豆 </a:t>
            </a:r>
            <a:r>
              <a:rPr b="0" lang="zh-TW" sz="2000" spc="-1" strike="noStrike">
                <a:solidFill>
                  <a:srgbClr val="ff0066"/>
                </a:solidFill>
                <a:latin typeface="CG Omega"/>
                <a:ea typeface="PMingLiU"/>
              </a:rPr>
              <a:t>+ </a:t>
            </a:r>
            <a:r>
              <a:rPr b="0" lang="zh-TW" sz="2000" spc="-1" strike="noStrike">
                <a:solidFill>
                  <a:srgbClr val="ff0066"/>
                </a:solidFill>
                <a:latin typeface="CG Omega"/>
                <a:ea typeface="PMingLiU"/>
              </a:rPr>
              <a:t>燕麥</a:t>
            </a:r>
            <a:r>
              <a:rPr b="0" lang="zh-TW" sz="2000" spc="-1" strike="noStrike">
                <a:solidFill>
                  <a:srgbClr val="ff0066"/>
                </a:solidFill>
                <a:latin typeface="CG Omega"/>
                <a:ea typeface="PMingLiU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 +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雜菜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冬菇炆雞膇仔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+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西蘭花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+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糙米飯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冬筍絲冬菇炒豆乾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+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灼菜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+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糙米飯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3962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000000"/>
                </a:solidFill>
                <a:uFillTx/>
                <a:latin typeface="CG Omega"/>
                <a:ea typeface="PMingLiU"/>
              </a:rPr>
              <a:t>茶餐廳 </a:t>
            </a:r>
            <a:r>
              <a:rPr b="1" lang="zh-TW" sz="2000" spc="-1" strike="noStrike" u="sng">
                <a:solidFill>
                  <a:srgbClr val="000000"/>
                </a:solidFill>
                <a:uFillTx/>
                <a:latin typeface="CG Omega"/>
                <a:ea typeface="PMingLiU"/>
              </a:rPr>
              <a:t>/ </a:t>
            </a:r>
            <a:r>
              <a:rPr b="1" lang="zh-TW" sz="2000" spc="-1" strike="noStrike" u="sng">
                <a:solidFill>
                  <a:srgbClr val="000000"/>
                </a:solidFill>
                <a:uFillTx/>
                <a:latin typeface="CG Omega"/>
                <a:ea typeface="PMingLiU"/>
              </a:rPr>
              <a:t>快餐店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瘦叉燒飯 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+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油菜 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(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走油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日式叉燒拉麵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+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雜菜沙律 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(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醋汁 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/ 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低脂沙律醬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 +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綠茶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瘦肉粥 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+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油菜 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(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走油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番茄肉鬆炒飯 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(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少油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4" name=""/>
          <p:cNvSpPr/>
          <p:nvPr/>
        </p:nvSpPr>
        <p:spPr>
          <a:xfrm>
            <a:off x="4800600" y="60958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 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* </a:t>
            </a:r>
            <a:r>
              <a:rPr b="0" lang="zh-TW" sz="2000" spc="-1" strike="noStrike">
                <a:solidFill>
                  <a:srgbClr val="3333cc"/>
                </a:solidFill>
                <a:latin typeface="CG Omega"/>
                <a:ea typeface="PMingLiU"/>
              </a:rPr>
              <a:t>對茶餐廳建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60958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66"/>
                </a:solidFill>
                <a:latin typeface="CG Omega"/>
                <a:ea typeface="PMingLiU"/>
              </a:rPr>
              <a:t> </a:t>
            </a:r>
            <a:r>
              <a:rPr b="0" lang="zh-TW" sz="2000" spc="-1" strike="noStrike">
                <a:solidFill>
                  <a:srgbClr val="ff0066"/>
                </a:solidFill>
                <a:latin typeface="CG Omega"/>
                <a:ea typeface="PMingLiU"/>
              </a:rPr>
              <a:t>* </a:t>
            </a:r>
            <a:r>
              <a:rPr b="0" lang="zh-TW" sz="2000" spc="-1" strike="noStrike">
                <a:solidFill>
                  <a:srgbClr val="ff0066"/>
                </a:solidFill>
                <a:latin typeface="CG Omega"/>
                <a:ea typeface="PMingLiU"/>
              </a:rPr>
              <a:t>家中高纖低脂建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8a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PMingLiU"/>
                <a:ea typeface="PMingLiU"/>
              </a:rPr>
              <a:t>完</a:t>
            </a:r>
            <a:endParaRPr b="1" lang="en-US" sz="44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香港白領人士對飲食健康有訴求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憂慮長期在外飲食會產生高膽固醇及肥胖問題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6 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成認為外出飲食健康選擇不足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食肆可提供健康食物，尤其是茶餐廳及快餐店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飲食缺乏健康選擇影響心臟健康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以有餡麵包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如香腸包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，三文治，餐肉，煎蛋等做早餐，及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高脂肉類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排骨、牛腩、雞翼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做午餐，均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含高飽和脂肪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令膽固醇上升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如長期進食除會肥胖外，更會增加患心臟病，高血壓，糖尿病的機會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此外，大部分食物選擇均為低纖食物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香港白領人士普遍少做運動，如經常進食高脂低纖食物，肥胖和高膽固醇的危機大大增加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白領女性 – 個案分析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22" name=""/>
          <p:cNvSpPr/>
          <p:nvPr/>
        </p:nvSpPr>
        <p:spPr>
          <a:xfrm>
            <a:off x="990720" y="129528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人物：陳小姐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工作：秘書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運動量：甚少身高 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/ 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體重：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158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厘米 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/ 55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公斤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熱量需要：約 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1,650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卡路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143000" y="2057400"/>
          <a:ext cx="6553080" cy="4381560"/>
        </p:xfrm>
        <a:graphic>
          <a:graphicData uri="http://schemas.openxmlformats.org/drawingml/2006/table">
            <a:tbl>
              <a:tblPr/>
              <a:tblGrid>
                <a:gridCol w="2355840"/>
                <a:gridCol w="419724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餐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早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火腿通粉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牛油方包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熱奶茶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午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咖喱牛腩飯 大半碟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咖啡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早餐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+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午餐 營養分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熱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~ 1208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卡路里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佔全日需要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7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總脂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   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飽和脂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52.2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克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佔全日需要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9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22.8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克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佔全日需要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3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膽固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43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毫克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佔全日需要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4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纖維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3.9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克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佔全日需要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白領男性 – 個案分析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1143000"/>
            <a:ext cx="716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人物：陳先生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工作：行政主任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運動量：甚少運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身高 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/ 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體重：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168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厘米 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/ 81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公斤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熱量需要：約 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2,025</a:t>
            </a:r>
            <a:r>
              <a:rPr b="0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卡路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19320" y="1981080"/>
          <a:ext cx="6553080" cy="4711680"/>
        </p:xfrm>
        <a:graphic>
          <a:graphicData uri="http://schemas.openxmlformats.org/drawingml/2006/table">
            <a:tbl>
              <a:tblPr/>
              <a:tblGrid>
                <a:gridCol w="2355840"/>
                <a:gridCol w="419724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餐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早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餐肉公仔麵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腸仔煎蛋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牛油方包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咖啡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午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炸豬排意粉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咖啡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早餐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+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午餐 營養分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熱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~ 1752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卡路里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佔全日需要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8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脂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飽和脂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77.3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克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佔全日需要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1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24.4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克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佔全日需要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0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膽固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369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毫克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佔全日需要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2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纖維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8.7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克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佔全日需要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3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如何吃得健康和便宜？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有營養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 健康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過量營養是引起常見健康問題的原因之一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要吃得健康，毋需高昂花費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於日常早餐及午餐多進食功能食品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功能食品例子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番茄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預防前列腺癌症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西蘭花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預防結腸癌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低脂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脫脂奶類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預防骨質疏鬆症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燕麥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預防心臟病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功能食品的例子 – 燕麥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研究証實具預防心臟病的功效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科學原理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燕麥水溶纖維﹝</a:t>
            </a: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Beta-glucan﹞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在腸道內與含膽固醇的膽汁酸結合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膽固醇不被循環「回收」再用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血液膽固醇下降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有效份量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每天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3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克燕麥水溶纖維，約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70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克燕麥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333" name="pic1" descr=""/>
          <p:cNvPicPr/>
          <p:nvPr/>
        </p:nvPicPr>
        <p:blipFill>
          <a:blip r:embed="rId8"/>
          <a:stretch/>
        </p:blipFill>
        <p:spPr>
          <a:xfrm>
            <a:off x="6858000" y="1600200"/>
            <a:ext cx="2058840" cy="1590840"/>
          </a:xfrm>
          <a:prstGeom prst="rect">
            <a:avLst/>
          </a:prstGeom>
          <a:ln w="0">
            <a:noFill/>
          </a:ln>
        </p:spPr>
      </p:pic>
      <p:pic>
        <p:nvPicPr>
          <p:cNvPr id="334" name="pic2" descr=""/>
          <p:cNvPicPr/>
          <p:nvPr/>
        </p:nvPicPr>
        <p:blipFill>
          <a:blip r:embed="rId9"/>
          <a:stretch/>
        </p:blipFill>
        <p:spPr>
          <a:xfrm>
            <a:off x="6858000" y="3352680"/>
            <a:ext cx="2057400" cy="1498680"/>
          </a:xfrm>
          <a:prstGeom prst="rect">
            <a:avLst/>
          </a:prstGeom>
          <a:ln w="0">
            <a:noFill/>
          </a:ln>
        </p:spPr>
      </p:pic>
      <p:pic>
        <p:nvPicPr>
          <p:cNvPr id="335" name="pic3" descr=""/>
          <p:cNvPicPr/>
          <p:nvPr/>
        </p:nvPicPr>
        <p:blipFill>
          <a:blip r:embed="rId10"/>
          <a:stretch/>
        </p:blipFill>
        <p:spPr>
          <a:xfrm>
            <a:off x="6858000" y="5005440"/>
            <a:ext cx="2057400" cy="14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c8a5b"/>
                </a:solidFill>
                <a:latin typeface="CG Omega"/>
                <a:ea typeface="PMingLiU"/>
              </a:rPr>
              <a:t>健康早餐選擇</a:t>
            </a:r>
            <a:endParaRPr b="1" lang="en-US" sz="4000" spc="-1" strike="noStrike">
              <a:solidFill>
                <a:srgbClr val="2c8a5b"/>
              </a:solidFill>
              <a:latin typeface="CG Omeg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選擇符合低脂高纖的早餐食品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低脂 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35480" indent="-28296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預防肥胖及高膽固醇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高纖 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35480" indent="-28296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促進腸胃暢通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35480" indent="-28296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提供飽感，控制食量；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35480" indent="-28296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水溶性纖維有效降低膽固醇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燕麥、麥包、水果、紅米粥、糙米粉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2:22:46Z</dcterms:created>
  <dc:creator>Grey Worldwide</dc:creator>
  <dc:description/>
  <dc:language>en-US</dc:language>
  <cp:lastModifiedBy>HKUPOP</cp:lastModifiedBy>
  <dcterms:modified xsi:type="dcterms:W3CDTF">2003-06-26T08:33:31Z</dcterms:modified>
  <cp:revision>482</cp:revision>
  <dc:subject/>
  <dc:title>PowerPoint Presentation</dc:title>
</cp:coreProperties>
</file>