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8.wmf" ContentType="image/x-wmf"/>
  <Override PartName="/ppt/media/image33.wmf" ContentType="image/x-wmf"/>
  <Override PartName="/ppt/media/image13.wmf" ContentType="image/x-wmf"/>
  <Override PartName="/ppt/media/image3.png" ContentType="image/png"/>
  <Override PartName="/ppt/media/image2.png" ContentType="image/png"/>
  <Override PartName="/ppt/media/image10.wmf" ContentType="image/x-wmf"/>
  <Override PartName="/ppt/media/image30.wmf" ContentType="image/x-wmf"/>
  <Override PartName="/ppt/media/image28.wmf" ContentType="image/x-wmf"/>
  <Override PartName="/ppt/media/image32.wmf" ContentType="image/x-wmf"/>
  <Override PartName="/ppt/media/image31.wmf" ContentType="image/x-wmf"/>
  <Override PartName="/ppt/media/image7.jpeg" ContentType="image/jpeg"/>
  <Override PartName="/ppt/media/image34.wmf" ContentType="image/x-wmf"/>
  <Override PartName="/ppt/media/image9.wmf" ContentType="image/x-wmf"/>
  <Override PartName="/ppt/media/image35.wmf" ContentType="image/x-wmf"/>
  <Override PartName="/ppt/media/image36.wmf" ContentType="image/x-wmf"/>
  <Override PartName="/ppt/media/image12.wmf" ContentType="image/x-wmf"/>
  <Override PartName="/ppt/media/image4.png" ContentType="image/png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a5b"/>
                </a:solidFill>
                <a:latin typeface="CG Omega"/>
              </a:rPr>
              <a:t>Click to edit the title text format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904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8a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G Omeg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G Omeg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CG Omeg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CG Omeg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G Omeg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G Omeg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G Omeg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G Omeg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G Omeg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8a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380880"/>
            <a:ext cx="457200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PMingLiU"/>
                <a:ea typeface="PMingLiU"/>
              </a:rPr>
              <a:t>經濟低</a:t>
            </a:r>
            <a:r>
              <a:rPr b="1" lang="zh-TW" sz="3000" spc="-1" strike="noStrike">
                <a:solidFill>
                  <a:srgbClr val="ffffff"/>
                </a:solidFill>
                <a:latin typeface="PMingLiU"/>
                <a:ea typeface="PMingLiU"/>
              </a:rPr>
              <a:t>迷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380880"/>
            <a:ext cx="4572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66"/>
                </a:solidFill>
                <a:latin typeface="PMingLiU"/>
                <a:ea typeface="PMingLiU"/>
              </a:rPr>
              <a:t>沙士疫情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029200"/>
            <a:ext cx="9144000" cy="1915200"/>
          </a:xfrm>
          <a:prstGeom prst="rect">
            <a:avLst/>
          </a:prstGeom>
          <a:solidFill>
            <a:srgbClr val="d9f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PMingLiU"/>
                <a:ea typeface="PMingLiU"/>
              </a:rPr>
              <a:t>講者：鍾庭耀博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PMingLiU"/>
                <a:ea typeface="PMingLiU"/>
              </a:rPr>
              <a:t>香港大學民意研究計劃主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PMingLiU"/>
                <a:ea typeface="PMingLiU"/>
              </a:rPr>
              <a:t>2003</a:t>
            </a:r>
            <a:r>
              <a:rPr b="1" lang="zh-TW" sz="1800" spc="-1" strike="noStrike">
                <a:solidFill>
                  <a:srgbClr val="000000"/>
                </a:solidFill>
                <a:latin typeface="PMingLiU"/>
                <a:ea typeface="PMingLiU"/>
              </a:rPr>
              <a:t>年</a:t>
            </a:r>
            <a:r>
              <a:rPr b="1" lang="zh-TW" sz="1800" spc="-1" strike="noStrike">
                <a:solidFill>
                  <a:srgbClr val="000000"/>
                </a:solidFill>
                <a:latin typeface="PMingLiU"/>
                <a:ea typeface="PMingLiU"/>
              </a:rPr>
              <a:t>6</a:t>
            </a:r>
            <a:r>
              <a:rPr b="1" lang="zh-TW" sz="1800" spc="-1" strike="noStrike">
                <a:solidFill>
                  <a:srgbClr val="000000"/>
                </a:solidFill>
                <a:latin typeface="PMingLiU"/>
                <a:ea typeface="PMingLiU"/>
              </a:rPr>
              <a:t>月</a:t>
            </a:r>
            <a:r>
              <a:rPr b="1" lang="zh-TW" sz="1800" spc="-1" strike="noStrike">
                <a:solidFill>
                  <a:srgbClr val="000000"/>
                </a:solidFill>
                <a:latin typeface="PMingLiU"/>
                <a:ea typeface="PMingLiU"/>
              </a:rPr>
              <a:t>26</a:t>
            </a:r>
            <a:r>
              <a:rPr b="1" lang="zh-TW" sz="1800" spc="-1" strike="noStrike">
                <a:solidFill>
                  <a:srgbClr val="000000"/>
                </a:solidFill>
                <a:latin typeface="PMingLiU"/>
                <a:ea typeface="PMingLiU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9907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PMingLiU"/>
                <a:ea typeface="PMingLiU"/>
              </a:rPr>
              <a:t>白領</a:t>
            </a:r>
            <a:r>
              <a:rPr b="1" lang="zh-TW" sz="4800" spc="-1" strike="noStrike">
                <a:solidFill>
                  <a:srgbClr val="ffffff"/>
                </a:solidFill>
                <a:latin typeface="PMingLiU"/>
                <a:ea typeface="PMingLiU"/>
              </a:rPr>
              <a:t>"</a:t>
            </a:r>
            <a:r>
              <a:rPr b="1" lang="zh-TW" sz="4800" spc="-1" strike="noStrike">
                <a:solidFill>
                  <a:srgbClr val="ffffff"/>
                </a:solidFill>
                <a:latin typeface="PMingLiU"/>
                <a:ea typeface="PMingLiU"/>
              </a:rPr>
              <a:t>為兩餐</a:t>
            </a:r>
            <a:r>
              <a:rPr b="1" lang="zh-TW" sz="4800" spc="-1" strike="noStrike">
                <a:solidFill>
                  <a:srgbClr val="ffffff"/>
                </a:solidFill>
                <a:latin typeface="PMingLiU"/>
                <a:ea typeface="PMingLiU"/>
              </a:rPr>
              <a:t>"</a:t>
            </a:r>
            <a:r>
              <a:rPr b="1" lang="zh-TW" sz="4800" spc="-1" strike="noStrike">
                <a:solidFill>
                  <a:srgbClr val="ffffff"/>
                </a:solidFill>
                <a:latin typeface="PMingLiU"/>
                <a:ea typeface="PMingLiU"/>
              </a:rPr>
              <a:t>飲食研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752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600" spc="-1" strike="noStrike">
                <a:solidFill>
                  <a:srgbClr val="ffffff"/>
                </a:solidFill>
                <a:latin typeface="CG Omega"/>
                <a:ea typeface="PMingLiU"/>
              </a:rPr>
              <a:t>現今經濟壓力下香港白領人士 飲食 行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600" spc="-1" strike="noStrike">
                <a:solidFill>
                  <a:srgbClr val="ffffff"/>
                </a:solidFill>
                <a:latin typeface="CG Omega"/>
                <a:ea typeface="PMingLiU"/>
              </a:rPr>
              <a:t>意見調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0" y="2895480"/>
            <a:ext cx="9144000" cy="2362320"/>
            <a:chOff x="0" y="2895480"/>
            <a:chExt cx="9144000" cy="2362320"/>
          </a:xfrm>
        </p:grpSpPr>
        <p:sp>
          <p:nvSpPr>
            <p:cNvPr id="82" name=""/>
            <p:cNvSpPr/>
            <p:nvPr/>
          </p:nvSpPr>
          <p:spPr>
            <a:xfrm>
              <a:off x="0" y="2895480"/>
              <a:ext cx="9144000" cy="2362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76320" y="2971800"/>
              <a:ext cx="4799880" cy="76320"/>
              <a:chOff x="76320" y="2971800"/>
              <a:chExt cx="4799880" cy="76320"/>
            </a:xfrm>
          </p:grpSpPr>
          <p:grpSp>
            <p:nvGrpSpPr>
              <p:cNvPr id="84" name=""/>
              <p:cNvGrpSpPr/>
              <p:nvPr/>
            </p:nvGrpSpPr>
            <p:grpSpPr>
              <a:xfrm>
                <a:off x="2514600" y="2971800"/>
                <a:ext cx="2361600" cy="76320"/>
                <a:chOff x="2514600" y="2971800"/>
                <a:chExt cx="2361600" cy="76320"/>
              </a:xfrm>
            </p:grpSpPr>
            <p:grpSp>
              <p:nvGrpSpPr>
                <p:cNvPr id="85" name=""/>
                <p:cNvGrpSpPr/>
                <p:nvPr/>
              </p:nvGrpSpPr>
              <p:grpSpPr>
                <a:xfrm>
                  <a:off x="2514600" y="2971800"/>
                  <a:ext cx="1142640" cy="76320"/>
                  <a:chOff x="2514600" y="2971800"/>
                  <a:chExt cx="1142640" cy="76320"/>
                </a:xfrm>
              </p:grpSpPr>
              <p:grpSp>
                <p:nvGrpSpPr>
                  <p:cNvPr id="86" name=""/>
                  <p:cNvGrpSpPr/>
                  <p:nvPr/>
                </p:nvGrpSpPr>
                <p:grpSpPr>
                  <a:xfrm>
                    <a:off x="2514600" y="2971800"/>
                    <a:ext cx="533160" cy="76320"/>
                    <a:chOff x="2514600" y="2971800"/>
                    <a:chExt cx="533160" cy="76320"/>
                  </a:xfrm>
                </p:grpSpPr>
                <p:grpSp>
                  <p:nvGrpSpPr>
                    <p:cNvPr id="87" name=""/>
                    <p:cNvGrpSpPr/>
                    <p:nvPr/>
                  </p:nvGrpSpPr>
                  <p:grpSpPr>
                    <a:xfrm>
                      <a:off x="2514600" y="2971800"/>
                      <a:ext cx="228600" cy="76320"/>
                      <a:chOff x="2514600" y="2971800"/>
                      <a:chExt cx="228600" cy="76320"/>
                    </a:xfrm>
                  </p:grpSpPr>
                  <p:sp>
                    <p:nvSpPr>
                      <p:cNvPr id="88" name=""/>
                      <p:cNvSpPr/>
                      <p:nvPr/>
                    </p:nvSpPr>
                    <p:spPr>
                      <a:xfrm>
                        <a:off x="2514600" y="29718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" name=""/>
                      <p:cNvSpPr/>
                      <p:nvPr/>
                    </p:nvSpPr>
                    <p:spPr>
                      <a:xfrm>
                        <a:off x="2666880" y="29718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0" name=""/>
                    <p:cNvGrpSpPr/>
                    <p:nvPr/>
                  </p:nvGrpSpPr>
                  <p:grpSpPr>
                    <a:xfrm>
                      <a:off x="2819160" y="2971800"/>
                      <a:ext cx="228600" cy="76320"/>
                      <a:chOff x="2819160" y="2971800"/>
                      <a:chExt cx="228600" cy="76320"/>
                    </a:xfrm>
                  </p:grpSpPr>
                  <p:sp>
                    <p:nvSpPr>
                      <p:cNvPr id="91" name=""/>
                      <p:cNvSpPr/>
                      <p:nvPr/>
                    </p:nvSpPr>
                    <p:spPr>
                      <a:xfrm>
                        <a:off x="2819160" y="29718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" name=""/>
                      <p:cNvSpPr/>
                      <p:nvPr/>
                    </p:nvSpPr>
                    <p:spPr>
                      <a:xfrm>
                        <a:off x="2971440" y="29718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93" name=""/>
                  <p:cNvGrpSpPr/>
                  <p:nvPr/>
                </p:nvGrpSpPr>
                <p:grpSpPr>
                  <a:xfrm>
                    <a:off x="3124080" y="2971800"/>
                    <a:ext cx="533160" cy="76320"/>
                    <a:chOff x="3124080" y="2971800"/>
                    <a:chExt cx="533160" cy="76320"/>
                  </a:xfrm>
                </p:grpSpPr>
                <p:grpSp>
                  <p:nvGrpSpPr>
                    <p:cNvPr id="94" name=""/>
                    <p:cNvGrpSpPr/>
                    <p:nvPr/>
                  </p:nvGrpSpPr>
                  <p:grpSpPr>
                    <a:xfrm>
                      <a:off x="3124080" y="2971800"/>
                      <a:ext cx="228600" cy="76320"/>
                      <a:chOff x="3124080" y="2971800"/>
                      <a:chExt cx="228600" cy="76320"/>
                    </a:xfrm>
                  </p:grpSpPr>
                  <p:sp>
                    <p:nvSpPr>
                      <p:cNvPr id="95" name=""/>
                      <p:cNvSpPr/>
                      <p:nvPr/>
                    </p:nvSpPr>
                    <p:spPr>
                      <a:xfrm>
                        <a:off x="3124080" y="29718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6" name=""/>
                      <p:cNvSpPr/>
                      <p:nvPr/>
                    </p:nvSpPr>
                    <p:spPr>
                      <a:xfrm>
                        <a:off x="3276360" y="29718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7" name=""/>
                    <p:cNvGrpSpPr/>
                    <p:nvPr/>
                  </p:nvGrpSpPr>
                  <p:grpSpPr>
                    <a:xfrm>
                      <a:off x="3428640" y="2971800"/>
                      <a:ext cx="228600" cy="76320"/>
                      <a:chOff x="3428640" y="2971800"/>
                      <a:chExt cx="228600" cy="76320"/>
                    </a:xfrm>
                  </p:grpSpPr>
                  <p:sp>
                    <p:nvSpPr>
                      <p:cNvPr id="98" name=""/>
                      <p:cNvSpPr/>
                      <p:nvPr/>
                    </p:nvSpPr>
                    <p:spPr>
                      <a:xfrm>
                        <a:off x="3428640" y="29718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" name=""/>
                      <p:cNvSpPr/>
                      <p:nvPr/>
                    </p:nvSpPr>
                    <p:spPr>
                      <a:xfrm>
                        <a:off x="3580920" y="29718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00" name=""/>
                <p:cNvGrpSpPr/>
                <p:nvPr/>
              </p:nvGrpSpPr>
              <p:grpSpPr>
                <a:xfrm>
                  <a:off x="3733560" y="2971800"/>
                  <a:ext cx="1142640" cy="76320"/>
                  <a:chOff x="3733560" y="2971800"/>
                  <a:chExt cx="1142640" cy="76320"/>
                </a:xfrm>
              </p:grpSpPr>
              <p:grpSp>
                <p:nvGrpSpPr>
                  <p:cNvPr id="101" name=""/>
                  <p:cNvGrpSpPr/>
                  <p:nvPr/>
                </p:nvGrpSpPr>
                <p:grpSpPr>
                  <a:xfrm>
                    <a:off x="3733560" y="2971800"/>
                    <a:ext cx="533160" cy="76320"/>
                    <a:chOff x="3733560" y="2971800"/>
                    <a:chExt cx="533160" cy="76320"/>
                  </a:xfrm>
                </p:grpSpPr>
                <p:grpSp>
                  <p:nvGrpSpPr>
                    <p:cNvPr id="102" name=""/>
                    <p:cNvGrpSpPr/>
                    <p:nvPr/>
                  </p:nvGrpSpPr>
                  <p:grpSpPr>
                    <a:xfrm>
                      <a:off x="3733560" y="2971800"/>
                      <a:ext cx="228600" cy="76320"/>
                      <a:chOff x="3733560" y="2971800"/>
                      <a:chExt cx="228600" cy="76320"/>
                    </a:xfrm>
                  </p:grpSpPr>
                  <p:sp>
                    <p:nvSpPr>
                      <p:cNvPr id="103" name=""/>
                      <p:cNvSpPr/>
                      <p:nvPr/>
                    </p:nvSpPr>
                    <p:spPr>
                      <a:xfrm>
                        <a:off x="3733560" y="29718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" name=""/>
                      <p:cNvSpPr/>
                      <p:nvPr/>
                    </p:nvSpPr>
                    <p:spPr>
                      <a:xfrm>
                        <a:off x="3885840" y="29718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5" name=""/>
                    <p:cNvGrpSpPr/>
                    <p:nvPr/>
                  </p:nvGrpSpPr>
                  <p:grpSpPr>
                    <a:xfrm>
                      <a:off x="4038120" y="2971800"/>
                      <a:ext cx="228600" cy="76320"/>
                      <a:chOff x="4038120" y="2971800"/>
                      <a:chExt cx="228600" cy="76320"/>
                    </a:xfrm>
                  </p:grpSpPr>
                  <p:sp>
                    <p:nvSpPr>
                      <p:cNvPr id="106" name=""/>
                      <p:cNvSpPr/>
                      <p:nvPr/>
                    </p:nvSpPr>
                    <p:spPr>
                      <a:xfrm>
                        <a:off x="4038120" y="29718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" name=""/>
                      <p:cNvSpPr/>
                      <p:nvPr/>
                    </p:nvSpPr>
                    <p:spPr>
                      <a:xfrm>
                        <a:off x="4190400" y="29718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08" name=""/>
                  <p:cNvGrpSpPr/>
                  <p:nvPr/>
                </p:nvGrpSpPr>
                <p:grpSpPr>
                  <a:xfrm>
                    <a:off x="4343040" y="2971800"/>
                    <a:ext cx="533160" cy="76320"/>
                    <a:chOff x="4343040" y="2971800"/>
                    <a:chExt cx="533160" cy="76320"/>
                  </a:xfrm>
                </p:grpSpPr>
                <p:grpSp>
                  <p:nvGrpSpPr>
                    <p:cNvPr id="109" name=""/>
                    <p:cNvGrpSpPr/>
                    <p:nvPr/>
                  </p:nvGrpSpPr>
                  <p:grpSpPr>
                    <a:xfrm>
                      <a:off x="4343040" y="2971800"/>
                      <a:ext cx="228600" cy="76320"/>
                      <a:chOff x="4343040" y="2971800"/>
                      <a:chExt cx="228600" cy="76320"/>
                    </a:xfrm>
                  </p:grpSpPr>
                  <p:sp>
                    <p:nvSpPr>
                      <p:cNvPr id="110" name=""/>
                      <p:cNvSpPr/>
                      <p:nvPr/>
                    </p:nvSpPr>
                    <p:spPr>
                      <a:xfrm>
                        <a:off x="4343040" y="29718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1" name=""/>
                      <p:cNvSpPr/>
                      <p:nvPr/>
                    </p:nvSpPr>
                    <p:spPr>
                      <a:xfrm>
                        <a:off x="4495320" y="29718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2" name=""/>
                    <p:cNvGrpSpPr/>
                    <p:nvPr/>
                  </p:nvGrpSpPr>
                  <p:grpSpPr>
                    <a:xfrm>
                      <a:off x="4647600" y="2971800"/>
                      <a:ext cx="228600" cy="76320"/>
                      <a:chOff x="4647600" y="2971800"/>
                      <a:chExt cx="228600" cy="76320"/>
                    </a:xfrm>
                  </p:grpSpPr>
                  <p:sp>
                    <p:nvSpPr>
                      <p:cNvPr id="113" name=""/>
                      <p:cNvSpPr/>
                      <p:nvPr/>
                    </p:nvSpPr>
                    <p:spPr>
                      <a:xfrm>
                        <a:off x="4647600" y="29718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" name=""/>
                      <p:cNvSpPr/>
                      <p:nvPr/>
                    </p:nvSpPr>
                    <p:spPr>
                      <a:xfrm>
                        <a:off x="4799880" y="29718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15" name=""/>
              <p:cNvGrpSpPr/>
              <p:nvPr/>
            </p:nvGrpSpPr>
            <p:grpSpPr>
              <a:xfrm>
                <a:off x="76320" y="2971800"/>
                <a:ext cx="2361600" cy="76320"/>
                <a:chOff x="76320" y="2971800"/>
                <a:chExt cx="2361600" cy="76320"/>
              </a:xfrm>
            </p:grpSpPr>
            <p:grpSp>
              <p:nvGrpSpPr>
                <p:cNvPr id="116" name=""/>
                <p:cNvGrpSpPr/>
                <p:nvPr/>
              </p:nvGrpSpPr>
              <p:grpSpPr>
                <a:xfrm>
                  <a:off x="76320" y="2971800"/>
                  <a:ext cx="1142640" cy="76320"/>
                  <a:chOff x="76320" y="2971800"/>
                  <a:chExt cx="1142640" cy="76320"/>
                </a:xfrm>
              </p:grpSpPr>
              <p:grpSp>
                <p:nvGrpSpPr>
                  <p:cNvPr id="117" name=""/>
                  <p:cNvGrpSpPr/>
                  <p:nvPr/>
                </p:nvGrpSpPr>
                <p:grpSpPr>
                  <a:xfrm>
                    <a:off x="76320" y="2971800"/>
                    <a:ext cx="533160" cy="76320"/>
                    <a:chOff x="76320" y="2971800"/>
                    <a:chExt cx="533160" cy="76320"/>
                  </a:xfrm>
                </p:grpSpPr>
                <p:grpSp>
                  <p:nvGrpSpPr>
                    <p:cNvPr id="118" name=""/>
                    <p:cNvGrpSpPr/>
                    <p:nvPr/>
                  </p:nvGrpSpPr>
                  <p:grpSpPr>
                    <a:xfrm>
                      <a:off x="76320" y="2971800"/>
                      <a:ext cx="228600" cy="76320"/>
                      <a:chOff x="76320" y="2971800"/>
                      <a:chExt cx="228600" cy="76320"/>
                    </a:xfrm>
                  </p:grpSpPr>
                  <p:sp>
                    <p:nvSpPr>
                      <p:cNvPr id="119" name=""/>
                      <p:cNvSpPr/>
                      <p:nvPr/>
                    </p:nvSpPr>
                    <p:spPr>
                      <a:xfrm>
                        <a:off x="76320" y="29718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228600" y="29718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1" name=""/>
                    <p:cNvGrpSpPr/>
                    <p:nvPr/>
                  </p:nvGrpSpPr>
                  <p:grpSpPr>
                    <a:xfrm>
                      <a:off x="380880" y="2971800"/>
                      <a:ext cx="228600" cy="76320"/>
                      <a:chOff x="380880" y="2971800"/>
                      <a:chExt cx="228600" cy="76320"/>
                    </a:xfrm>
                  </p:grpSpPr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380880" y="29718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533160" y="29718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24" name=""/>
                  <p:cNvGrpSpPr/>
                  <p:nvPr/>
                </p:nvGrpSpPr>
                <p:grpSpPr>
                  <a:xfrm>
                    <a:off x="685800" y="2971800"/>
                    <a:ext cx="533160" cy="76320"/>
                    <a:chOff x="685800" y="2971800"/>
                    <a:chExt cx="533160" cy="76320"/>
                  </a:xfrm>
                </p:grpSpPr>
                <p:grpSp>
                  <p:nvGrpSpPr>
                    <p:cNvPr id="125" name=""/>
                    <p:cNvGrpSpPr/>
                    <p:nvPr/>
                  </p:nvGrpSpPr>
                  <p:grpSpPr>
                    <a:xfrm>
                      <a:off x="685800" y="2971800"/>
                      <a:ext cx="228600" cy="76320"/>
                      <a:chOff x="685800" y="2971800"/>
                      <a:chExt cx="228600" cy="76320"/>
                    </a:xfrm>
                  </p:grpSpPr>
                  <p:sp>
                    <p:nvSpPr>
                      <p:cNvPr id="126" name=""/>
                      <p:cNvSpPr/>
                      <p:nvPr/>
                    </p:nvSpPr>
                    <p:spPr>
                      <a:xfrm>
                        <a:off x="685800" y="29718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" name=""/>
                      <p:cNvSpPr/>
                      <p:nvPr/>
                    </p:nvSpPr>
                    <p:spPr>
                      <a:xfrm>
                        <a:off x="838080" y="29718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8" name=""/>
                    <p:cNvGrpSpPr/>
                    <p:nvPr/>
                  </p:nvGrpSpPr>
                  <p:grpSpPr>
                    <a:xfrm>
                      <a:off x="990360" y="2971800"/>
                      <a:ext cx="228600" cy="76320"/>
                      <a:chOff x="990360" y="2971800"/>
                      <a:chExt cx="228600" cy="76320"/>
                    </a:xfrm>
                  </p:grpSpPr>
                  <p:sp>
                    <p:nvSpPr>
                      <p:cNvPr id="129" name=""/>
                      <p:cNvSpPr/>
                      <p:nvPr/>
                    </p:nvSpPr>
                    <p:spPr>
                      <a:xfrm>
                        <a:off x="990360" y="29718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" name=""/>
                      <p:cNvSpPr/>
                      <p:nvPr/>
                    </p:nvSpPr>
                    <p:spPr>
                      <a:xfrm>
                        <a:off x="1142640" y="29718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31" name=""/>
                <p:cNvGrpSpPr/>
                <p:nvPr/>
              </p:nvGrpSpPr>
              <p:grpSpPr>
                <a:xfrm>
                  <a:off x="1295280" y="2971800"/>
                  <a:ext cx="1142640" cy="76320"/>
                  <a:chOff x="1295280" y="2971800"/>
                  <a:chExt cx="1142640" cy="76320"/>
                </a:xfrm>
              </p:grpSpPr>
              <p:grpSp>
                <p:nvGrpSpPr>
                  <p:cNvPr id="132" name=""/>
                  <p:cNvGrpSpPr/>
                  <p:nvPr/>
                </p:nvGrpSpPr>
                <p:grpSpPr>
                  <a:xfrm>
                    <a:off x="1295280" y="2971800"/>
                    <a:ext cx="533160" cy="76320"/>
                    <a:chOff x="1295280" y="2971800"/>
                    <a:chExt cx="533160" cy="76320"/>
                  </a:xfrm>
                </p:grpSpPr>
                <p:grpSp>
                  <p:nvGrpSpPr>
                    <p:cNvPr id="133" name=""/>
                    <p:cNvGrpSpPr/>
                    <p:nvPr/>
                  </p:nvGrpSpPr>
                  <p:grpSpPr>
                    <a:xfrm>
                      <a:off x="1295280" y="2971800"/>
                      <a:ext cx="228600" cy="76320"/>
                      <a:chOff x="1295280" y="2971800"/>
                      <a:chExt cx="228600" cy="76320"/>
                    </a:xfrm>
                  </p:grpSpPr>
                  <p:sp>
                    <p:nvSpPr>
                      <p:cNvPr id="134" name=""/>
                      <p:cNvSpPr/>
                      <p:nvPr/>
                    </p:nvSpPr>
                    <p:spPr>
                      <a:xfrm>
                        <a:off x="1295280" y="29718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5" name=""/>
                      <p:cNvSpPr/>
                      <p:nvPr/>
                    </p:nvSpPr>
                    <p:spPr>
                      <a:xfrm>
                        <a:off x="1447560" y="29718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6" name=""/>
                    <p:cNvGrpSpPr/>
                    <p:nvPr/>
                  </p:nvGrpSpPr>
                  <p:grpSpPr>
                    <a:xfrm>
                      <a:off x="1599840" y="2971800"/>
                      <a:ext cx="228600" cy="76320"/>
                      <a:chOff x="1599840" y="2971800"/>
                      <a:chExt cx="228600" cy="76320"/>
                    </a:xfrm>
                  </p:grpSpPr>
                  <p:sp>
                    <p:nvSpPr>
                      <p:cNvPr id="137" name=""/>
                      <p:cNvSpPr/>
                      <p:nvPr/>
                    </p:nvSpPr>
                    <p:spPr>
                      <a:xfrm>
                        <a:off x="1599840" y="29718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" name=""/>
                      <p:cNvSpPr/>
                      <p:nvPr/>
                    </p:nvSpPr>
                    <p:spPr>
                      <a:xfrm>
                        <a:off x="1752120" y="29718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39" name=""/>
                  <p:cNvGrpSpPr/>
                  <p:nvPr/>
                </p:nvGrpSpPr>
                <p:grpSpPr>
                  <a:xfrm>
                    <a:off x="1904760" y="2971800"/>
                    <a:ext cx="533160" cy="76320"/>
                    <a:chOff x="1904760" y="2971800"/>
                    <a:chExt cx="533160" cy="76320"/>
                  </a:xfrm>
                </p:grpSpPr>
                <p:grpSp>
                  <p:nvGrpSpPr>
                    <p:cNvPr id="140" name=""/>
                    <p:cNvGrpSpPr/>
                    <p:nvPr/>
                  </p:nvGrpSpPr>
                  <p:grpSpPr>
                    <a:xfrm>
                      <a:off x="1904760" y="2971800"/>
                      <a:ext cx="228600" cy="76320"/>
                      <a:chOff x="1904760" y="2971800"/>
                      <a:chExt cx="228600" cy="76320"/>
                    </a:xfrm>
                  </p:grpSpPr>
                  <p:sp>
                    <p:nvSpPr>
                      <p:cNvPr id="141" name=""/>
                      <p:cNvSpPr/>
                      <p:nvPr/>
                    </p:nvSpPr>
                    <p:spPr>
                      <a:xfrm>
                        <a:off x="1904760" y="29718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" name=""/>
                      <p:cNvSpPr/>
                      <p:nvPr/>
                    </p:nvSpPr>
                    <p:spPr>
                      <a:xfrm>
                        <a:off x="2057040" y="29718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3" name=""/>
                    <p:cNvGrpSpPr/>
                    <p:nvPr/>
                  </p:nvGrpSpPr>
                  <p:grpSpPr>
                    <a:xfrm>
                      <a:off x="2209320" y="2971800"/>
                      <a:ext cx="228600" cy="76320"/>
                      <a:chOff x="2209320" y="2971800"/>
                      <a:chExt cx="228600" cy="76320"/>
                    </a:xfrm>
                  </p:grpSpPr>
                  <p:sp>
                    <p:nvSpPr>
                      <p:cNvPr id="144" name=""/>
                      <p:cNvSpPr/>
                      <p:nvPr/>
                    </p:nvSpPr>
                    <p:spPr>
                      <a:xfrm>
                        <a:off x="2209320" y="29718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" name=""/>
                      <p:cNvSpPr/>
                      <p:nvPr/>
                    </p:nvSpPr>
                    <p:spPr>
                      <a:xfrm>
                        <a:off x="2361600" y="29718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  <p:grpSp>
          <p:nvGrpSpPr>
            <p:cNvPr id="146" name=""/>
            <p:cNvGrpSpPr/>
            <p:nvPr/>
          </p:nvGrpSpPr>
          <p:grpSpPr>
            <a:xfrm>
              <a:off x="6781680" y="2971800"/>
              <a:ext cx="2361600" cy="76320"/>
              <a:chOff x="6781680" y="2971800"/>
              <a:chExt cx="2361600" cy="7632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6781680" y="2971800"/>
                <a:ext cx="1142640" cy="76320"/>
                <a:chOff x="6781680" y="2971800"/>
                <a:chExt cx="1142640" cy="76320"/>
              </a:xfrm>
            </p:grpSpPr>
            <p:grpSp>
              <p:nvGrpSpPr>
                <p:cNvPr id="148" name=""/>
                <p:cNvGrpSpPr/>
                <p:nvPr/>
              </p:nvGrpSpPr>
              <p:grpSpPr>
                <a:xfrm>
                  <a:off x="6781680" y="2971800"/>
                  <a:ext cx="533160" cy="76320"/>
                  <a:chOff x="6781680" y="2971800"/>
                  <a:chExt cx="533160" cy="76320"/>
                </a:xfrm>
              </p:grpSpPr>
              <p:grpSp>
                <p:nvGrpSpPr>
                  <p:cNvPr id="149" name=""/>
                  <p:cNvGrpSpPr/>
                  <p:nvPr/>
                </p:nvGrpSpPr>
                <p:grpSpPr>
                  <a:xfrm>
                    <a:off x="6781680" y="2971800"/>
                    <a:ext cx="228600" cy="76320"/>
                    <a:chOff x="6781680" y="2971800"/>
                    <a:chExt cx="228600" cy="76320"/>
                  </a:xfrm>
                </p:grpSpPr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6781680" y="2971800"/>
                      <a:ext cx="7596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6933960" y="2971800"/>
                      <a:ext cx="7632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" name=""/>
                  <p:cNvGrpSpPr/>
                  <p:nvPr/>
                </p:nvGrpSpPr>
                <p:grpSpPr>
                  <a:xfrm>
                    <a:off x="7086240" y="2971800"/>
                    <a:ext cx="228600" cy="76320"/>
                    <a:chOff x="7086240" y="2971800"/>
                    <a:chExt cx="228600" cy="76320"/>
                  </a:xfrm>
                </p:grpSpPr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7086240" y="2971800"/>
                      <a:ext cx="7596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7238520" y="2971800"/>
                      <a:ext cx="7632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5" name=""/>
                <p:cNvGrpSpPr/>
                <p:nvPr/>
              </p:nvGrpSpPr>
              <p:grpSpPr>
                <a:xfrm>
                  <a:off x="7391160" y="2971800"/>
                  <a:ext cx="533160" cy="76320"/>
                  <a:chOff x="7391160" y="2971800"/>
                  <a:chExt cx="533160" cy="76320"/>
                </a:xfrm>
              </p:grpSpPr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7391160" y="2971800"/>
                    <a:ext cx="228600" cy="76320"/>
                    <a:chOff x="7391160" y="2971800"/>
                    <a:chExt cx="228600" cy="7632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7391160" y="2971800"/>
                      <a:ext cx="7596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7543440" y="2971800"/>
                      <a:ext cx="7632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9" name=""/>
                  <p:cNvGrpSpPr/>
                  <p:nvPr/>
                </p:nvGrpSpPr>
                <p:grpSpPr>
                  <a:xfrm>
                    <a:off x="7695720" y="2971800"/>
                    <a:ext cx="228600" cy="76320"/>
                    <a:chOff x="7695720" y="2971800"/>
                    <a:chExt cx="228600" cy="76320"/>
                  </a:xfrm>
                </p:grpSpPr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7695720" y="2971800"/>
                      <a:ext cx="7596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7848000" y="2971800"/>
                      <a:ext cx="7632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62" name=""/>
              <p:cNvGrpSpPr/>
              <p:nvPr/>
            </p:nvGrpSpPr>
            <p:grpSpPr>
              <a:xfrm>
                <a:off x="8000640" y="2971800"/>
                <a:ext cx="1142640" cy="76320"/>
                <a:chOff x="8000640" y="2971800"/>
                <a:chExt cx="1142640" cy="7632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8000640" y="2971800"/>
                  <a:ext cx="533160" cy="76320"/>
                  <a:chOff x="8000640" y="2971800"/>
                  <a:chExt cx="533160" cy="76320"/>
                </a:xfrm>
              </p:grpSpPr>
              <p:grpSp>
                <p:nvGrpSpPr>
                  <p:cNvPr id="164" name=""/>
                  <p:cNvGrpSpPr/>
                  <p:nvPr/>
                </p:nvGrpSpPr>
                <p:grpSpPr>
                  <a:xfrm>
                    <a:off x="8000640" y="2971800"/>
                    <a:ext cx="228600" cy="76320"/>
                    <a:chOff x="8000640" y="2971800"/>
                    <a:chExt cx="228600" cy="76320"/>
                  </a:xfrm>
                </p:grpSpPr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8000640" y="2971800"/>
                      <a:ext cx="7596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8152920" y="2971800"/>
                      <a:ext cx="7632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7" name=""/>
                  <p:cNvGrpSpPr/>
                  <p:nvPr/>
                </p:nvGrpSpPr>
                <p:grpSpPr>
                  <a:xfrm>
                    <a:off x="8305200" y="2971800"/>
                    <a:ext cx="228600" cy="76320"/>
                    <a:chOff x="8305200" y="2971800"/>
                    <a:chExt cx="228600" cy="76320"/>
                  </a:xfrm>
                </p:grpSpPr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8305200" y="2971800"/>
                      <a:ext cx="7596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8457480" y="2971800"/>
                      <a:ext cx="7632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8610120" y="2971800"/>
                  <a:ext cx="533160" cy="76320"/>
                  <a:chOff x="8610120" y="2971800"/>
                  <a:chExt cx="533160" cy="7632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8610120" y="2971800"/>
                    <a:ext cx="228600" cy="76320"/>
                    <a:chOff x="8610120" y="2971800"/>
                    <a:chExt cx="228600" cy="76320"/>
                  </a:xfrm>
                </p:grpSpPr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8610120" y="2971800"/>
                      <a:ext cx="7596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8762400" y="2971800"/>
                      <a:ext cx="7632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8914680" y="2971800"/>
                    <a:ext cx="228600" cy="76320"/>
                    <a:chOff x="8914680" y="2971800"/>
                    <a:chExt cx="228600" cy="7632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8914680" y="2971800"/>
                      <a:ext cx="7596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9066960" y="2971800"/>
                      <a:ext cx="7632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77" name=""/>
            <p:cNvGrpSpPr/>
            <p:nvPr/>
          </p:nvGrpSpPr>
          <p:grpSpPr>
            <a:xfrm>
              <a:off x="4952880" y="2971800"/>
              <a:ext cx="533160" cy="76320"/>
              <a:chOff x="4952880" y="2971800"/>
              <a:chExt cx="533160" cy="7632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4952880" y="2971800"/>
                <a:ext cx="228600" cy="76320"/>
                <a:chOff x="4952880" y="2971800"/>
                <a:chExt cx="228600" cy="763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4952880" y="2971800"/>
                  <a:ext cx="75960" cy="76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105160" y="2971800"/>
                  <a:ext cx="76320" cy="76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5257440" y="2971800"/>
                <a:ext cx="228600" cy="76320"/>
                <a:chOff x="5257440" y="2971800"/>
                <a:chExt cx="228600" cy="763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5257440" y="2971800"/>
                  <a:ext cx="75960" cy="76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409720" y="2971800"/>
                  <a:ext cx="76320" cy="76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4" name=""/>
            <p:cNvGrpSpPr/>
            <p:nvPr/>
          </p:nvGrpSpPr>
          <p:grpSpPr>
            <a:xfrm>
              <a:off x="5562720" y="2971800"/>
              <a:ext cx="1142640" cy="76320"/>
              <a:chOff x="5562720" y="2971800"/>
              <a:chExt cx="1142640" cy="7632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5562720" y="2971800"/>
                <a:ext cx="533160" cy="76320"/>
                <a:chOff x="5562720" y="2971800"/>
                <a:chExt cx="533160" cy="7632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5562720" y="2971800"/>
                  <a:ext cx="228600" cy="76320"/>
                  <a:chOff x="5562720" y="2971800"/>
                  <a:chExt cx="228600" cy="7632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5562720" y="2971800"/>
                    <a:ext cx="7596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5715000" y="2971800"/>
                    <a:ext cx="7632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5867280" y="2971800"/>
                  <a:ext cx="228600" cy="76320"/>
                  <a:chOff x="5867280" y="2971800"/>
                  <a:chExt cx="228600" cy="7632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>
                    <a:off x="5867280" y="2971800"/>
                    <a:ext cx="7596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6019560" y="2971800"/>
                    <a:ext cx="7632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2" name=""/>
              <p:cNvGrpSpPr/>
              <p:nvPr/>
            </p:nvGrpSpPr>
            <p:grpSpPr>
              <a:xfrm>
                <a:off x="6172200" y="2971800"/>
                <a:ext cx="533160" cy="76320"/>
                <a:chOff x="6172200" y="2971800"/>
                <a:chExt cx="533160" cy="76320"/>
              </a:xfrm>
            </p:grpSpPr>
            <p:grpSp>
              <p:nvGrpSpPr>
                <p:cNvPr id="193" name=""/>
                <p:cNvGrpSpPr/>
                <p:nvPr/>
              </p:nvGrpSpPr>
              <p:grpSpPr>
                <a:xfrm>
                  <a:off x="6172200" y="2971800"/>
                  <a:ext cx="228600" cy="76320"/>
                  <a:chOff x="6172200" y="2971800"/>
                  <a:chExt cx="228600" cy="7632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>
                    <a:off x="6172200" y="2971800"/>
                    <a:ext cx="7596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6324480" y="2971800"/>
                    <a:ext cx="7632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" name=""/>
                <p:cNvGrpSpPr/>
                <p:nvPr/>
              </p:nvGrpSpPr>
              <p:grpSpPr>
                <a:xfrm>
                  <a:off x="6476760" y="2971800"/>
                  <a:ext cx="228600" cy="76320"/>
                  <a:chOff x="6476760" y="2971800"/>
                  <a:chExt cx="228600" cy="7632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6476760" y="2971800"/>
                    <a:ext cx="7596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6629040" y="2971800"/>
                    <a:ext cx="7632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9" name=""/>
            <p:cNvGrpSpPr/>
            <p:nvPr/>
          </p:nvGrpSpPr>
          <p:grpSpPr>
            <a:xfrm>
              <a:off x="0" y="5105520"/>
              <a:ext cx="4799880" cy="75960"/>
              <a:chOff x="0" y="5105520"/>
              <a:chExt cx="4799880" cy="75960"/>
            </a:xfrm>
          </p:grpSpPr>
          <p:grpSp>
            <p:nvGrpSpPr>
              <p:cNvPr id="200" name=""/>
              <p:cNvGrpSpPr/>
              <p:nvPr/>
            </p:nvGrpSpPr>
            <p:grpSpPr>
              <a:xfrm>
                <a:off x="2438280" y="5105520"/>
                <a:ext cx="2361600" cy="75960"/>
                <a:chOff x="2438280" y="5105520"/>
                <a:chExt cx="2361600" cy="75960"/>
              </a:xfrm>
            </p:grpSpPr>
            <p:grpSp>
              <p:nvGrpSpPr>
                <p:cNvPr id="201" name=""/>
                <p:cNvGrpSpPr/>
                <p:nvPr/>
              </p:nvGrpSpPr>
              <p:grpSpPr>
                <a:xfrm>
                  <a:off x="2438280" y="5105520"/>
                  <a:ext cx="1142640" cy="75960"/>
                  <a:chOff x="2438280" y="5105520"/>
                  <a:chExt cx="1142640" cy="75960"/>
                </a:xfrm>
              </p:grpSpPr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2438280" y="5105520"/>
                    <a:ext cx="533160" cy="75960"/>
                    <a:chOff x="2438280" y="5105520"/>
                    <a:chExt cx="533160" cy="75960"/>
                  </a:xfrm>
                </p:grpSpPr>
                <p:grpSp>
                  <p:nvGrpSpPr>
                    <p:cNvPr id="203" name=""/>
                    <p:cNvGrpSpPr/>
                    <p:nvPr/>
                  </p:nvGrpSpPr>
                  <p:grpSpPr>
                    <a:xfrm>
                      <a:off x="2438280" y="5105520"/>
                      <a:ext cx="228600" cy="75960"/>
                      <a:chOff x="2438280" y="5105520"/>
                      <a:chExt cx="228600" cy="75960"/>
                    </a:xfrm>
                  </p:grpSpPr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2438280" y="51055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2590560" y="51055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6" name=""/>
                    <p:cNvGrpSpPr/>
                    <p:nvPr/>
                  </p:nvGrpSpPr>
                  <p:grpSpPr>
                    <a:xfrm>
                      <a:off x="2742840" y="5105520"/>
                      <a:ext cx="228600" cy="75960"/>
                      <a:chOff x="2742840" y="5105520"/>
                      <a:chExt cx="228600" cy="75960"/>
                    </a:xfrm>
                  </p:grpSpPr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2742840" y="51055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8" name=""/>
                      <p:cNvSpPr/>
                      <p:nvPr/>
                    </p:nvSpPr>
                    <p:spPr>
                      <a:xfrm>
                        <a:off x="2895120" y="51055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09" name=""/>
                  <p:cNvGrpSpPr/>
                  <p:nvPr/>
                </p:nvGrpSpPr>
                <p:grpSpPr>
                  <a:xfrm>
                    <a:off x="3047760" y="5105520"/>
                    <a:ext cx="533160" cy="75960"/>
                    <a:chOff x="3047760" y="5105520"/>
                    <a:chExt cx="533160" cy="75960"/>
                  </a:xfrm>
                </p:grpSpPr>
                <p:grpSp>
                  <p:nvGrpSpPr>
                    <p:cNvPr id="210" name=""/>
                    <p:cNvGrpSpPr/>
                    <p:nvPr/>
                  </p:nvGrpSpPr>
                  <p:grpSpPr>
                    <a:xfrm>
                      <a:off x="3047760" y="5105520"/>
                      <a:ext cx="228600" cy="75960"/>
                      <a:chOff x="3047760" y="5105520"/>
                      <a:chExt cx="228600" cy="75960"/>
                    </a:xfrm>
                  </p:grpSpPr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3047760" y="51055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3200040" y="51055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3" name=""/>
                    <p:cNvGrpSpPr/>
                    <p:nvPr/>
                  </p:nvGrpSpPr>
                  <p:grpSpPr>
                    <a:xfrm>
                      <a:off x="3352320" y="5105520"/>
                      <a:ext cx="228600" cy="75960"/>
                      <a:chOff x="3352320" y="5105520"/>
                      <a:chExt cx="228600" cy="75960"/>
                    </a:xfrm>
                  </p:grpSpPr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3352320" y="51055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3504600" y="51055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3657240" y="5105520"/>
                  <a:ext cx="1142640" cy="75960"/>
                  <a:chOff x="3657240" y="5105520"/>
                  <a:chExt cx="1142640" cy="75960"/>
                </a:xfrm>
              </p:grpSpPr>
              <p:grpSp>
                <p:nvGrpSpPr>
                  <p:cNvPr id="217" name=""/>
                  <p:cNvGrpSpPr/>
                  <p:nvPr/>
                </p:nvGrpSpPr>
                <p:grpSpPr>
                  <a:xfrm>
                    <a:off x="3657240" y="5105520"/>
                    <a:ext cx="533160" cy="75960"/>
                    <a:chOff x="3657240" y="5105520"/>
                    <a:chExt cx="533160" cy="75960"/>
                  </a:xfrm>
                </p:grpSpPr>
                <p:grpSp>
                  <p:nvGrpSpPr>
                    <p:cNvPr id="218" name=""/>
                    <p:cNvGrpSpPr/>
                    <p:nvPr/>
                  </p:nvGrpSpPr>
                  <p:grpSpPr>
                    <a:xfrm>
                      <a:off x="3657240" y="5105520"/>
                      <a:ext cx="228600" cy="75960"/>
                      <a:chOff x="3657240" y="5105520"/>
                      <a:chExt cx="228600" cy="75960"/>
                    </a:xfrm>
                  </p:grpSpPr>
                  <p:sp>
                    <p:nvSpPr>
                      <p:cNvPr id="219" name=""/>
                      <p:cNvSpPr/>
                      <p:nvPr/>
                    </p:nvSpPr>
                    <p:spPr>
                      <a:xfrm>
                        <a:off x="3657240" y="51055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0" name=""/>
                      <p:cNvSpPr/>
                      <p:nvPr/>
                    </p:nvSpPr>
                    <p:spPr>
                      <a:xfrm>
                        <a:off x="3809520" y="51055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1" name=""/>
                    <p:cNvGrpSpPr/>
                    <p:nvPr/>
                  </p:nvGrpSpPr>
                  <p:grpSpPr>
                    <a:xfrm>
                      <a:off x="3961800" y="5105520"/>
                      <a:ext cx="228600" cy="75960"/>
                      <a:chOff x="3961800" y="5105520"/>
                      <a:chExt cx="228600" cy="75960"/>
                    </a:xfrm>
                  </p:grpSpPr>
                  <p:sp>
                    <p:nvSpPr>
                      <p:cNvPr id="222" name=""/>
                      <p:cNvSpPr/>
                      <p:nvPr/>
                    </p:nvSpPr>
                    <p:spPr>
                      <a:xfrm>
                        <a:off x="3961800" y="51055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3" name=""/>
                      <p:cNvSpPr/>
                      <p:nvPr/>
                    </p:nvSpPr>
                    <p:spPr>
                      <a:xfrm>
                        <a:off x="4114080" y="51055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24" name=""/>
                  <p:cNvGrpSpPr/>
                  <p:nvPr/>
                </p:nvGrpSpPr>
                <p:grpSpPr>
                  <a:xfrm>
                    <a:off x="4266720" y="5105520"/>
                    <a:ext cx="533160" cy="75960"/>
                    <a:chOff x="4266720" y="5105520"/>
                    <a:chExt cx="533160" cy="75960"/>
                  </a:xfrm>
                </p:grpSpPr>
                <p:grpSp>
                  <p:nvGrpSpPr>
                    <p:cNvPr id="225" name=""/>
                    <p:cNvGrpSpPr/>
                    <p:nvPr/>
                  </p:nvGrpSpPr>
                  <p:grpSpPr>
                    <a:xfrm>
                      <a:off x="4266720" y="5105520"/>
                      <a:ext cx="228600" cy="75960"/>
                      <a:chOff x="4266720" y="5105520"/>
                      <a:chExt cx="228600" cy="75960"/>
                    </a:xfrm>
                  </p:grpSpPr>
                  <p:sp>
                    <p:nvSpPr>
                      <p:cNvPr id="226" name=""/>
                      <p:cNvSpPr/>
                      <p:nvPr/>
                    </p:nvSpPr>
                    <p:spPr>
                      <a:xfrm>
                        <a:off x="4266720" y="51055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7" name=""/>
                      <p:cNvSpPr/>
                      <p:nvPr/>
                    </p:nvSpPr>
                    <p:spPr>
                      <a:xfrm>
                        <a:off x="4419000" y="51055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8" name=""/>
                    <p:cNvGrpSpPr/>
                    <p:nvPr/>
                  </p:nvGrpSpPr>
                  <p:grpSpPr>
                    <a:xfrm>
                      <a:off x="4571280" y="5105520"/>
                      <a:ext cx="228600" cy="75960"/>
                      <a:chOff x="4571280" y="5105520"/>
                      <a:chExt cx="228600" cy="75960"/>
                    </a:xfrm>
                  </p:grpSpPr>
                  <p:sp>
                    <p:nvSpPr>
                      <p:cNvPr id="229" name=""/>
                      <p:cNvSpPr/>
                      <p:nvPr/>
                    </p:nvSpPr>
                    <p:spPr>
                      <a:xfrm>
                        <a:off x="4571280" y="51055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" name=""/>
                      <p:cNvSpPr/>
                      <p:nvPr/>
                    </p:nvSpPr>
                    <p:spPr>
                      <a:xfrm>
                        <a:off x="4723560" y="51055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231" name=""/>
              <p:cNvGrpSpPr/>
              <p:nvPr/>
            </p:nvGrpSpPr>
            <p:grpSpPr>
              <a:xfrm>
                <a:off x="0" y="5105520"/>
                <a:ext cx="2361600" cy="75960"/>
                <a:chOff x="0" y="5105520"/>
                <a:chExt cx="2361600" cy="7596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0" y="5105520"/>
                  <a:ext cx="1142640" cy="75960"/>
                  <a:chOff x="0" y="5105520"/>
                  <a:chExt cx="1142640" cy="75960"/>
                </a:xfrm>
              </p:grpSpPr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0" y="5105520"/>
                    <a:ext cx="533160" cy="75960"/>
                    <a:chOff x="0" y="5105520"/>
                    <a:chExt cx="533160" cy="75960"/>
                  </a:xfrm>
                </p:grpSpPr>
                <p:grpSp>
                  <p:nvGrpSpPr>
                    <p:cNvPr id="234" name=""/>
                    <p:cNvGrpSpPr/>
                    <p:nvPr/>
                  </p:nvGrpSpPr>
                  <p:grpSpPr>
                    <a:xfrm>
                      <a:off x="0" y="5105520"/>
                      <a:ext cx="228600" cy="75960"/>
                      <a:chOff x="0" y="5105520"/>
                      <a:chExt cx="228600" cy="75960"/>
                    </a:xfrm>
                  </p:grpSpPr>
                  <p:sp>
                    <p:nvSpPr>
                      <p:cNvPr id="235" name=""/>
                      <p:cNvSpPr/>
                      <p:nvPr/>
                    </p:nvSpPr>
                    <p:spPr>
                      <a:xfrm>
                        <a:off x="0" y="51055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6" name=""/>
                      <p:cNvSpPr/>
                      <p:nvPr/>
                    </p:nvSpPr>
                    <p:spPr>
                      <a:xfrm>
                        <a:off x="152280" y="51055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7" name=""/>
                    <p:cNvGrpSpPr/>
                    <p:nvPr/>
                  </p:nvGrpSpPr>
                  <p:grpSpPr>
                    <a:xfrm>
                      <a:off x="304560" y="5105520"/>
                      <a:ext cx="228600" cy="75960"/>
                      <a:chOff x="304560" y="5105520"/>
                      <a:chExt cx="228600" cy="75960"/>
                    </a:xfrm>
                  </p:grpSpPr>
                  <p:sp>
                    <p:nvSpPr>
                      <p:cNvPr id="238" name=""/>
                      <p:cNvSpPr/>
                      <p:nvPr/>
                    </p:nvSpPr>
                    <p:spPr>
                      <a:xfrm>
                        <a:off x="304560" y="51055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9" name=""/>
                      <p:cNvSpPr/>
                      <p:nvPr/>
                    </p:nvSpPr>
                    <p:spPr>
                      <a:xfrm>
                        <a:off x="456840" y="51055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609480" y="5105520"/>
                    <a:ext cx="533160" cy="75960"/>
                    <a:chOff x="609480" y="5105520"/>
                    <a:chExt cx="533160" cy="75960"/>
                  </a:xfrm>
                </p:grpSpPr>
                <p:grpSp>
                  <p:nvGrpSpPr>
                    <p:cNvPr id="241" name=""/>
                    <p:cNvGrpSpPr/>
                    <p:nvPr/>
                  </p:nvGrpSpPr>
                  <p:grpSpPr>
                    <a:xfrm>
                      <a:off x="609480" y="5105520"/>
                      <a:ext cx="228600" cy="75960"/>
                      <a:chOff x="609480" y="5105520"/>
                      <a:chExt cx="228600" cy="75960"/>
                    </a:xfrm>
                  </p:grpSpPr>
                  <p:sp>
                    <p:nvSpPr>
                      <p:cNvPr id="242" name=""/>
                      <p:cNvSpPr/>
                      <p:nvPr/>
                    </p:nvSpPr>
                    <p:spPr>
                      <a:xfrm>
                        <a:off x="609480" y="51055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" name=""/>
                      <p:cNvSpPr/>
                      <p:nvPr/>
                    </p:nvSpPr>
                    <p:spPr>
                      <a:xfrm>
                        <a:off x="761760" y="51055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4" name=""/>
                    <p:cNvGrpSpPr/>
                    <p:nvPr/>
                  </p:nvGrpSpPr>
                  <p:grpSpPr>
                    <a:xfrm>
                      <a:off x="914040" y="5105520"/>
                      <a:ext cx="228600" cy="75960"/>
                      <a:chOff x="914040" y="5105520"/>
                      <a:chExt cx="228600" cy="75960"/>
                    </a:xfrm>
                  </p:grpSpPr>
                  <p:sp>
                    <p:nvSpPr>
                      <p:cNvPr id="245" name=""/>
                      <p:cNvSpPr/>
                      <p:nvPr/>
                    </p:nvSpPr>
                    <p:spPr>
                      <a:xfrm>
                        <a:off x="914040" y="51055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6" name=""/>
                      <p:cNvSpPr/>
                      <p:nvPr/>
                    </p:nvSpPr>
                    <p:spPr>
                      <a:xfrm>
                        <a:off x="1066320" y="51055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1218960" y="5105520"/>
                  <a:ext cx="1142640" cy="75960"/>
                  <a:chOff x="1218960" y="5105520"/>
                  <a:chExt cx="1142640" cy="7596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1218960" y="5105520"/>
                    <a:ext cx="533160" cy="75960"/>
                    <a:chOff x="1218960" y="5105520"/>
                    <a:chExt cx="533160" cy="75960"/>
                  </a:xfrm>
                </p:grpSpPr>
                <p:grpSp>
                  <p:nvGrpSpPr>
                    <p:cNvPr id="249" name=""/>
                    <p:cNvGrpSpPr/>
                    <p:nvPr/>
                  </p:nvGrpSpPr>
                  <p:grpSpPr>
                    <a:xfrm>
                      <a:off x="1218960" y="5105520"/>
                      <a:ext cx="228600" cy="75960"/>
                      <a:chOff x="1218960" y="5105520"/>
                      <a:chExt cx="228600" cy="75960"/>
                    </a:xfrm>
                  </p:grpSpPr>
                  <p:sp>
                    <p:nvSpPr>
                      <p:cNvPr id="250" name=""/>
                      <p:cNvSpPr/>
                      <p:nvPr/>
                    </p:nvSpPr>
                    <p:spPr>
                      <a:xfrm>
                        <a:off x="1218960" y="51055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1" name=""/>
                      <p:cNvSpPr/>
                      <p:nvPr/>
                    </p:nvSpPr>
                    <p:spPr>
                      <a:xfrm>
                        <a:off x="1371240" y="51055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2" name=""/>
                    <p:cNvGrpSpPr/>
                    <p:nvPr/>
                  </p:nvGrpSpPr>
                  <p:grpSpPr>
                    <a:xfrm>
                      <a:off x="1523520" y="5105520"/>
                      <a:ext cx="228600" cy="75960"/>
                      <a:chOff x="1523520" y="5105520"/>
                      <a:chExt cx="228600" cy="75960"/>
                    </a:xfrm>
                  </p:grpSpPr>
                  <p:sp>
                    <p:nvSpPr>
                      <p:cNvPr id="253" name=""/>
                      <p:cNvSpPr/>
                      <p:nvPr/>
                    </p:nvSpPr>
                    <p:spPr>
                      <a:xfrm>
                        <a:off x="1523520" y="51055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" name=""/>
                      <p:cNvSpPr/>
                      <p:nvPr/>
                    </p:nvSpPr>
                    <p:spPr>
                      <a:xfrm>
                        <a:off x="1675800" y="51055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55" name=""/>
                  <p:cNvGrpSpPr/>
                  <p:nvPr/>
                </p:nvGrpSpPr>
                <p:grpSpPr>
                  <a:xfrm>
                    <a:off x="1828440" y="5105520"/>
                    <a:ext cx="533160" cy="75960"/>
                    <a:chOff x="1828440" y="5105520"/>
                    <a:chExt cx="533160" cy="75960"/>
                  </a:xfrm>
                </p:grpSpPr>
                <p:grpSp>
                  <p:nvGrpSpPr>
                    <p:cNvPr id="256" name=""/>
                    <p:cNvGrpSpPr/>
                    <p:nvPr/>
                  </p:nvGrpSpPr>
                  <p:grpSpPr>
                    <a:xfrm>
                      <a:off x="1828440" y="5105520"/>
                      <a:ext cx="228600" cy="75960"/>
                      <a:chOff x="1828440" y="5105520"/>
                      <a:chExt cx="228600" cy="75960"/>
                    </a:xfrm>
                  </p:grpSpPr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1828440" y="51055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8" name=""/>
                      <p:cNvSpPr/>
                      <p:nvPr/>
                    </p:nvSpPr>
                    <p:spPr>
                      <a:xfrm>
                        <a:off x="1980720" y="51055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9" name=""/>
                    <p:cNvGrpSpPr/>
                    <p:nvPr/>
                  </p:nvGrpSpPr>
                  <p:grpSpPr>
                    <a:xfrm>
                      <a:off x="2133000" y="5105520"/>
                      <a:ext cx="228600" cy="75960"/>
                      <a:chOff x="2133000" y="5105520"/>
                      <a:chExt cx="228600" cy="75960"/>
                    </a:xfrm>
                  </p:grpSpPr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2133000" y="51055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2285280" y="51055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  <p:grpSp>
          <p:nvGrpSpPr>
            <p:cNvPr id="262" name=""/>
            <p:cNvGrpSpPr/>
            <p:nvPr/>
          </p:nvGrpSpPr>
          <p:grpSpPr>
            <a:xfrm>
              <a:off x="6705720" y="5105520"/>
              <a:ext cx="2361600" cy="75960"/>
              <a:chOff x="6705720" y="5105520"/>
              <a:chExt cx="2361600" cy="7596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6705720" y="5105520"/>
                <a:ext cx="1142640" cy="75960"/>
                <a:chOff x="6705720" y="5105520"/>
                <a:chExt cx="1142640" cy="75960"/>
              </a:xfrm>
            </p:grpSpPr>
            <p:grpSp>
              <p:nvGrpSpPr>
                <p:cNvPr id="264" name=""/>
                <p:cNvGrpSpPr/>
                <p:nvPr/>
              </p:nvGrpSpPr>
              <p:grpSpPr>
                <a:xfrm>
                  <a:off x="6705720" y="5105520"/>
                  <a:ext cx="533160" cy="75960"/>
                  <a:chOff x="6705720" y="5105520"/>
                  <a:chExt cx="533160" cy="75960"/>
                </a:xfrm>
              </p:grpSpPr>
              <p:grpSp>
                <p:nvGrpSpPr>
                  <p:cNvPr id="265" name=""/>
                  <p:cNvGrpSpPr/>
                  <p:nvPr/>
                </p:nvGrpSpPr>
                <p:grpSpPr>
                  <a:xfrm>
                    <a:off x="6705720" y="5105520"/>
                    <a:ext cx="228600" cy="75960"/>
                    <a:chOff x="6705720" y="5105520"/>
                    <a:chExt cx="228600" cy="75960"/>
                  </a:xfrm>
                </p:grpSpPr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705720" y="5105520"/>
                      <a:ext cx="7596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6858000" y="5105520"/>
                      <a:ext cx="763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8" name=""/>
                  <p:cNvGrpSpPr/>
                  <p:nvPr/>
                </p:nvGrpSpPr>
                <p:grpSpPr>
                  <a:xfrm>
                    <a:off x="7010280" y="5105520"/>
                    <a:ext cx="228600" cy="75960"/>
                    <a:chOff x="7010280" y="5105520"/>
                    <a:chExt cx="228600" cy="75960"/>
                  </a:xfrm>
                </p:grpSpPr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7010280" y="5105520"/>
                      <a:ext cx="7596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7162560" y="5105520"/>
                      <a:ext cx="763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7315200" y="5105520"/>
                  <a:ext cx="533160" cy="75960"/>
                  <a:chOff x="7315200" y="5105520"/>
                  <a:chExt cx="533160" cy="75960"/>
                </a:xfrm>
              </p:grpSpPr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7315200" y="5105520"/>
                    <a:ext cx="228600" cy="75960"/>
                    <a:chOff x="7315200" y="5105520"/>
                    <a:chExt cx="228600" cy="759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7315200" y="5105520"/>
                      <a:ext cx="7596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7467480" y="5105520"/>
                      <a:ext cx="763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7619760" y="5105520"/>
                    <a:ext cx="228600" cy="75960"/>
                    <a:chOff x="7619760" y="5105520"/>
                    <a:chExt cx="228600" cy="7596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7619760" y="5105520"/>
                      <a:ext cx="7596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772040" y="5105520"/>
                      <a:ext cx="763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78" name=""/>
              <p:cNvGrpSpPr/>
              <p:nvPr/>
            </p:nvGrpSpPr>
            <p:grpSpPr>
              <a:xfrm>
                <a:off x="7924680" y="5105520"/>
                <a:ext cx="1142640" cy="75960"/>
                <a:chOff x="7924680" y="5105520"/>
                <a:chExt cx="1142640" cy="75960"/>
              </a:xfrm>
            </p:grpSpPr>
            <p:grpSp>
              <p:nvGrpSpPr>
                <p:cNvPr id="279" name=""/>
                <p:cNvGrpSpPr/>
                <p:nvPr/>
              </p:nvGrpSpPr>
              <p:grpSpPr>
                <a:xfrm>
                  <a:off x="7924680" y="5105520"/>
                  <a:ext cx="533160" cy="75960"/>
                  <a:chOff x="7924680" y="5105520"/>
                  <a:chExt cx="533160" cy="75960"/>
                </a:xfrm>
              </p:grpSpPr>
              <p:grpSp>
                <p:nvGrpSpPr>
                  <p:cNvPr id="280" name=""/>
                  <p:cNvGrpSpPr/>
                  <p:nvPr/>
                </p:nvGrpSpPr>
                <p:grpSpPr>
                  <a:xfrm>
                    <a:off x="7924680" y="5105520"/>
                    <a:ext cx="228600" cy="75960"/>
                    <a:chOff x="7924680" y="5105520"/>
                    <a:chExt cx="228600" cy="75960"/>
                  </a:xfrm>
                </p:grpSpPr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924680" y="5105520"/>
                      <a:ext cx="7596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076960" y="5105520"/>
                      <a:ext cx="763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3" name=""/>
                  <p:cNvGrpSpPr/>
                  <p:nvPr/>
                </p:nvGrpSpPr>
                <p:grpSpPr>
                  <a:xfrm>
                    <a:off x="8229240" y="5105520"/>
                    <a:ext cx="228600" cy="75960"/>
                    <a:chOff x="8229240" y="5105520"/>
                    <a:chExt cx="228600" cy="75960"/>
                  </a:xfrm>
                </p:grpSpPr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8229240" y="5105520"/>
                      <a:ext cx="7596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8381520" y="5105520"/>
                      <a:ext cx="763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86" name=""/>
                <p:cNvGrpSpPr/>
                <p:nvPr/>
              </p:nvGrpSpPr>
              <p:grpSpPr>
                <a:xfrm>
                  <a:off x="8534160" y="5105520"/>
                  <a:ext cx="533160" cy="75960"/>
                  <a:chOff x="8534160" y="5105520"/>
                  <a:chExt cx="533160" cy="75960"/>
                </a:xfrm>
              </p:grpSpPr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8534160" y="5105520"/>
                    <a:ext cx="228600" cy="75960"/>
                    <a:chOff x="8534160" y="5105520"/>
                    <a:chExt cx="228600" cy="7596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534160" y="5105520"/>
                      <a:ext cx="7596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8686440" y="5105520"/>
                      <a:ext cx="763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0" name=""/>
                  <p:cNvGrpSpPr/>
                  <p:nvPr/>
                </p:nvGrpSpPr>
                <p:grpSpPr>
                  <a:xfrm>
                    <a:off x="8838720" y="5105520"/>
                    <a:ext cx="228600" cy="75960"/>
                    <a:chOff x="8838720" y="5105520"/>
                    <a:chExt cx="228600" cy="75960"/>
                  </a:xfrm>
                </p:grpSpPr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838720" y="5105520"/>
                      <a:ext cx="7596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991000" y="5105520"/>
                      <a:ext cx="763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93" name=""/>
            <p:cNvGrpSpPr/>
            <p:nvPr/>
          </p:nvGrpSpPr>
          <p:grpSpPr>
            <a:xfrm>
              <a:off x="4876920" y="5105520"/>
              <a:ext cx="533160" cy="75960"/>
              <a:chOff x="4876920" y="5105520"/>
              <a:chExt cx="533160" cy="7596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4876920" y="5105520"/>
                <a:ext cx="228600" cy="75960"/>
                <a:chOff x="4876920" y="5105520"/>
                <a:chExt cx="228600" cy="75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876920" y="5105520"/>
                  <a:ext cx="75960" cy="75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029200" y="5105520"/>
                  <a:ext cx="76320" cy="75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181480" y="5105520"/>
                <a:ext cx="228600" cy="75960"/>
                <a:chOff x="5181480" y="5105520"/>
                <a:chExt cx="228600" cy="7596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181480" y="5105520"/>
                  <a:ext cx="75960" cy="75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333760" y="5105520"/>
                  <a:ext cx="76320" cy="75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0" name=""/>
            <p:cNvGrpSpPr/>
            <p:nvPr/>
          </p:nvGrpSpPr>
          <p:grpSpPr>
            <a:xfrm>
              <a:off x="5486400" y="5105520"/>
              <a:ext cx="1142640" cy="75960"/>
              <a:chOff x="5486400" y="5105520"/>
              <a:chExt cx="1142640" cy="7596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5486400" y="5105520"/>
                <a:ext cx="533160" cy="75960"/>
                <a:chOff x="5486400" y="5105520"/>
                <a:chExt cx="533160" cy="75960"/>
              </a:xfrm>
            </p:grpSpPr>
            <p:grpSp>
              <p:nvGrpSpPr>
                <p:cNvPr id="302" name=""/>
                <p:cNvGrpSpPr/>
                <p:nvPr/>
              </p:nvGrpSpPr>
              <p:grpSpPr>
                <a:xfrm>
                  <a:off x="5486400" y="5105520"/>
                  <a:ext cx="228600" cy="75960"/>
                  <a:chOff x="5486400" y="5105520"/>
                  <a:chExt cx="228600" cy="7596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>
                    <a:off x="5486400" y="5105520"/>
                    <a:ext cx="7596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5638680" y="5105520"/>
                    <a:ext cx="763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5790960" y="5105520"/>
                  <a:ext cx="228600" cy="75960"/>
                  <a:chOff x="5790960" y="5105520"/>
                  <a:chExt cx="228600" cy="7596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>
                    <a:off x="5790960" y="5105520"/>
                    <a:ext cx="7596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5943240" y="5105520"/>
                    <a:ext cx="763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8" name=""/>
              <p:cNvGrpSpPr/>
              <p:nvPr/>
            </p:nvGrpSpPr>
            <p:grpSpPr>
              <a:xfrm>
                <a:off x="6095880" y="5105520"/>
                <a:ext cx="533160" cy="75960"/>
                <a:chOff x="6095880" y="5105520"/>
                <a:chExt cx="533160" cy="7596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6095880" y="5105520"/>
                  <a:ext cx="228600" cy="75960"/>
                  <a:chOff x="6095880" y="5105520"/>
                  <a:chExt cx="228600" cy="7596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6095880" y="5105520"/>
                    <a:ext cx="7596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248160" y="5105520"/>
                    <a:ext cx="763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6400440" y="5105520"/>
                  <a:ext cx="228600" cy="75960"/>
                  <a:chOff x="6400440" y="5105520"/>
                  <a:chExt cx="228600" cy="7596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>
                    <a:off x="6400440" y="5105520"/>
                    <a:ext cx="7596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552720" y="5105520"/>
                    <a:ext cx="763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pic>
          <p:nvPicPr>
            <p:cNvPr id="315" name="man_looking_watch" descr=""/>
            <p:cNvPicPr/>
            <p:nvPr/>
          </p:nvPicPr>
          <p:blipFill>
            <a:blip r:embed="rId1"/>
            <a:stretch/>
          </p:blipFill>
          <p:spPr>
            <a:xfrm>
              <a:off x="0" y="3124080"/>
              <a:ext cx="2590920" cy="190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mtr01" descr=""/>
            <p:cNvPicPr/>
            <p:nvPr/>
          </p:nvPicPr>
          <p:blipFill>
            <a:blip r:embed="rId2"/>
            <a:stretch/>
          </p:blipFill>
          <p:spPr>
            <a:xfrm>
              <a:off x="2743200" y="3124080"/>
              <a:ext cx="3276720" cy="194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executives_lunch" descr=""/>
            <p:cNvPicPr/>
            <p:nvPr/>
          </p:nvPicPr>
          <p:blipFill>
            <a:blip r:embed="rId3"/>
            <a:stretch/>
          </p:blipFill>
          <p:spPr>
            <a:xfrm>
              <a:off x="6176880" y="3124080"/>
              <a:ext cx="2967120" cy="1949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0000"/>
                </a:solidFill>
                <a:latin typeface="CG Omega"/>
                <a:ea typeface="PMingLiU"/>
              </a:rPr>
              <a:t>71%</a:t>
            </a:r>
            <a:r>
              <a:rPr b="1" lang="zh-TW" sz="4000" spc="-1" strike="noStrike">
                <a:solidFill>
                  <a:srgbClr val="2c8a5b"/>
                </a:solidFill>
                <a:latin typeface="PMingLiU"/>
                <a:ea typeface="PMingLiU"/>
              </a:rPr>
              <a:t>人士認為自己的午餐</a:t>
            </a:r>
            <a:br>
              <a:rPr sz="4000"/>
            </a:br>
            <a:r>
              <a:rPr b="1" lang="zh-TW" sz="4000" spc="-1" strike="noStrike">
                <a:solidFill>
                  <a:srgbClr val="2c8a5b"/>
                </a:solidFill>
                <a:latin typeface="PMingLiU"/>
                <a:ea typeface="PMingLiU"/>
              </a:rPr>
              <a:t>健康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353" name=""/>
          <p:cNvSpPr/>
          <p:nvPr/>
        </p:nvSpPr>
        <p:spPr>
          <a:xfrm>
            <a:off x="7206120" y="6175440"/>
            <a:ext cx="121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511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380880" y="2286000"/>
          <a:ext cx="807732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0"/>
                    <a:ext cx="80773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"/>
          <p:cNvGrpSpPr/>
          <p:nvPr/>
        </p:nvGrpSpPr>
        <p:grpSpPr>
          <a:xfrm>
            <a:off x="1932120" y="2049480"/>
            <a:ext cx="3482640" cy="2769120"/>
            <a:chOff x="1932120" y="2049480"/>
            <a:chExt cx="3482640" cy="2769120"/>
          </a:xfrm>
        </p:grpSpPr>
        <p:sp>
          <p:nvSpPr>
            <p:cNvPr id="357" name=""/>
            <p:cNvSpPr/>
            <p:nvPr/>
          </p:nvSpPr>
          <p:spPr>
            <a:xfrm>
              <a:off x="4624560" y="44197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午餐健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32120" y="320040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午餐不健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37560" y="2049480"/>
              <a:ext cx="132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不知道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/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很難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8a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PMingLiU"/>
                <a:ea typeface="PMingLiU"/>
              </a:rPr>
              <a:t>白領人士的早餐習慣</a:t>
            </a:r>
            <a:endParaRPr b="1" lang="en-US" sz="4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CG Omega"/>
                <a:ea typeface="PMingLiU"/>
              </a:rPr>
              <a:t>近六成</a:t>
            </a: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白領人士</a:t>
            </a:r>
            <a:br>
              <a:rPr sz="4000"/>
            </a:b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進食食肆購買的早餐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362" name=""/>
          <p:cNvSpPr/>
          <p:nvPr/>
        </p:nvSpPr>
        <p:spPr>
          <a:xfrm>
            <a:off x="6553080" y="60199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511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個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533520" y="2212920"/>
          <a:ext cx="8076960" cy="372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12920"/>
                    <a:ext cx="8076960" cy="37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5" name=""/>
          <p:cNvGrpSpPr/>
          <p:nvPr/>
        </p:nvGrpSpPr>
        <p:grpSpPr>
          <a:xfrm>
            <a:off x="7620120" y="3048120"/>
            <a:ext cx="380880" cy="1752480"/>
            <a:chOff x="7620120" y="3048120"/>
            <a:chExt cx="380880" cy="1752480"/>
          </a:xfrm>
        </p:grpSpPr>
        <p:sp>
          <p:nvSpPr>
            <p:cNvPr id="366" name=""/>
            <p:cNvSpPr/>
            <p:nvPr/>
          </p:nvSpPr>
          <p:spPr>
            <a:xfrm>
              <a:off x="8001000" y="3048120"/>
              <a:ext cx="0" cy="17524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20120" y="3048120"/>
              <a:ext cx="3808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620120" y="4800600"/>
              <a:ext cx="3808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7924680" y="3505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66"/>
                </a:solidFill>
                <a:latin typeface="PMingLiU"/>
                <a:ea typeface="PMingLiU"/>
              </a:rPr>
              <a:t>食肆購買早餐：</a:t>
            </a:r>
            <a:r>
              <a:rPr b="1" lang="zh-TW" sz="1800" spc="-1" strike="noStrike">
                <a:solidFill>
                  <a:srgbClr val="ff0066"/>
                </a:solidFill>
                <a:latin typeface="PMingLiU"/>
                <a:ea typeface="PMingLiU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CG Omega"/>
                <a:ea typeface="PMingLiU"/>
              </a:rPr>
              <a:t>麵包</a:t>
            </a: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是白領人士</a:t>
            </a:r>
            <a:br>
              <a:rPr sz="4000"/>
            </a:br>
            <a:r>
              <a:rPr b="1" lang="zh-TW" sz="4000" spc="-1" strike="noStrike" u="sng">
                <a:solidFill>
                  <a:srgbClr val="2c8a5b"/>
                </a:solidFill>
                <a:uFillTx/>
                <a:latin typeface="CG Omega"/>
                <a:ea typeface="PMingLiU"/>
              </a:rPr>
              <a:t>在家</a:t>
            </a: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最常吃的早餐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914400" y="1981080"/>
          <a:ext cx="7543800" cy="40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81080"/>
                    <a:ext cx="7543800" cy="40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6095880" y="6019920"/>
            <a:ext cx="3048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200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在家吃早餐人士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可選擇多項：共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773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0000"/>
                </a:solidFill>
                <a:latin typeface="CG Omega"/>
                <a:ea typeface="PMingLiU"/>
              </a:rPr>
              <a:t>65%</a:t>
            </a: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 </a:t>
            </a:r>
            <a:r>
              <a:rPr b="1" lang="zh-TW" sz="4000" spc="-1" strike="noStrike" u="sng">
                <a:solidFill>
                  <a:srgbClr val="2c8a5b"/>
                </a:solidFill>
                <a:uFillTx/>
                <a:latin typeface="CG Omega"/>
                <a:ea typeface="PMingLiU"/>
              </a:rPr>
              <a:t>在家吃早餐</a:t>
            </a: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人士</a:t>
            </a:r>
            <a:br>
              <a:rPr sz="4000"/>
            </a:b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不飲用脫脂奶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0" y="2133720"/>
          <a:ext cx="89154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89154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"/>
          <p:cNvSpPr/>
          <p:nvPr/>
        </p:nvSpPr>
        <p:spPr>
          <a:xfrm>
            <a:off x="5402160" y="6324480"/>
            <a:ext cx="27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103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在家吃早餐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+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飲牛奶人士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2819520" y="1820880"/>
            <a:ext cx="3047760" cy="3759480"/>
            <a:chOff x="2819520" y="1820880"/>
            <a:chExt cx="3047760" cy="3759480"/>
          </a:xfrm>
        </p:grpSpPr>
        <p:sp>
          <p:nvSpPr>
            <p:cNvPr id="379" name=""/>
            <p:cNvSpPr/>
            <p:nvPr/>
          </p:nvSpPr>
          <p:spPr>
            <a:xfrm>
              <a:off x="3581280" y="5181480"/>
              <a:ext cx="15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脫脂奶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72000" y="373392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低脂奶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819520" y="335268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全脂奶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710880" y="2436840"/>
              <a:ext cx="51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5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961800" y="1820880"/>
              <a:ext cx="132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不知道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/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很難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有餡麵包</a:t>
            </a: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/</a:t>
            </a: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三文治為</a:t>
            </a:r>
            <a:r>
              <a:rPr b="1" lang="zh-TW" sz="4000" spc="-1" strike="noStrike" u="sng">
                <a:solidFill>
                  <a:srgbClr val="438600"/>
                </a:solidFill>
                <a:uFillTx/>
                <a:latin typeface="CG Omega"/>
                <a:ea typeface="PMingLiU"/>
              </a:rPr>
              <a:t>在外吃早餐</a:t>
            </a: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白領最常吃的早餐食物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533520" y="1905120"/>
          <a:ext cx="807696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05120"/>
                    <a:ext cx="80769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6095880" y="6308640"/>
            <a:ext cx="3048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293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在外吃早餐人士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可選擇多項：共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1,086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 u="sng">
                <a:solidFill>
                  <a:srgbClr val="438600"/>
                </a:solidFill>
                <a:uFillTx/>
                <a:latin typeface="CG Omega"/>
                <a:ea typeface="PMingLiU"/>
              </a:rPr>
              <a:t>在家吃早餐</a:t>
            </a:r>
            <a:r>
              <a:rPr b="1" lang="zh-TW" sz="3800" spc="-1" strike="noStrike" u="sng">
                <a:solidFill>
                  <a:srgbClr val="2c8a5b"/>
                </a:solidFill>
                <a:uFillTx/>
                <a:latin typeface="CG Omega"/>
                <a:ea typeface="PMingLiU"/>
              </a:rPr>
              <a:t>而認為吃得健康</a:t>
            </a:r>
            <a:r>
              <a:rPr b="1" lang="zh-TW" sz="3800" spc="-1" strike="noStrike">
                <a:solidFill>
                  <a:srgbClr val="2c8a5b"/>
                </a:solidFill>
                <a:latin typeface="CG Omega"/>
                <a:ea typeface="PMingLiU"/>
              </a:rPr>
              <a:t>的人士</a:t>
            </a:r>
            <a:br>
              <a:rPr sz="3800"/>
            </a:br>
            <a:r>
              <a:rPr b="1" lang="zh-TW" sz="3800" spc="-1" strike="noStrike">
                <a:solidFill>
                  <a:srgbClr val="2c8a5b"/>
                </a:solidFill>
                <a:latin typeface="CG Omega"/>
                <a:ea typeface="PMingLiU"/>
              </a:rPr>
              <a:t>每星期會吃以下早餐食品兩次或以上</a:t>
            </a:r>
            <a:endParaRPr b="1" lang="en-US" sz="38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6324480"/>
            <a:ext cx="426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182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在家吃早餐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+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認為吃得健康人士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469800" y="2133720"/>
          <a:ext cx="7883640" cy="39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2133720"/>
                    <a:ext cx="7883640" cy="39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 u="sng">
                <a:solidFill>
                  <a:srgbClr val="2c8a5b"/>
                </a:solidFill>
                <a:uFillTx/>
                <a:latin typeface="PMingLiU"/>
                <a:ea typeface="PMingLiU"/>
              </a:rPr>
              <a:t>出外食早餐</a:t>
            </a:r>
            <a:r>
              <a:rPr b="1" lang="zh-TW" sz="3600" spc="-1" strike="noStrike" u="sng">
                <a:solidFill>
                  <a:srgbClr val="2c8a5b"/>
                </a:solidFill>
                <a:uFillTx/>
                <a:latin typeface="PMingLiU"/>
                <a:ea typeface="PMingLiU"/>
              </a:rPr>
              <a:t>/</a:t>
            </a:r>
            <a:r>
              <a:rPr b="1" lang="zh-TW" sz="3600" spc="-1" strike="noStrike" u="sng">
                <a:solidFill>
                  <a:srgbClr val="2c8a5b"/>
                </a:solidFill>
                <a:uFillTx/>
                <a:latin typeface="PMingLiU"/>
                <a:ea typeface="PMingLiU"/>
              </a:rPr>
              <a:t>買外賣而認為吃得健康</a:t>
            </a:r>
            <a:br>
              <a:rPr sz="3600"/>
            </a:br>
            <a:r>
              <a:rPr b="1" lang="zh-TW" sz="3600" spc="-1" strike="noStrike">
                <a:solidFill>
                  <a:srgbClr val="2c8a5b"/>
                </a:solidFill>
                <a:latin typeface="PMingLiU"/>
                <a:ea typeface="PMingLiU"/>
              </a:rPr>
              <a:t>的人士所吃早餐主要包括</a:t>
            </a:r>
            <a:endParaRPr b="1" lang="en-US" sz="36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393" name=""/>
          <p:cNvSpPr/>
          <p:nvPr/>
        </p:nvSpPr>
        <p:spPr>
          <a:xfrm>
            <a:off x="4114800" y="6324480"/>
            <a:ext cx="502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PMingLiU"/>
                <a:ea typeface="PMingLiU"/>
              </a:rPr>
              <a:t>有效樣本：</a:t>
            </a:r>
            <a:r>
              <a:rPr b="0" lang="zh-TW" sz="1200" spc="-1" strike="noStrike">
                <a:solidFill>
                  <a:srgbClr val="000000"/>
                </a:solidFill>
                <a:latin typeface="PMingLiU"/>
                <a:ea typeface="PMingLiU"/>
              </a:rPr>
              <a:t>195</a:t>
            </a:r>
            <a:r>
              <a:rPr b="0" lang="zh-TW" sz="1200" spc="-1" strike="noStrike">
                <a:solidFill>
                  <a:srgbClr val="000000"/>
                </a:solidFill>
                <a:latin typeface="PMingLiU"/>
                <a:ea typeface="PMingLiU"/>
              </a:rPr>
              <a:t>個</a:t>
            </a:r>
            <a:r>
              <a:rPr b="0" lang="zh-TW" sz="1200" spc="-1" strike="noStrike">
                <a:solidFill>
                  <a:srgbClr val="000000"/>
                </a:solidFill>
                <a:latin typeface="PMingLiU"/>
                <a:ea typeface="PMingLiU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PMingLiU"/>
                <a:ea typeface="PMingLiU"/>
              </a:rPr>
              <a:t>出外吃早餐</a:t>
            </a:r>
            <a:r>
              <a:rPr b="0" lang="zh-TW" sz="1200" spc="-1" strike="noStrike">
                <a:solidFill>
                  <a:srgbClr val="000000"/>
                </a:solidFill>
                <a:latin typeface="PMingLiU"/>
                <a:ea typeface="PMingLiU"/>
              </a:rPr>
              <a:t>/</a:t>
            </a:r>
            <a:r>
              <a:rPr b="0" lang="zh-TW" sz="1200" spc="-1" strike="noStrike">
                <a:solidFill>
                  <a:srgbClr val="000000"/>
                </a:solidFill>
                <a:latin typeface="PMingLiU"/>
                <a:ea typeface="PMingLiU"/>
              </a:rPr>
              <a:t>買外賣</a:t>
            </a:r>
            <a:r>
              <a:rPr b="0" lang="zh-TW" sz="1200" spc="-1" strike="noStrike">
                <a:solidFill>
                  <a:srgbClr val="000000"/>
                </a:solidFill>
                <a:latin typeface="PMingLiU"/>
                <a:ea typeface="PMingLiU"/>
              </a:rPr>
              <a:t>+</a:t>
            </a:r>
            <a:r>
              <a:rPr b="0" lang="zh-TW" sz="1200" spc="-1" strike="noStrike">
                <a:solidFill>
                  <a:srgbClr val="000000"/>
                </a:solidFill>
                <a:latin typeface="PMingLiU"/>
                <a:ea typeface="PMingLiU"/>
              </a:rPr>
              <a:t>認為吃得健康人士</a:t>
            </a:r>
            <a:r>
              <a:rPr b="0" lang="zh-TW" sz="1200" spc="-1" strike="noStrike">
                <a:solidFill>
                  <a:srgbClr val="000000"/>
                </a:solidFill>
                <a:latin typeface="PMingLiU"/>
                <a:ea typeface="PMingLiU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533520" y="2077920"/>
          <a:ext cx="8076960" cy="35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77920"/>
                    <a:ext cx="8076960" cy="35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c8a5b"/>
                </a:solidFill>
                <a:latin typeface="PMingLiU"/>
                <a:ea typeface="PMingLiU"/>
              </a:rPr>
              <a:t>白領人士的早餐習慣</a:t>
            </a:r>
            <a:br>
              <a:rPr sz="4000"/>
            </a:br>
            <a:r>
              <a:rPr b="1" lang="zh-TW" sz="4000" spc="-1" strike="noStrike">
                <a:solidFill>
                  <a:srgbClr val="2c8a5b"/>
                </a:solidFill>
                <a:latin typeface="PMingLiU"/>
                <a:ea typeface="PMingLiU"/>
              </a:rPr>
              <a:t>總結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六成人進食食肆購買的早餐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不論在家準備早餐或在食肆購買，麵包均是最常吃的早餐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七成多人認為自己吃的早餐健康，然而，所吃的卻包含不少不健康的食物 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如低纖的方包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豬仔包，高脂高膽固醇的三文治、煎蛋、餐肉香腸等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相對來說，在家吃早餐的白領，所選食物較健康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8a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PMingLiU"/>
                <a:ea typeface="PMingLiU"/>
              </a:rPr>
              <a:t>白領人士的午餐習慣</a:t>
            </a:r>
            <a:endParaRPr b="1" lang="en-US" sz="4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調查</a:t>
            </a:r>
            <a:r>
              <a:rPr b="1" lang="zh-TW" sz="4000" spc="-1" strike="noStrike">
                <a:solidFill>
                  <a:srgbClr val="2c8a5b"/>
                </a:solidFill>
                <a:latin typeface="PMingLiU"/>
                <a:ea typeface="PMingLiU"/>
              </a:rPr>
              <a:t>目的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非典型肺炎雖然暫時告一段落，但如世衛專家指出，香港要隨時準備面對日後可能出現的疾病爆發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由於近年經濟下滑，要在有限的資金下保持身體健康，既食得健康，又同時食得經濟，是每個香港市民每日面對的問題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這項研究嘗試從生活化的角度，了解一段市民如何調節自己的飲食，並希望提出具體建議，幫助市民在艱難環境下維持健康體魄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CG Omega"/>
                <a:ea typeface="PMingLiU"/>
              </a:rPr>
              <a:t>六成半</a:t>
            </a: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白領</a:t>
            </a:r>
            <a:r>
              <a:rPr b="1" lang="zh-TW" sz="4000" spc="-1" strike="noStrike" u="sng">
                <a:solidFill>
                  <a:srgbClr val="2c8a5b"/>
                </a:solidFill>
                <a:uFillTx/>
                <a:latin typeface="CG Omega"/>
                <a:ea typeface="PMingLiU"/>
              </a:rPr>
              <a:t>出外吃午餐</a:t>
            </a:r>
            <a:br>
              <a:rPr sz="4000"/>
            </a:b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或買外賣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0" y="2286000"/>
          <a:ext cx="830592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0"/>
                    <a:ext cx="83059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6748920" y="6022800"/>
            <a:ext cx="121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511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209680" y="1981080"/>
            <a:ext cx="3962520" cy="3142080"/>
            <a:chOff x="2209680" y="1981080"/>
            <a:chExt cx="3962520" cy="3142080"/>
          </a:xfrm>
        </p:grpSpPr>
        <p:grpSp>
          <p:nvGrpSpPr>
            <p:cNvPr id="404" name=""/>
            <p:cNvGrpSpPr/>
            <p:nvPr/>
          </p:nvGrpSpPr>
          <p:grpSpPr>
            <a:xfrm>
              <a:off x="2209680" y="3733920"/>
              <a:ext cx="3962520" cy="1389240"/>
              <a:chOff x="2209680" y="3733920"/>
              <a:chExt cx="3962520" cy="1389240"/>
            </a:xfrm>
          </p:grpSpPr>
          <p:sp>
            <p:nvSpPr>
              <p:cNvPr id="405" name=""/>
              <p:cNvSpPr/>
              <p:nvPr/>
            </p:nvSpPr>
            <p:spPr>
              <a:xfrm>
                <a:off x="3505320" y="4724280"/>
                <a:ext cx="266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出外吃</a:t>
                </a:r>
                <a:r>
                  <a:rPr b="1" lang="zh-TW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/</a:t>
                </a:r>
                <a:r>
                  <a:rPr b="1" lang="zh-TW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買外賣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09680" y="3733920"/>
                <a:ext cx="190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自備午餐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3506760" y="2514600"/>
              <a:ext cx="5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5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285280" y="1981080"/>
              <a:ext cx="132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不知道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/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很難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8a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PMingLiU"/>
                <a:ea typeface="PMingLiU"/>
              </a:rPr>
              <a:t>出外午膳的分析</a:t>
            </a:r>
            <a:endParaRPr b="1" lang="en-US" sz="4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PMingLiU"/>
                <a:ea typeface="PMingLiU"/>
              </a:rPr>
              <a:t>七成</a:t>
            </a:r>
            <a:r>
              <a:rPr b="1" lang="zh-TW" sz="4000" spc="-1" strike="noStrike" u="sng">
                <a:solidFill>
                  <a:srgbClr val="2c8a5b"/>
                </a:solidFill>
                <a:uFillTx/>
                <a:latin typeface="PMingLiU"/>
                <a:ea typeface="PMingLiU"/>
              </a:rPr>
              <a:t>出外吃午餐</a:t>
            </a:r>
            <a:r>
              <a:rPr b="1" lang="zh-TW" sz="4000" spc="-1" strike="noStrike">
                <a:solidFill>
                  <a:srgbClr val="2c8a5b"/>
                </a:solidFill>
                <a:latin typeface="PMingLiU"/>
                <a:ea typeface="PMingLiU"/>
              </a:rPr>
              <a:t>白領人士</a:t>
            </a:r>
            <a:br>
              <a:rPr sz="4000"/>
            </a:br>
            <a:r>
              <a:rPr b="1" lang="zh-TW" sz="4000" spc="-1" strike="noStrike">
                <a:solidFill>
                  <a:srgbClr val="2c8a5b"/>
                </a:solidFill>
                <a:latin typeface="PMingLiU"/>
                <a:ea typeface="PMingLiU"/>
              </a:rPr>
              <a:t>經常於茶餐廳</a:t>
            </a:r>
            <a:r>
              <a:rPr b="1" lang="zh-TW" sz="4000" spc="-1" strike="noStrike">
                <a:solidFill>
                  <a:srgbClr val="2c8a5b"/>
                </a:solidFill>
                <a:latin typeface="PMingLiU"/>
                <a:ea typeface="PMingLiU"/>
              </a:rPr>
              <a:t>/</a:t>
            </a:r>
            <a:r>
              <a:rPr b="1" lang="zh-TW" sz="4000" spc="-1" strike="noStrike">
                <a:solidFill>
                  <a:srgbClr val="2c8a5b"/>
                </a:solidFill>
                <a:latin typeface="PMingLiU"/>
                <a:ea typeface="PMingLiU"/>
              </a:rPr>
              <a:t>快餐店午膳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066680" y="2259000"/>
          <a:ext cx="7239240" cy="33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59000"/>
                    <a:ext cx="7239240" cy="33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5867280" y="6095880"/>
            <a:ext cx="2971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334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出外吃午餐人士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可選擇多項：共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531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CG Omega"/>
                <a:ea typeface="PMingLiU"/>
              </a:rPr>
              <a:t>近半數</a:t>
            </a: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白領於午餐進食高脂肉類，如排骨、牛腩及雞翼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415" name=""/>
          <p:cNvSpPr/>
          <p:nvPr/>
        </p:nvSpPr>
        <p:spPr>
          <a:xfrm>
            <a:off x="6019920" y="6019920"/>
            <a:ext cx="2895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334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出外吃午餐人士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可選擇多項：共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1,005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927000" y="2270160"/>
          <a:ext cx="7137360" cy="32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2270160"/>
                    <a:ext cx="7137360" cy="32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 u="sng">
                <a:solidFill>
                  <a:srgbClr val="2c8a5b"/>
                </a:solidFill>
                <a:uFillTx/>
                <a:latin typeface="CG Omega"/>
                <a:ea typeface="PMingLiU"/>
              </a:rPr>
              <a:t>出外吃午餐</a:t>
            </a:r>
            <a:r>
              <a:rPr b="1" lang="zh-TW" sz="4000" spc="-1" strike="noStrike" u="sng">
                <a:solidFill>
                  <a:srgbClr val="2c8a5b"/>
                </a:solidFill>
                <a:uFillTx/>
                <a:latin typeface="CG Omega"/>
                <a:ea typeface="PMingLiU"/>
              </a:rPr>
              <a:t>/</a:t>
            </a:r>
            <a:r>
              <a:rPr b="1" lang="zh-TW" sz="4000" spc="-1" strike="noStrike" u="sng">
                <a:solidFill>
                  <a:srgbClr val="2c8a5b"/>
                </a:solidFill>
                <a:uFillTx/>
                <a:latin typeface="CG Omega"/>
                <a:ea typeface="PMingLiU"/>
              </a:rPr>
              <a:t>買外賣而認為吃得健康</a:t>
            </a: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的人士所吃午餐的肉類包括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6172200"/>
            <a:ext cx="41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210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出外吃午餐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+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認為吃得健康人士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533520" y="1676520"/>
          <a:ext cx="807696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80769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CG Omega"/>
                <a:ea typeface="PMingLiU"/>
              </a:rPr>
              <a:t>近四成</a:t>
            </a: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在外午餐人士吃雞肉時</a:t>
            </a:r>
            <a:br>
              <a:rPr sz="4000"/>
            </a:b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選擇連皮雞肉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228600" y="2133720"/>
          <a:ext cx="89154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33720"/>
                    <a:ext cx="89154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"/>
          <p:cNvSpPr/>
          <p:nvPr/>
        </p:nvSpPr>
        <p:spPr>
          <a:xfrm>
            <a:off x="5559480" y="6324480"/>
            <a:ext cx="27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243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出外吃午餐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+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吃雞肉人士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2819520" y="1897200"/>
            <a:ext cx="3580920" cy="2844720"/>
            <a:chOff x="2819520" y="1897200"/>
            <a:chExt cx="3580920" cy="2844720"/>
          </a:xfrm>
        </p:grpSpPr>
        <p:grpSp>
          <p:nvGrpSpPr>
            <p:cNvPr id="427" name=""/>
            <p:cNvGrpSpPr/>
            <p:nvPr/>
          </p:nvGrpSpPr>
          <p:grpSpPr>
            <a:xfrm>
              <a:off x="2819520" y="3886200"/>
              <a:ext cx="3580920" cy="855720"/>
              <a:chOff x="2819520" y="3886200"/>
              <a:chExt cx="3580920" cy="855720"/>
            </a:xfrm>
          </p:grpSpPr>
          <p:sp>
            <p:nvSpPr>
              <p:cNvPr id="428" name=""/>
              <p:cNvSpPr/>
              <p:nvPr/>
            </p:nvSpPr>
            <p:spPr>
              <a:xfrm>
                <a:off x="4800600" y="4343040"/>
                <a:ext cx="159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去皮雞肉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819520" y="3886200"/>
                <a:ext cx="159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連皮雞肉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4038480" y="2438280"/>
              <a:ext cx="74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4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276000" y="1897200"/>
              <a:ext cx="132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不知道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/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很難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一般白領人士所自備午餐</a:t>
            </a:r>
            <a:br>
              <a:rPr sz="4000"/>
            </a:b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包括飯麵</a:t>
            </a: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/</a:t>
            </a: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麵包、蔬菜、肉類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600200" y="2386080"/>
          <a:ext cx="6629400" cy="30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386080"/>
                    <a:ext cx="6629400" cy="30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6019920" y="6019920"/>
            <a:ext cx="28191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154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自備午餐人士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可選擇多項：共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606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CG Omega"/>
                <a:ea typeface="PMingLiU"/>
              </a:rPr>
              <a:t>半數</a:t>
            </a: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自備午餐白領人士</a:t>
            </a:r>
            <a:br>
              <a:rPr sz="4000"/>
            </a:b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每星期最少進食雞翼一次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437" name=""/>
          <p:cNvSpPr/>
          <p:nvPr/>
        </p:nvSpPr>
        <p:spPr>
          <a:xfrm>
            <a:off x="6172200" y="6019920"/>
            <a:ext cx="27432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154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自備午餐人士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可選擇多項：共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440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1066680" y="2182680"/>
          <a:ext cx="7315200" cy="33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182680"/>
                    <a:ext cx="7315200" cy="33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CG Omega"/>
                <a:ea typeface="PMingLiU"/>
              </a:rPr>
              <a:t>三成</a:t>
            </a: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自備午餐人士吃雞肉時</a:t>
            </a:r>
            <a:br>
              <a:rPr sz="4000"/>
            </a:b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選擇連皮雞肉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0" y="1905120"/>
          <a:ext cx="91440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91440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"/>
          <p:cNvSpPr/>
          <p:nvPr/>
        </p:nvSpPr>
        <p:spPr>
          <a:xfrm>
            <a:off x="5783400" y="6248520"/>
            <a:ext cx="25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101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自備午餐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+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吃雞肉人士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2666520" y="1676520"/>
            <a:ext cx="3505680" cy="2684880"/>
            <a:chOff x="2666520" y="1676520"/>
            <a:chExt cx="3505680" cy="2684880"/>
          </a:xfrm>
        </p:grpSpPr>
        <p:sp>
          <p:nvSpPr>
            <p:cNvPr id="445" name=""/>
            <p:cNvSpPr/>
            <p:nvPr/>
          </p:nvSpPr>
          <p:spPr>
            <a:xfrm>
              <a:off x="4572000" y="39625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去皮雞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66880" y="35812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連皮雞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06920" y="2593800"/>
              <a:ext cx="55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8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66520" y="1676520"/>
              <a:ext cx="132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不知道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/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很難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 u="sng">
                <a:solidFill>
                  <a:srgbClr val="2c8a5b"/>
                </a:solidFill>
                <a:uFillTx/>
                <a:latin typeface="CG Omega"/>
                <a:ea typeface="PMingLiU"/>
              </a:rPr>
              <a:t>自備午餐而認為吃得健康</a:t>
            </a: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的人士</a:t>
            </a:r>
            <a:br>
              <a:rPr sz="4000"/>
            </a:b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所吃午餐的肉類包括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450" name=""/>
          <p:cNvSpPr/>
          <p:nvPr/>
        </p:nvSpPr>
        <p:spPr>
          <a:xfrm>
            <a:off x="5029200" y="6324480"/>
            <a:ext cx="411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131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自備午餐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+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認為吃得健康人士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533520" y="1676520"/>
          <a:ext cx="807696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80769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調查概況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09480" y="1371600"/>
          <a:ext cx="8077320" cy="5114880"/>
        </p:xfrm>
        <a:graphic>
          <a:graphicData uri="http://schemas.openxmlformats.org/drawingml/2006/table">
            <a:tbl>
              <a:tblPr/>
              <a:tblGrid>
                <a:gridCol w="2416320"/>
                <a:gridCol w="5661000"/>
              </a:tblGrid>
              <a:tr h="99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調查目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3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了解現今經濟壓力及非典型肺炎肆虐下香港白領人士的飲食行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調查對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3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18-49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歲，有進食早餐及午餐習慣的在職白領人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調查日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3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2003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年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5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月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29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日至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6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月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3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調查機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3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香港大學民意研究計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調查方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3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電話隨機抽樣訪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成功訪問人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3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511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成功回應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3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73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抽樣誤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f3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少於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2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c8a5b"/>
                </a:solidFill>
                <a:latin typeface="PMingLiU"/>
                <a:ea typeface="PMingLiU"/>
              </a:rPr>
              <a:t>白領人士的午餐習慣</a:t>
            </a:r>
            <a:br>
              <a:rPr sz="4000"/>
            </a:br>
            <a:r>
              <a:rPr b="1" lang="zh-TW" sz="4000" spc="-1" strike="noStrike">
                <a:solidFill>
                  <a:srgbClr val="2c8a5b"/>
                </a:solidFill>
                <a:latin typeface="PMingLiU"/>
                <a:ea typeface="PMingLiU"/>
              </a:rPr>
              <a:t>總結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只有三成人士自備午餐，高達七成出外用膳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買外賣人士經常於茶餐廳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快餐店午膳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高脂肉類 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如雞翼、排骨、牛腩、午餐肉、炸魚肉等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) 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佔午餐食物中很大比例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自備午餐食物中亦不乏高脂選擇如雞翼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七成人認為自己吃的午餐健康，然而，所吃的卻包含不少不健康的高脂食物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8a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PMingLiU"/>
                <a:ea typeface="PMingLiU"/>
              </a:rPr>
              <a:t>經濟壓力和非典型肺炎對</a:t>
            </a:r>
            <a:br>
              <a:rPr sz="4400"/>
            </a:br>
            <a:r>
              <a:rPr b="1" lang="zh-TW" sz="4400" spc="-1" strike="noStrike">
                <a:solidFill>
                  <a:srgbClr val="ffffff"/>
                </a:solidFill>
                <a:latin typeface="PMingLiU"/>
                <a:ea typeface="PMingLiU"/>
              </a:rPr>
              <a:t>白領人士飲食習慣的影響</a:t>
            </a:r>
            <a:endParaRPr b="1" lang="en-US" sz="4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0000"/>
                </a:solidFill>
                <a:latin typeface="CG Omega"/>
                <a:ea typeface="PMingLiU"/>
              </a:rPr>
              <a:t>1/4</a:t>
            </a: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白領人士每餐開支</a:t>
            </a:r>
            <a:br>
              <a:rPr sz="4000"/>
            </a:b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較一年前少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0" y="1981080"/>
          <a:ext cx="91440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91440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7101360" y="6175440"/>
            <a:ext cx="121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511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2362320" y="1741320"/>
            <a:ext cx="4200840" cy="3153240"/>
            <a:chOff x="2362320" y="1741320"/>
            <a:chExt cx="4200840" cy="3153240"/>
          </a:xfrm>
        </p:grpSpPr>
        <p:sp>
          <p:nvSpPr>
            <p:cNvPr id="461" name=""/>
            <p:cNvSpPr/>
            <p:nvPr/>
          </p:nvSpPr>
          <p:spPr>
            <a:xfrm>
              <a:off x="2362320" y="380988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開支較少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495680" y="4495680"/>
              <a:ext cx="15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沒有分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362320" y="175248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開支較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593600" y="1741320"/>
              <a:ext cx="196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&lt;1% </a:t>
              </a:r>
              <a:r>
                <a:rPr b="1" lang="zh-TW" sz="20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不知道</a:t>
              </a:r>
              <a:r>
                <a:rPr b="1" lang="zh-TW" sz="20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/</a:t>
              </a:r>
              <a:r>
                <a:rPr b="1" lang="zh-TW" sz="20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很難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CG Omega"/>
                <a:ea typeface="PMingLiU"/>
              </a:rPr>
              <a:t>三成</a:t>
            </a: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人士於過去一年</a:t>
            </a:r>
            <a:br>
              <a:rPr sz="4000"/>
            </a:b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改變食物選擇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0" y="1905120"/>
          <a:ext cx="91440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91440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"/>
          <p:cNvSpPr/>
          <p:nvPr/>
        </p:nvSpPr>
        <p:spPr>
          <a:xfrm>
            <a:off x="7101360" y="6175440"/>
            <a:ext cx="121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511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2286000" y="3505320"/>
            <a:ext cx="3809880" cy="1465560"/>
            <a:chOff x="2286000" y="3505320"/>
            <a:chExt cx="3809880" cy="1465560"/>
          </a:xfrm>
        </p:grpSpPr>
        <p:sp>
          <p:nvSpPr>
            <p:cNvPr id="470" name=""/>
            <p:cNvSpPr/>
            <p:nvPr/>
          </p:nvSpPr>
          <p:spPr>
            <a:xfrm>
              <a:off x="2286000" y="3505320"/>
              <a:ext cx="220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改變食物選擇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352680" y="457200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沒有改變食物選擇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CG Omega"/>
                <a:ea typeface="PMingLiU"/>
              </a:rPr>
              <a:t>七成</a:t>
            </a: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白領要求均衡飲食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846000" y="1967040"/>
          <a:ext cx="7297920" cy="33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1967040"/>
                    <a:ext cx="7297920" cy="33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"/>
          <p:cNvSpPr/>
          <p:nvPr/>
        </p:nvSpPr>
        <p:spPr>
          <a:xfrm>
            <a:off x="5257800" y="5943600"/>
            <a:ext cx="3657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163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表示有改變食物選擇人士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可選擇多項：共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175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CG Omega"/>
                <a:ea typeface="PMingLiU"/>
              </a:rPr>
              <a:t>16% </a:t>
            </a: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為 </a:t>
            </a:r>
            <a:r>
              <a:rPr b="1" lang="zh-TW" sz="4000" spc="-1" strike="noStrike">
                <a:solidFill>
                  <a:srgbClr val="2c8a5b"/>
                </a:solidFill>
                <a:latin typeface="Symbol"/>
                <a:ea typeface="Symbol"/>
              </a:rPr>
              <a:t></a:t>
            </a: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慳錢</a:t>
            </a:r>
            <a:r>
              <a:rPr b="1" lang="zh-TW" sz="4000" spc="-1" strike="noStrike">
                <a:solidFill>
                  <a:srgbClr val="2c8a5b"/>
                </a:solidFill>
                <a:latin typeface="Symbol"/>
                <a:ea typeface="Symbol"/>
              </a:rPr>
              <a:t></a:t>
            </a: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 不吃午餐而</a:t>
            </a:r>
            <a:br>
              <a:rPr sz="4000"/>
            </a:b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轉吃價錢便宜的下午茶餐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0" y="2286000"/>
          <a:ext cx="91440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0"/>
                    <a:ext cx="91440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"/>
          <p:cNvSpPr/>
          <p:nvPr/>
        </p:nvSpPr>
        <p:spPr>
          <a:xfrm>
            <a:off x="6824880" y="6099120"/>
            <a:ext cx="121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511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2024640" y="1981080"/>
            <a:ext cx="4452480" cy="3066120"/>
            <a:chOff x="2024640" y="1981080"/>
            <a:chExt cx="4452480" cy="3066120"/>
          </a:xfrm>
        </p:grpSpPr>
        <p:sp>
          <p:nvSpPr>
            <p:cNvPr id="481" name=""/>
            <p:cNvSpPr/>
            <p:nvPr/>
          </p:nvSpPr>
          <p:spPr>
            <a:xfrm>
              <a:off x="4419720" y="289548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慳錢不吃午餐  轉吃下午茶餐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733920" y="464832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不會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024640" y="1981080"/>
              <a:ext cx="182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2% 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不知道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/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很難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8a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PMingLiU"/>
                <a:ea typeface="PMingLiU"/>
              </a:rPr>
              <a:t>白領人士對健康飲食</a:t>
            </a:r>
            <a:br>
              <a:rPr sz="4400"/>
            </a:br>
            <a:r>
              <a:rPr b="1" lang="zh-TW" sz="4400" spc="-1" strike="noStrike">
                <a:solidFill>
                  <a:srgbClr val="ffffff"/>
                </a:solidFill>
                <a:latin typeface="PMingLiU"/>
                <a:ea typeface="PMingLiU"/>
              </a:rPr>
              <a:t>的訴求</a:t>
            </a:r>
            <a:endParaRPr b="1" lang="en-US" sz="4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超過</a:t>
            </a:r>
            <a:r>
              <a:rPr b="1" lang="zh-TW" sz="4000" spc="-1" strike="noStrike">
                <a:solidFill>
                  <a:srgbClr val="ff0000"/>
                </a:solidFill>
                <a:latin typeface="CG Omega"/>
                <a:ea typeface="PMingLiU"/>
              </a:rPr>
              <a:t>六成</a:t>
            </a: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白領人士</a:t>
            </a:r>
            <a:br>
              <a:rPr sz="4000"/>
            </a:b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認為食肆食物不健康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0" y="1905120"/>
          <a:ext cx="91440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91440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"/>
          <p:cNvSpPr/>
          <p:nvPr/>
        </p:nvSpPr>
        <p:spPr>
          <a:xfrm>
            <a:off x="7206120" y="6175440"/>
            <a:ext cx="121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511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3048120" y="2819520"/>
            <a:ext cx="2438280" cy="2227680"/>
            <a:chOff x="3048120" y="2819520"/>
            <a:chExt cx="2438280" cy="2227680"/>
          </a:xfrm>
        </p:grpSpPr>
        <p:sp>
          <p:nvSpPr>
            <p:cNvPr id="490" name=""/>
            <p:cNvSpPr/>
            <p:nvPr/>
          </p:nvSpPr>
          <p:spPr>
            <a:xfrm>
              <a:off x="4495680" y="281952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健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505320" y="464832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不健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048120" y="2819520"/>
              <a:ext cx="1295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不知道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/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很難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認為食肆食物不健康之白領人士</a:t>
            </a:r>
            <a:br>
              <a:rPr sz="4000"/>
            </a:b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主要覺得食物太油膩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990720" y="2335320"/>
          <a:ext cx="7315200" cy="33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335320"/>
                    <a:ext cx="7315200" cy="33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"/>
          <p:cNvSpPr/>
          <p:nvPr/>
        </p:nvSpPr>
        <p:spPr>
          <a:xfrm>
            <a:off x="5334120" y="6019920"/>
            <a:ext cx="38098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311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認為食肆食物不健康人士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可選擇多項：共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553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57200" y="45720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PMingLiU"/>
              </a:rPr>
              <a:t>(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PMingLiU"/>
              </a:rPr>
              <a:t>包括太多鹽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PMingLiU"/>
              </a:rPr>
              <a:t>/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PMingLiU"/>
              </a:rPr>
              <a:t>人造色素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PMingLiU"/>
              </a:rPr>
              <a:t>/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PMingLiU"/>
              </a:rPr>
              <a:t>糖、不夠新鮮、沒有營養、份量太多等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PMingLiU"/>
              </a:rPr>
              <a:t>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CG Omega"/>
                <a:ea typeface="PMingLiU"/>
              </a:rPr>
              <a:t>超過八成</a:t>
            </a: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人士認為長期出外用膳會引致健康問題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685800" y="2133720"/>
          <a:ext cx="7788240" cy="41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778824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"/>
          <p:cNvSpPr/>
          <p:nvPr/>
        </p:nvSpPr>
        <p:spPr>
          <a:xfrm>
            <a:off x="7206120" y="6175440"/>
            <a:ext cx="121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511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3200400" y="1897200"/>
            <a:ext cx="2971800" cy="2768760"/>
            <a:chOff x="3200400" y="1897200"/>
            <a:chExt cx="2971800" cy="2768760"/>
          </a:xfrm>
        </p:grpSpPr>
        <p:sp>
          <p:nvSpPr>
            <p:cNvPr id="503" name=""/>
            <p:cNvSpPr/>
            <p:nvPr/>
          </p:nvSpPr>
          <p:spPr>
            <a:xfrm>
              <a:off x="3733920" y="426708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長期出外用膳會引致健康問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200400" y="33526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不會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190400" y="1897200"/>
              <a:ext cx="132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不知道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/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很難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859200" y="2593800"/>
              <a:ext cx="55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6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8a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PMingLiU"/>
                <a:ea typeface="PMingLiU"/>
              </a:rPr>
              <a:t>調查結果</a:t>
            </a:r>
            <a:endParaRPr b="1" lang="en-US" sz="4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c8a5b"/>
                </a:solidFill>
                <a:latin typeface="PMingLiU"/>
                <a:ea typeface="PMingLiU"/>
              </a:rPr>
              <a:t>受訪者認為</a:t>
            </a: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膽固醇高和肥胖是</a:t>
            </a:r>
            <a:br>
              <a:rPr sz="4000"/>
            </a:b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長期出外用膳引致的主要健康問題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838080" y="2200320"/>
          <a:ext cx="7772400" cy="35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0320"/>
                    <a:ext cx="7772400" cy="35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>
            <a:off x="6095880" y="6019920"/>
            <a:ext cx="3048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415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認為長期出外用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                    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會引致健康問題人士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可選擇多項：共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1,147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CG Omega"/>
                <a:ea typeface="PMingLiU"/>
              </a:rPr>
              <a:t>五成半</a:t>
            </a: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白領人士認為出外用膳</a:t>
            </a: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/</a:t>
            </a: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外賣缺乏足夠的健康選擇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627120" y="2286000"/>
          <a:ext cx="8192880" cy="39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2286000"/>
                    <a:ext cx="819288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"/>
          <p:cNvSpPr/>
          <p:nvPr/>
        </p:nvSpPr>
        <p:spPr>
          <a:xfrm>
            <a:off x="7129800" y="6099120"/>
            <a:ext cx="121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511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990720" y="2057400"/>
            <a:ext cx="5562360" cy="3142080"/>
            <a:chOff x="990720" y="2057400"/>
            <a:chExt cx="5562360" cy="3142080"/>
          </a:xfrm>
        </p:grpSpPr>
        <p:sp>
          <p:nvSpPr>
            <p:cNvPr id="516" name=""/>
            <p:cNvSpPr/>
            <p:nvPr/>
          </p:nvSpPr>
          <p:spPr>
            <a:xfrm>
              <a:off x="3505320" y="48006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不足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419720" y="3733920"/>
              <a:ext cx="213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出外用膳有足夠健康選擇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990720" y="2286000"/>
              <a:ext cx="281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無所謂，自己調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963240" y="259092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7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733920" y="2057400"/>
              <a:ext cx="220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不知道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/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很難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CG Omega"/>
                <a:ea typeface="PMingLiU"/>
              </a:rPr>
              <a:t>近八成</a:t>
            </a: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人士表示願意為健康</a:t>
            </a:r>
            <a:br>
              <a:rPr sz="4000"/>
            </a:b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改變飲食習慣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609480" y="2209680"/>
          <a:ext cx="7983720" cy="38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09680"/>
                    <a:ext cx="7983720" cy="38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>
            <a:off x="7206120" y="6175440"/>
            <a:ext cx="121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510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2895480" y="1981080"/>
            <a:ext cx="3200400" cy="2913480"/>
            <a:chOff x="2895480" y="1981080"/>
            <a:chExt cx="3200400" cy="2913480"/>
          </a:xfrm>
        </p:grpSpPr>
        <p:sp>
          <p:nvSpPr>
            <p:cNvPr id="526" name=""/>
            <p:cNvSpPr/>
            <p:nvPr/>
          </p:nvSpPr>
          <p:spPr>
            <a:xfrm>
              <a:off x="3124080" y="449568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願意改變飲食習慣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895480" y="32767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不願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886920" y="259092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7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971080" y="1981080"/>
              <a:ext cx="132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不知道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/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很難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8a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PMingLiU"/>
                <a:ea typeface="PMingLiU"/>
              </a:rPr>
              <a:t>總結</a:t>
            </a:r>
            <a:endParaRPr b="1" lang="en-US" sz="4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c8a5b"/>
                </a:solidFill>
                <a:latin typeface="PMingLiU"/>
                <a:ea typeface="PMingLiU"/>
              </a:rPr>
              <a:t>白領人士常吃高脂及低纖食物，</a:t>
            </a:r>
            <a:br>
              <a:rPr sz="4000"/>
            </a:br>
            <a:r>
              <a:rPr b="1" lang="zh-TW" sz="4000" spc="-1" strike="noStrike">
                <a:solidFill>
                  <a:srgbClr val="2c8a5b"/>
                </a:solidFill>
                <a:latin typeface="PMingLiU"/>
                <a:ea typeface="PMingLiU"/>
              </a:rPr>
              <a:t>危害健康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在經濟壓力和非典型肺炎影響下，白領人士工作壓力及經濟壓力增加，同時亦更注意飲食健康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白領人士希望以更經濟的價錢購買更健康的食物，以應付繁重的工作及可能的疫症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白領人士對健康、均衡飲食的訴求增加，亦表示願意為健康改變飲食習慣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c8a5b"/>
                </a:solidFill>
                <a:latin typeface="PMingLiU"/>
                <a:ea typeface="PMingLiU"/>
              </a:rPr>
              <a:t>港人維持身體健康，同渡經濟難關</a:t>
            </a:r>
            <a:br>
              <a:rPr sz="4000"/>
            </a:b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白領一方面 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節衣縮食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、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慳得就慳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，但無減其健康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低脂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飲食訴求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他們不滿食肆食物油膩，亦充份了解長期進食會引致膽固醇、肥胖及心臟病等問題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如何從中平衡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減低兩餐支出但飲食均衡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，實為現今白領，特別是 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無飯一族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 的一大難題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日常飲食均衡，常吃高纖低脂食物如生果，蔬菜，瘦肉和燕麥等，已經能供應日常所需，不用大量花費購買補品進補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食肆亦同步提供價格相宜而健康的食物，幫助港人維持身體健康，同渡經濟難關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8a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PMingLiU"/>
                <a:ea typeface="PMingLiU"/>
              </a:rPr>
              <a:t>完</a:t>
            </a:r>
            <a:endParaRPr b="1" lang="en-US" sz="4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8a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PMingLiU"/>
                <a:ea typeface="PMingLiU"/>
              </a:rPr>
              <a:t>現今經濟壓力和非典型肺炎肆虐下</a:t>
            </a:r>
            <a:br>
              <a:rPr sz="3200"/>
            </a:br>
            <a:r>
              <a:rPr b="1" lang="zh-TW" sz="4800" spc="-1" strike="noStrike">
                <a:solidFill>
                  <a:srgbClr val="ffffff"/>
                </a:solidFill>
                <a:latin typeface="PMingLiU"/>
                <a:ea typeface="PMingLiU"/>
              </a:rPr>
              <a:t>白領人士面對的</a:t>
            </a:r>
            <a:r>
              <a:rPr b="1" lang="zh-TW" sz="4800" spc="-1" strike="noStrike">
                <a:solidFill>
                  <a:srgbClr val="ff0000"/>
                </a:solidFill>
                <a:latin typeface="PMingLiU"/>
                <a:ea typeface="PMingLiU"/>
              </a:rPr>
              <a:t>壓力</a:t>
            </a:r>
            <a:endParaRPr b="1" lang="en-US" sz="48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CG Omega"/>
                <a:ea typeface="PMingLiU"/>
              </a:rPr>
              <a:t>近六成</a:t>
            </a:r>
            <a:r>
              <a:rPr b="1" lang="zh-TW" sz="4400" spc="-1" strike="noStrike">
                <a:solidFill>
                  <a:srgbClr val="2c8a5b"/>
                </a:solidFill>
                <a:latin typeface="CG Omega"/>
                <a:ea typeface="PMingLiU"/>
              </a:rPr>
              <a:t>白領感到</a:t>
            </a:r>
            <a:br>
              <a:rPr sz="4400"/>
            </a:br>
            <a:r>
              <a:rPr b="1" lang="zh-TW" sz="4400" spc="-1" strike="noStrike">
                <a:solidFill>
                  <a:srgbClr val="2c8a5b"/>
                </a:solidFill>
                <a:latin typeface="CG Omega"/>
                <a:ea typeface="PMingLiU"/>
              </a:rPr>
              <a:t>工作壓力較一年前大</a:t>
            </a:r>
            <a:endParaRPr b="1" lang="en-US" sz="44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801720" y="2443320"/>
          <a:ext cx="7692840" cy="37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1720" y="2443320"/>
                    <a:ext cx="7692840" cy="37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7101360" y="6175440"/>
            <a:ext cx="121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510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447920" y="2133720"/>
            <a:ext cx="4952880" cy="2379960"/>
            <a:chOff x="1447920" y="2133720"/>
            <a:chExt cx="4952880" cy="2379960"/>
          </a:xfrm>
        </p:grpSpPr>
        <p:sp>
          <p:nvSpPr>
            <p:cNvPr id="329" name=""/>
            <p:cNvSpPr/>
            <p:nvPr/>
          </p:nvSpPr>
          <p:spPr>
            <a:xfrm>
              <a:off x="2743200" y="396252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沒有分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572000" y="41148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工作壓力  比以前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447920" y="213372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工作壓力比以前少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462920" y="2133720"/>
              <a:ext cx="182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1% 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不知道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/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很難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CG Omega"/>
                <a:ea typeface="PMingLiU"/>
              </a:rPr>
              <a:t>過半數</a:t>
            </a: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白領人士因非典型肺炎</a:t>
            </a:r>
            <a:r>
              <a:rPr b="1" lang="zh-TW" sz="4400" spc="-1" strike="noStrike">
                <a:solidFill>
                  <a:srgbClr val="2c8a5b"/>
                </a:solidFill>
                <a:latin typeface="CG Omega"/>
                <a:ea typeface="PMingLiU"/>
              </a:rPr>
              <a:t>而</a:t>
            </a: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更注意飲食健康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533520" y="2666880"/>
          <a:ext cx="807696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666880"/>
                    <a:ext cx="807696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7101360" y="6175440"/>
            <a:ext cx="121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511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514600" y="2209680"/>
            <a:ext cx="3886200" cy="2669040"/>
            <a:chOff x="2514600" y="2209680"/>
            <a:chExt cx="3886200" cy="2669040"/>
          </a:xfrm>
        </p:grpSpPr>
        <p:grpSp>
          <p:nvGrpSpPr>
            <p:cNvPr id="338" name=""/>
            <p:cNvGrpSpPr/>
            <p:nvPr/>
          </p:nvGrpSpPr>
          <p:grpSpPr>
            <a:xfrm>
              <a:off x="2666880" y="4251240"/>
              <a:ext cx="3733920" cy="627480"/>
              <a:chOff x="2666880" y="4251240"/>
              <a:chExt cx="3733920" cy="627480"/>
            </a:xfrm>
          </p:grpSpPr>
          <p:sp>
            <p:nvSpPr>
              <p:cNvPr id="339" name=""/>
              <p:cNvSpPr/>
              <p:nvPr/>
            </p:nvSpPr>
            <p:spPr>
              <a:xfrm>
                <a:off x="2666880" y="4251240"/>
                <a:ext cx="152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沒有分別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343400" y="44798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000" spc="-1" strike="noStrike">
                    <a:solidFill>
                      <a:srgbClr val="000000"/>
                    </a:solidFill>
                    <a:latin typeface="CG Omega"/>
                    <a:ea typeface="PMingLiU"/>
                  </a:rPr>
                  <a:t>比以前更注意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2514600" y="2209680"/>
              <a:ext cx="182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&lt;1% 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比以前更不注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191120" y="2209680"/>
              <a:ext cx="1981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&lt;1% 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不知道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/ 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很難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8a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PMingLiU"/>
                <a:ea typeface="PMingLiU"/>
              </a:rPr>
              <a:t>白領人士認為</a:t>
            </a:r>
            <a:br>
              <a:rPr sz="4800"/>
            </a:br>
            <a:r>
              <a:rPr b="1" lang="zh-TW" sz="6000" spc="-1" strike="noStrike">
                <a:solidFill>
                  <a:srgbClr val="ff0066"/>
                </a:solidFill>
                <a:latin typeface="PMingLiU"/>
                <a:ea typeface="PMingLiU"/>
              </a:rPr>
              <a:t>自己吃得健康？</a:t>
            </a:r>
            <a:endParaRPr b="1" lang="en-US" sz="60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0000"/>
                </a:solidFill>
                <a:latin typeface="CG Omega"/>
                <a:ea typeface="PMingLiU"/>
              </a:rPr>
              <a:t>76%</a:t>
            </a:r>
            <a:r>
              <a:rPr b="1" lang="zh-TW" sz="4000" spc="-1" strike="noStrike">
                <a:solidFill>
                  <a:srgbClr val="2c8a5b"/>
                </a:solidFill>
                <a:latin typeface="PMingLiU"/>
                <a:ea typeface="PMingLiU"/>
              </a:rPr>
              <a:t>白領認為</a:t>
            </a:r>
            <a:br>
              <a:rPr sz="4000"/>
            </a:b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自己吃的早餐健康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380880" y="2286000"/>
          <a:ext cx="807732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0"/>
                    <a:ext cx="80773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6567840" y="5946840"/>
            <a:ext cx="121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511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990000" y="2133720"/>
            <a:ext cx="4801320" cy="2608560"/>
            <a:chOff x="990000" y="2133720"/>
            <a:chExt cx="4801320" cy="2608560"/>
          </a:xfrm>
        </p:grpSpPr>
        <p:sp>
          <p:nvSpPr>
            <p:cNvPr id="349" name=""/>
            <p:cNvSpPr/>
            <p:nvPr/>
          </p:nvSpPr>
          <p:spPr>
            <a:xfrm>
              <a:off x="4267080" y="4343400"/>
              <a:ext cx="15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早餐健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600200" y="213372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早餐不健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90000" y="2971800"/>
              <a:ext cx="132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不知道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/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很難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02:22:46Z</dcterms:created>
  <dc:creator>Grey Worldwide</dc:creator>
  <dc:description/>
  <dc:language>en-US</dc:language>
  <cp:lastModifiedBy>HKUPOP</cp:lastModifiedBy>
  <dcterms:modified xsi:type="dcterms:W3CDTF">2003-06-26T04:12:01Z</dcterms:modified>
  <cp:revision>321</cp:revision>
  <dc:subject/>
  <dc:title>PowerPoint Presentation</dc:title>
</cp:coreProperties>
</file>