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934E6C-CE70-4464-A7F4-94A1BF6DC34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8AC-F145-422C-8909-66EBBAC5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5B2-1163-48A8-A519-DC86C3D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937-C15A-4BCD-9F71-3D6BE00D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C18-FEE0-48AA-806F-A766FB04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E76-BE24-47CA-97F1-8886A87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01F-4E52-4FEF-BE1F-5FB4ED8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76F-D8F4-4826-92DC-86BFE0D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D43-6C3C-4C0D-AE47-D3D43716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838-179A-40CE-8786-C825150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83A-C2F1-4089-9C48-6B08905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F5B-806B-428F-8625-622ECBB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F90-B48C-49B3-BCE3-E2807C4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D4D-6753-4485-9550-8C4C26BDB1F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7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700" spc="-1" strike="noStrike">
                <a:solidFill>
                  <a:srgbClr val="ffffcc"/>
                </a:solidFill>
                <a:latin typeface="Times New Roman"/>
              </a:rPr>
              <a:t>Survey on Public’s Reception and Perception of Volunteer Services”</a:t>
            </a:r>
            <a:br>
              <a:rPr sz="3700"/>
            </a:b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765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ffff"/>
                </a:solidFill>
                <a:latin typeface="Times New Roman"/>
              </a:rPr>
              <a:t>Perceived Hourly rate of Organized Volunteer Work</a:t>
            </a:r>
            <a:endParaRPr b="0" lang="en-US" sz="2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2209680"/>
          <a:ext cx="8486640" cy="40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664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324480" y="198108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76.3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30.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Main Service Recipients over the past 12 months</a:t>
            </a:r>
            <a:br>
              <a:rPr sz="3300"/>
            </a:b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1840" y="1768320"/>
          <a:ext cx="85723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68320"/>
                    <a:ext cx="85723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3352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cffff"/>
                </a:solidFill>
                <a:latin typeface="Times New Roman"/>
              </a:rPr>
              <a:t>Nature of Volunteering Service Participated in </a:t>
            </a:r>
            <a:br>
              <a:rPr sz="3300"/>
            </a:br>
            <a:endParaRPr b="0" lang="en-US" sz="3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9880" y="1660680"/>
          <a:ext cx="868068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60680"/>
                    <a:ext cx="868068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33520" y="8380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Channels for Learning about Ways to Participate in Volunteering</a:t>
            </a:r>
            <a:r>
              <a:rPr b="1" lang="en-US" sz="4300" spc="-1" strike="noStrike">
                <a:solidFill>
                  <a:srgbClr val="ccffff"/>
                </a:solidFill>
                <a:latin typeface="Times New Roman"/>
              </a:rPr>
              <a:t>  </a:t>
            </a:r>
            <a:br>
              <a:rPr sz="4300"/>
            </a:b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Reasons for Participating in Volunteer Work</a:t>
            </a:r>
            <a:br>
              <a:rPr sz="4300"/>
            </a:b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9880" y="1619280"/>
          <a:ext cx="90345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9034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Need for Training before Participating in Volunteer Work</a:t>
            </a:r>
            <a:br>
              <a:rPr sz="4300"/>
            </a:b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1440" y="1795320"/>
          <a:ext cx="8477280" cy="45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795320"/>
                    <a:ext cx="847728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20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90560" y="14479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About one-quarter of respondents had participated in organized volunteerin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About one-seventh volunteered over the p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12 times on average and 3 hours each tim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Perceived monetary value contributed was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＄</a:t>
            </a: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2700 per person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Service recipients were mainly educational organizations, religious bodies and social organizations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Volunteer services provided were mainly visiting and recreational activities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ccecff"/>
                </a:solidFill>
                <a:latin typeface="Times New Roman"/>
              </a:rPr>
              <a:t>Main channels were through friends and schools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3160" y="21333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xperience &amp; Motive of Participating in Volunteer work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：</a:t>
            </a:r>
            <a:br>
              <a:rPr sz="2000"/>
            </a:b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utual aid generally refers to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spontaneous behaviors aiming to help others that are not organ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would happen from time to t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example</a:t>
            </a:r>
            <a:r>
              <a:rPr b="1" lang="zh-CN" sz="24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elping the elderly cross the roads, helping your elderly neighbor for daily necessity and taking care of neighbor’s childr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1880" y="1824120"/>
          <a:ext cx="819144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824120"/>
                    <a:ext cx="81914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ontact Informa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Date of survey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28 Sep – 5 Oct 2001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arget population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Cantonese-speaking population of Hong Kong aged 15 or abov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urvey method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lephone surve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ample size     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1,555 successful case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Response rate  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64.2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2803680" indent="-28036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Standard error     </a:t>
            </a:r>
            <a:r>
              <a:rPr b="1" lang="zh-CN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Less than 1.3%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ffff"/>
                </a:solidFill>
                <a:latin typeface="Times New Roman"/>
              </a:rPr>
              <a:t>Last Participation in</a:t>
            </a:r>
            <a:r>
              <a:rPr b="1" lang="en-US" sz="39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3900" spc="-1" strike="noStrike">
                <a:solidFill>
                  <a:srgbClr val="ccffff"/>
                </a:solidFill>
                <a:latin typeface="Times New Roman"/>
              </a:rPr>
              <a:t>Mutual Aid</a:t>
            </a:r>
            <a:br>
              <a:rPr sz="42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mutual aid before]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3880" y="1700280"/>
          <a:ext cx="8721720" cy="48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700280"/>
                    <a:ext cx="8721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No. of times Participated in Mutual Aid over the past 12 months</a:t>
            </a:r>
            <a:r>
              <a:rPr b="1" lang="en-US" sz="35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3500"/>
            </a:br>
            <a:r>
              <a:rPr b="1" lang="en-US" sz="1800" spc="-1" strike="noStrike">
                <a:solidFill>
                  <a:srgbClr val="ccffff"/>
                </a:solidFill>
                <a:latin typeface="新細明體"/>
              </a:rPr>
              <a:t>[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Excluding those who are certain that they have not participated in mutual aid over the past 12 months</a:t>
            </a:r>
            <a:r>
              <a:rPr b="1" lang="en-US" sz="1800" spc="-1" strike="noStrike">
                <a:solidFill>
                  <a:srgbClr val="ccffff"/>
                </a:solidFill>
                <a:latin typeface="新細明體"/>
              </a:rPr>
              <a:t>]</a:t>
            </a:r>
            <a:r>
              <a:rPr b="1" lang="en-US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9840" y="1604880"/>
          <a:ext cx="834228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604880"/>
                    <a:ext cx="83422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400800" y="1752480"/>
            <a:ext cx="213372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18.5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3.44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No. of hours Participated in Mutual Aid over the past 12 months</a:t>
            </a:r>
            <a:r>
              <a:rPr b="1" lang="en-US" sz="35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3700"/>
            </a:br>
            <a:endParaRPr b="0" lang="en-US" sz="3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880" y="1986120"/>
          <a:ext cx="8885520" cy="45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986120"/>
                    <a:ext cx="88855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248520" y="1676520"/>
            <a:ext cx="2361960" cy="7095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21.9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6.61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43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mutual aid over the past 12 months ]</a:t>
            </a:r>
            <a:r>
              <a:rPr b="1" lang="en-US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ffff"/>
                </a:solidFill>
                <a:latin typeface="Times New Roman"/>
              </a:rPr>
              <a:t>Perceived Hourly rate of Mutual Aid</a:t>
            </a:r>
            <a:r>
              <a:rPr b="1" lang="en-US" sz="29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6000" y="2362320"/>
          <a:ext cx="86738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362320"/>
                    <a:ext cx="86738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324480" y="2057400"/>
            <a:ext cx="236232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$32.4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: $1.83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[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Excluding those who are certain that they have not participated in mutual aid over the past 12 months </a:t>
            </a:r>
            <a:r>
              <a:rPr b="1" lang="zh-TW" sz="1800" spc="-1" strike="noStrike">
                <a:solidFill>
                  <a:srgbClr val="ccffff"/>
                </a:solidFill>
                <a:latin typeface="新細明體"/>
              </a:rPr>
              <a:t>]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More than half of the respondents had  participated in mutual aid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one-third volunteered over the p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lmost 20 times on average and 1 hour each time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erceived monetary value contributed was </a:t>
            </a:r>
            <a:r>
              <a:rPr b="1" lang="zh-CN" sz="2100" spc="-1" strike="noStrike">
                <a:solidFill>
                  <a:srgbClr val="ccecff"/>
                </a:solidFill>
                <a:latin typeface="Times New Roman"/>
              </a:rPr>
              <a:t>＄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700 per person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Broadly speaking, over 60% of respondents had participated in any form of volunteer wor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bout two-fifth volunteered over the last year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ntion and Reasons for Future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</a:rPr>
              <a:t>Intention for Participating in Volunteering again</a:t>
            </a:r>
            <a:br>
              <a:rPr sz="3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volunteer work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905120"/>
          <a:ext cx="75582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582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Reasons for not Volunteer in the future</a:t>
            </a:r>
            <a:br>
              <a:rPr sz="4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will not continue to volunteer in the future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7440" y="1619280"/>
          <a:ext cx="876312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19280"/>
                    <a:ext cx="876312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ff"/>
                </a:solidFill>
                <a:latin typeface="Times New Roman"/>
              </a:rPr>
              <a:t>Reasons for not Participating in Volunteer Work</a:t>
            </a:r>
            <a:br>
              <a:rPr sz="34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never participated in volunteer work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99880" y="1619280"/>
          <a:ext cx="870768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076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Intention for Future Volunteering</a:t>
            </a:r>
            <a:br>
              <a:rPr sz="40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never participated in volunteer work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3880" y="1986120"/>
          <a:ext cx="8313840" cy="42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986120"/>
                    <a:ext cx="83138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Organized Volunteerin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xperience &amp; Mot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ntribution &amp; Val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Mutual Aid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xperience &amp; Mot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ntribution &amp; Val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Future Trend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tention for Future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tiva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indranc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Times New Roman"/>
              </a:rPr>
              <a:t>Support &amp; Barriers of Development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eneral Evalu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ocial Status of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irection of Developm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Reasons for Future Participation in Volunteer Work</a:t>
            </a:r>
            <a:r>
              <a:rPr b="1" lang="en-US" sz="43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would consider to volunteer in the future 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2840" y="1687680"/>
          <a:ext cx="8572320" cy="48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87680"/>
                    <a:ext cx="8572320" cy="48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General Motivations for People who Participate in Volunteering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7440" y="1687680"/>
          <a:ext cx="885816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87680"/>
                    <a:ext cx="885816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General Hindrances for People who do not Participate in Volunteering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8840" y="1170000"/>
          <a:ext cx="8858160" cy="54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170000"/>
                    <a:ext cx="885816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ing Others to Participate in Volunteering</a:t>
            </a:r>
            <a:br>
              <a:rPr sz="38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1905120"/>
          <a:ext cx="7918560" cy="44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91856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being Encouraged to Participate in Volunteering</a:t>
            </a:r>
            <a:br>
              <a:rPr sz="3800"/>
            </a:b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905120"/>
          <a:ext cx="75582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582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99880" y="1619280"/>
          <a:ext cx="87217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21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valuation of the Barriers and Expectations of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ffff"/>
                </a:solidFill>
                <a:latin typeface="Times New Roman"/>
              </a:rPr>
              <a:t>Barriers to the Local Development of Volunteering</a:t>
            </a:r>
            <a:br>
              <a:rPr sz="43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9880" y="1619280"/>
          <a:ext cx="8707680" cy="49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619280"/>
                    <a:ext cx="870768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Ways to Promote Local Volunteer Service</a:t>
            </a:r>
            <a:br>
              <a:rPr sz="3800"/>
            </a:b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including organized volunteering and mutual aid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85840" y="1755720"/>
          <a:ext cx="885816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755720"/>
                    <a:ext cx="88581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Experience &amp; Motive of Participating in Volunteer work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：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The Ideal Supporting Body for Developing Local Volunteering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1880" y="1604880"/>
          <a:ext cx="8315280" cy="46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604880"/>
                    <a:ext cx="831528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Perceived Social Status of Volunteers in Hong Kong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36440" y="2068560"/>
          <a:ext cx="8680680" cy="36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068560"/>
                    <a:ext cx="86806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14240" y="144792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sense of mutual aid of Hong Kong people was fair, over 60% had ever participated in any form of volunteer 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majority of those who had volunteered said they would continue to volunte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alf of those who had never volunteered said they would conside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volunteers were being respec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st people perceived helping others and serving the community were the motivations for volunteering, but a waste of time was their major hindr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58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utual encouragement to volunteer only occurred among 30% to 40% of respondents, the main source came from their frien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r future development, opinions were split between improving economic condition, injecting resources, cultivating the atmosphere for volunteering, more promotion, more governmental assistance and cultivating the care for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rty-seven percent of the overall sample thought that development of volunteering should ideally be supported by non-government bodies while 38% mentioned governm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ecff"/>
                </a:solidFill>
                <a:latin typeface="Times New Roman"/>
                <a:ea typeface="細明體"/>
              </a:rPr>
              <a:t>THANK YOU</a:t>
            </a:r>
            <a:endParaRPr b="0" lang="en-US" sz="7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rganized volunteering generally refers to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any services that are provided by aspiring individuals who are willing to contribute their time and effor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r no retur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r improving the commun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organized by voluntary organizations or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example</a:t>
            </a:r>
            <a:r>
              <a:rPr b="1" lang="zh-CN" sz="24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visiting, escorting, providing clerical work, homework tutoring as well as joining Kai Fong Association and Alumnu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rganized Volunteer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ast Participation in Organized Volunteering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53880" y="1714680"/>
          <a:ext cx="86266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714680"/>
                    <a:ext cx="86266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ffff"/>
                </a:solidFill>
                <a:latin typeface="Times New Roman"/>
              </a:rPr>
              <a:t>No. of times Participated in Organized Volunteering over the past 12 months</a:t>
            </a:r>
            <a:endParaRPr b="0" lang="en-US" sz="3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9840" y="2286000"/>
          <a:ext cx="838188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3818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248520" y="2133720"/>
            <a:ext cx="2286000" cy="955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11.9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Standard error : </a:t>
            </a:r>
            <a:r>
              <a:rPr b="0" i="1" lang="en-US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900" spc="-1" strike="noStrike">
                <a:solidFill>
                  <a:srgbClr val="ccffff"/>
                </a:solidFill>
                <a:latin typeface="新細明體"/>
              </a:rPr>
              <a:t>2.41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ff"/>
                </a:solidFill>
                <a:latin typeface="Times New Roman"/>
              </a:rPr>
              <a:t>No. of hours Participated in Organized Volunteering over the past 12 months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9880" y="1986120"/>
          <a:ext cx="8885520" cy="45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986120"/>
                    <a:ext cx="88855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324480" y="2133720"/>
            <a:ext cx="2590920" cy="5871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Mean:</a:t>
            </a:r>
            <a:r>
              <a:rPr b="0" i="1" lang="en-US" sz="18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34.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Standard error: </a:t>
            </a:r>
            <a:r>
              <a:rPr b="0" i="1" lang="en-US" sz="18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en-US" sz="1800" spc="-1" strike="noStrike">
                <a:solidFill>
                  <a:srgbClr val="ccffff"/>
                </a:solidFill>
                <a:latin typeface="新細明體"/>
              </a:rPr>
              <a:t>6.4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zh-TW" sz="37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8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organized volunteering over the past 12 months 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2-09-02T06:13:21Z</dcterms:modified>
  <cp:revision>363</cp:revision>
  <dc:subject/>
  <dc:title>無投影片標題</dc:title>
</cp:coreProperties>
</file>