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E19A8F-0DC6-48DA-8F67-E4EB1D2E217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8F7-7A65-44DC-9C47-F31A0D3D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45F-20BB-4E45-A203-7387A840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7D5-B3FA-4B12-8A9B-C05AAD83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4CC-A37D-451A-AFE6-C8D0F679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DC9-F77B-44AB-B89F-5A408117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617-5906-4EFE-9BD4-67DC1ABD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D08-BFD1-4195-AB29-EF81CFF4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86D-3CC5-4963-B4B8-A984F452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0DA-3230-4DFB-93E4-9B79CB7B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843-BEAE-4D3E-A3DD-EA173113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718-4DDA-4E07-B338-0019F397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FE0-2E64-445D-B29A-3FAAD021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918D-B38C-46F6-81E5-8C159C819012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Study on Public’s Reception and 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Perception of Volunteer Services”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91440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 民意研究計劃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19320" y="762120"/>
          <a:ext cx="160956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16095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286000" y="46483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r Robert CHUNG Ting-yiu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5410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9 November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o. of times Participated in Volunteering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volunteering over the past 12 months ]</a:t>
            </a:r>
            <a:r>
              <a:rPr b="1" lang="zh-TW" sz="1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47920" y="1371600"/>
          <a:ext cx="6476760" cy="4811760"/>
        </p:xfrm>
        <a:graphic>
          <a:graphicData uri="http://schemas.openxmlformats.org/drawingml/2006/table">
            <a:tbl>
              <a:tblPr/>
              <a:tblGrid>
                <a:gridCol w="1601640"/>
                <a:gridCol w="2473200"/>
                <a:gridCol w="240192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ed Volunteering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56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utual Aid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829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 tim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 times or abov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>
                      <a:noFill/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.4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.4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657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No. of hours Participated in Volunteering*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895480" y="1295280"/>
          <a:ext cx="5791320" cy="29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95280"/>
                    <a:ext cx="579132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594360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*Excluding those who are certain that they have not participated in volunteering over the past 12 months </a:t>
            </a:r>
            <a:r>
              <a:rPr b="1" lang="zh-TW" sz="1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6520" y="3657600"/>
          <a:ext cx="6218280" cy="278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657600"/>
                    <a:ext cx="621828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809880" y="15238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rganized 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37339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tual Ai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1219320"/>
          <a:ext cx="3047760" cy="1415880"/>
        </p:xfrm>
        <a:graphic>
          <a:graphicData uri="http://schemas.openxmlformats.org/drawingml/2006/table">
            <a:tbl>
              <a:tblPr/>
              <a:tblGrid>
                <a:gridCol w="838080"/>
                <a:gridCol w="1143000"/>
                <a:gridCol w="10666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ed Volunteering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56)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utual Aid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829)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4.8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.9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42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61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erceived Hourly Rate of Volunteer Work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858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zh-TW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4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volunteering over the past 12 months ]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371600" y="1905120"/>
          <a:ext cx="6477120" cy="4346280"/>
        </p:xfrm>
        <a:graphic>
          <a:graphicData uri="http://schemas.openxmlformats.org/drawingml/2006/table">
            <a:tbl>
              <a:tblPr/>
              <a:tblGrid>
                <a:gridCol w="1676520"/>
                <a:gridCol w="2590560"/>
                <a:gridCol w="22100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ed Volunteer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56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utual Ai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829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0 - $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10 -$1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20 -$2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30 -$3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40 -$4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50 -$5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60 or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>
                      <a:noFill/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ffff"/>
                          </a:solidFill>
                          <a:latin typeface="Times New Roman"/>
                        </a:rPr>
                        <a:t>$76.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32.4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ffff"/>
                          </a:solidFill>
                          <a:latin typeface="Times New Roman"/>
                        </a:rPr>
                        <a:t>$30.04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1.8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133720" y="380880"/>
          <a:ext cx="6421320" cy="28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80880"/>
                    <a:ext cx="642132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380880"/>
            <a:ext cx="8305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o. of Volunteers Deployed*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202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3657600"/>
          <a:ext cx="5888160" cy="275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588816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143000" y="32004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o. of Service Hours Contributed by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ach Volunteer* </a:t>
            </a:r>
            <a:br>
              <a:rPr sz="2400"/>
            </a:b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202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624852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Times New Roman"/>
              </a:rPr>
              <a:t>*Excluding those who are certain that they have not received any volunteering service over the past 12 month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066680"/>
          <a:ext cx="2286000" cy="709560"/>
        </p:xfrm>
        <a:graphic>
          <a:graphicData uri="http://schemas.openxmlformats.org/drawingml/2006/table">
            <a:tbl>
              <a:tblPr/>
              <a:tblGrid>
                <a:gridCol w="1495440"/>
                <a:gridCol w="790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37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0.3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553080" y="4343400"/>
          <a:ext cx="2286000" cy="709560"/>
        </p:xfrm>
        <a:graphic>
          <a:graphicData uri="http://schemas.openxmlformats.org/drawingml/2006/table">
            <a:tbl>
              <a:tblPr/>
              <a:tblGrid>
                <a:gridCol w="1495440"/>
                <a:gridCol w="790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.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6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tention of Involvemen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43000" y="1905120"/>
          <a:ext cx="7010280" cy="3794040"/>
        </p:xfrm>
        <a:graphic>
          <a:graphicData uri="http://schemas.openxmlformats.org/drawingml/2006/table">
            <a:tbl>
              <a:tblPr/>
              <a:tblGrid>
                <a:gridCol w="2286000"/>
                <a:gridCol w="2133720"/>
                <a:gridCol w="2590560"/>
              </a:tblGrid>
              <a:tr h="119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Volunteering*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968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eployment of Voluntee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3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’t know / hard to say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066680" y="59436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*Only ask those who have participated in any form of volunteer work befor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828800" y="3886200"/>
          <a:ext cx="5689440" cy="275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86200"/>
                    <a:ext cx="568944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257800"/>
            <a:ext cx="137160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2860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Reasons for not Volunteering*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587)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-152280" y="609480"/>
          <a:ext cx="8381880" cy="32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609480"/>
                    <a:ext cx="83818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066680" y="3505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Intention for Future Volunteering*</a:t>
            </a:r>
            <a:br>
              <a:rPr sz="2400"/>
            </a:b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587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6400800"/>
            <a:ext cx="64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*Only ask those who have never participated in volunteer work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ocial Influenc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ff"/>
                </a:solidFill>
                <a:latin typeface="Times New Roman"/>
              </a:rPr>
              <a:t>Experience of Encouragement</a:t>
            </a:r>
            <a:br>
              <a:rPr sz="38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Base = 1,555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19320" y="2819520"/>
          <a:ext cx="6705360" cy="1925640"/>
        </p:xfrm>
        <a:graphic>
          <a:graphicData uri="http://schemas.openxmlformats.org/drawingml/2006/table">
            <a:tbl>
              <a:tblPr/>
              <a:tblGrid>
                <a:gridCol w="1271520"/>
                <a:gridCol w="2797200"/>
                <a:gridCol w="26366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of encouraging othe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of being encouraged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9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ain Source of Encouragement</a:t>
            </a:r>
            <a:br>
              <a:rPr sz="2400"/>
            </a:b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[Only ask those who have been encouraged to participate in volunteering]</a:t>
            </a:r>
            <a:br>
              <a:rPr sz="1400"/>
            </a:b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ffff"/>
                </a:solidFill>
                <a:latin typeface="新細明體"/>
              </a:rPr>
              <a:t>(</a:t>
            </a: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Base = 502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38080" y="1447920"/>
          <a:ext cx="7866360" cy="39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866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62120" y="5105520"/>
            <a:ext cx="75438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*Opinion from focus groups: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Schools, business corporations, the elderly and new immigrant centers: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good entry points for promoting volunteeris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Schools as superlative bases for promoting volunteeris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Barriers and Expec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95280" y="23623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Participation: Actual and intend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ocial influe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Barriers and expect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Evaluation of provider agencies and the local cultu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ther top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981080"/>
            <a:ext cx="78487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Barriers to the Development of Volunteering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295280"/>
          <a:ext cx="8305920" cy="4584960"/>
        </p:xfrm>
        <a:graphic>
          <a:graphicData uri="http://schemas.openxmlformats.org/drawingml/2006/table">
            <a:tbl>
              <a:tblPr/>
              <a:tblGrid>
                <a:gridCol w="3797280"/>
                <a:gridCol w="2432160"/>
                <a:gridCol w="2076480"/>
              </a:tblGrid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eneral Public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1,555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ack of time of HK peopl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oor economic condition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ack of resourc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ack of atmosphere for volunteer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ack of care for others of HK people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Insufficient assistance from the governmen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Insufficient promotio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Influence of the mass media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’t know / hard to say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019920" y="2057400"/>
            <a:ext cx="304560" cy="228600"/>
          </a:xfrm>
          <a:prstGeom prst="wedgeRoundRectCallout">
            <a:avLst>
              <a:gd name="adj1" fmla="val -109375"/>
              <a:gd name="adj2" fmla="val -34722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2362320"/>
            <a:ext cx="304560" cy="228600"/>
          </a:xfrm>
          <a:prstGeom prst="wedgeRoundRectCallout">
            <a:avLst>
              <a:gd name="adj1" fmla="val -115106"/>
              <a:gd name="adj2" fmla="val -39583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743200"/>
            <a:ext cx="304920" cy="228600"/>
          </a:xfrm>
          <a:prstGeom prst="wedgeRoundRectCallout">
            <a:avLst>
              <a:gd name="adj1" fmla="val -113541"/>
              <a:gd name="adj2" fmla="val -13194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53280" y="2743200"/>
            <a:ext cx="304920" cy="228600"/>
          </a:xfrm>
          <a:prstGeom prst="wedgeRoundRectCallout">
            <a:avLst>
              <a:gd name="adj1" fmla="val -96875"/>
              <a:gd name="adj2" fmla="val 13888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53280" y="1981080"/>
            <a:ext cx="304920" cy="228600"/>
          </a:xfrm>
          <a:prstGeom prst="wedgeRoundRectCallout">
            <a:avLst>
              <a:gd name="adj1" fmla="val -102083"/>
              <a:gd name="adj2" fmla="val 7638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53280" y="2362320"/>
            <a:ext cx="304920" cy="228600"/>
          </a:xfrm>
          <a:prstGeom prst="wedgeRoundRectCallout">
            <a:avLst>
              <a:gd name="adj1" fmla="val -81773"/>
              <a:gd name="adj2" fmla="val 13194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Ways to Promote Volunteer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295280"/>
          <a:ext cx="7391160" cy="4999320"/>
        </p:xfrm>
        <a:graphic>
          <a:graphicData uri="http://schemas.openxmlformats.org/drawingml/2006/table">
            <a:tbl>
              <a:tblPr/>
              <a:tblGrid>
                <a:gridCol w="3735360"/>
                <a:gridCol w="1828800"/>
                <a:gridCol w="18270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1,555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improve the economic conditions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inject more resources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cultivate the atmosphere for volunteering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re promotion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re governmental assistance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cultivate the care for others among HK peopl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improve the conduct of the mass media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re civic education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re compliments to the volunteers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thers (please specify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't know / hard to say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248520" y="1981080"/>
            <a:ext cx="304560" cy="228600"/>
          </a:xfrm>
          <a:prstGeom prst="wedgeRoundRectCallout">
            <a:avLst>
              <a:gd name="adj1" fmla="val -95833"/>
              <a:gd name="adj2" fmla="val -22916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2286000"/>
            <a:ext cx="304560" cy="228600"/>
          </a:xfrm>
          <a:prstGeom prst="wedgeRoundRectCallout">
            <a:avLst>
              <a:gd name="adj1" fmla="val -66666"/>
              <a:gd name="adj2" fmla="val 4861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2666880"/>
            <a:ext cx="304920" cy="228600"/>
          </a:xfrm>
          <a:prstGeom prst="wedgeRoundRectCallout">
            <a:avLst>
              <a:gd name="adj1" fmla="val -104166"/>
              <a:gd name="adj2" fmla="val -17361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2590920"/>
            <a:ext cx="304560" cy="228600"/>
          </a:xfrm>
          <a:prstGeom prst="wedgeRoundRectCallout">
            <a:avLst>
              <a:gd name="adj1" fmla="val -135416"/>
              <a:gd name="adj2" fmla="val 2777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3505320"/>
            <a:ext cx="304560" cy="228600"/>
          </a:xfrm>
          <a:prstGeom prst="wedgeRoundRectCallout">
            <a:avLst>
              <a:gd name="adj1" fmla="val -83333"/>
              <a:gd name="adj2" fmla="val -694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2286000"/>
            <a:ext cx="304560" cy="228600"/>
          </a:xfrm>
          <a:prstGeom prst="wedgeRoundRectCallout">
            <a:avLst>
              <a:gd name="adj1" fmla="val -80731"/>
              <a:gd name="adj2" fmla="val -20833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Most Preferred Supporting Body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600200"/>
          <a:ext cx="8077320" cy="2859120"/>
        </p:xfrm>
        <a:graphic>
          <a:graphicData uri="http://schemas.openxmlformats.org/drawingml/2006/table">
            <a:tbl>
              <a:tblPr/>
              <a:tblGrid>
                <a:gridCol w="3598920"/>
                <a:gridCol w="2238480"/>
                <a:gridCol w="223992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eneral Public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1,555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he governmen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eople in Hong Ko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n-government organization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ll of the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't know / hard to say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609480" y="4724280"/>
            <a:ext cx="883944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*Opinion from focus groups: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Genuine support from government is indispensable (volunteers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ore civic education needed (volunteers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Additional resources from government and all walks of life urged (service recipients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2362320"/>
            <a:ext cx="304560" cy="228600"/>
          </a:xfrm>
          <a:prstGeom prst="wedgeRoundRectCallout">
            <a:avLst>
              <a:gd name="adj1" fmla="val -102606"/>
              <a:gd name="adj2" fmla="val 0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2743200"/>
            <a:ext cx="304560" cy="228600"/>
          </a:xfrm>
          <a:prstGeom prst="wedgeRoundRectCallout">
            <a:avLst>
              <a:gd name="adj1" fmla="val -63023"/>
              <a:gd name="adj2" fmla="val -76388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3124080"/>
            <a:ext cx="304560" cy="228600"/>
          </a:xfrm>
          <a:prstGeom prst="wedgeRoundRectCallout">
            <a:avLst>
              <a:gd name="adj1" fmla="val -90106"/>
              <a:gd name="adj2" fmla="val -11111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3124080"/>
            <a:ext cx="304560" cy="228600"/>
          </a:xfrm>
          <a:prstGeom prst="wedgeRoundRectCallout">
            <a:avLst>
              <a:gd name="adj1" fmla="val -100523"/>
              <a:gd name="adj2" fmla="val -13194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53280" y="3429000"/>
            <a:ext cx="304920" cy="228600"/>
          </a:xfrm>
          <a:prstGeom prst="wedgeRoundRectCallout">
            <a:avLst>
              <a:gd name="adj1" fmla="val -115625"/>
              <a:gd name="adj2" fmla="val -13194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24680" y="2362320"/>
            <a:ext cx="304920" cy="228600"/>
          </a:xfrm>
          <a:prstGeom prst="wedgeRoundRectCallout">
            <a:avLst>
              <a:gd name="adj1" fmla="val -81250"/>
              <a:gd name="adj2" fmla="val -11805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erceived Social Status of Volunteer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14400" y="2514600"/>
          <a:ext cx="7238880" cy="2678040"/>
        </p:xfrm>
        <a:graphic>
          <a:graphicData uri="http://schemas.openxmlformats.org/drawingml/2006/table">
            <a:tbl>
              <a:tblPr/>
              <a:tblGrid>
                <a:gridCol w="2879640"/>
                <a:gridCol w="2024280"/>
                <a:gridCol w="2334960"/>
              </a:tblGrid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eneral Public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1,555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spectabl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6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n-essentia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t respected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't know / hard to say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533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Nature of Volunteering Service </a:t>
            </a:r>
            <a:br>
              <a:rPr sz="2600"/>
            </a:b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09480" y="1371600"/>
          <a:ext cx="7925040" cy="495000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eive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*Service Neede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1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Recreational activiti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</a:t>
                      </a: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Visit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Clerical work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Promotion and community-educatio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Escorting servic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Homework tutor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Counsel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Skill coach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Labour work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Don't know / hard to say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990720" y="60958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3244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Excluding those who are certain that they would not deploy volunteers agai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334120" y="2057400"/>
            <a:ext cx="2743200" cy="990720"/>
            <a:chOff x="5334120" y="2057400"/>
            <a:chExt cx="2743200" cy="990720"/>
          </a:xfrm>
        </p:grpSpPr>
        <p:sp>
          <p:nvSpPr>
            <p:cNvPr id="180" name=""/>
            <p:cNvSpPr/>
            <p:nvPr/>
          </p:nvSpPr>
          <p:spPr>
            <a:xfrm>
              <a:off x="7772400" y="2057400"/>
              <a:ext cx="304920" cy="228600"/>
            </a:xfrm>
            <a:prstGeom prst="wedgeRoundRectCallout">
              <a:avLst>
                <a:gd name="adj1" fmla="val -104166"/>
                <a:gd name="adj2" fmla="val -6250"/>
                <a:gd name="adj3" fmla="val 16667"/>
              </a:avLst>
            </a:prstGeom>
            <a:noFill/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72400" y="2438280"/>
              <a:ext cx="304920" cy="228600"/>
            </a:xfrm>
            <a:prstGeom prst="wedgeRoundRectCallout">
              <a:avLst>
                <a:gd name="adj1" fmla="val -91666"/>
                <a:gd name="adj2" fmla="val -694"/>
                <a:gd name="adj3" fmla="val 16667"/>
              </a:avLst>
            </a:prstGeom>
            <a:noFill/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72400" y="2819520"/>
              <a:ext cx="304920" cy="228600"/>
            </a:xfrm>
            <a:prstGeom prst="wedgeRoundRectCallout">
              <a:avLst>
                <a:gd name="adj1" fmla="val -79166"/>
                <a:gd name="adj2" fmla="val -6250"/>
                <a:gd name="adj3" fmla="val 16667"/>
              </a:avLst>
            </a:prstGeom>
            <a:noFill/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4120" y="2057400"/>
              <a:ext cx="304560" cy="228600"/>
            </a:xfrm>
            <a:prstGeom prst="wedgeRoundRectCallout">
              <a:avLst>
                <a:gd name="adj1" fmla="val -108333"/>
                <a:gd name="adj2" fmla="val 15972"/>
                <a:gd name="adj3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34120" y="2438280"/>
              <a:ext cx="304560" cy="228600"/>
            </a:xfrm>
            <a:prstGeom prst="wedgeRoundRectCallout">
              <a:avLst>
                <a:gd name="adj1" fmla="val -104166"/>
                <a:gd name="adj2" fmla="val -6250"/>
                <a:gd name="adj3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4120" y="2819520"/>
              <a:ext cx="304560" cy="228600"/>
            </a:xfrm>
            <a:prstGeom prst="wedgeRoundRectCallout">
              <a:avLst>
                <a:gd name="adj1" fmla="val -95833"/>
                <a:gd name="adj2" fmla="val -6250"/>
                <a:gd name="adj3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Evaluation of Provider Agencies and the Local Culture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920" y="7621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  <a:ea typeface="細明體"/>
              </a:rPr>
              <a:t>Evaluation of Service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細明體"/>
              </a:rPr>
              <a:t>(Base = 204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62120" y="1752480"/>
          <a:ext cx="7778520" cy="421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78520" cy="42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  <a:ea typeface="細明體"/>
              </a:rPr>
              <a:t>Satisfaction with Various Aspects of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  <a:ea typeface="細明體"/>
              </a:rPr>
              <a:t>Provider Agencie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細明體"/>
              </a:rPr>
              <a:t>(Base = 150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43000" y="1676520"/>
          <a:ext cx="8001000" cy="410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8001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6094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細明體"/>
              </a:rPr>
              <a:t>Evaluation of the Influence of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細明體"/>
              </a:rPr>
              <a:t>Government Policies and Local Cultu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細明體"/>
              </a:rPr>
              <a:t>(Base = 204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1600200"/>
          <a:ext cx="7619760" cy="44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61976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Other Topics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2742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verview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80880" y="2781360"/>
          <a:ext cx="721368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781360"/>
                    <a:ext cx="72136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752480" y="152280"/>
          <a:ext cx="7101000" cy="395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52280"/>
                    <a:ext cx="710100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143000" y="0"/>
            <a:ext cx="6705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General Motivations for 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(Base = 1,555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152280" y="3200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General Hindrances for 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(Base = 1,555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hannels for Learning about Ways to Volunte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 ]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348)</a:t>
            </a:r>
            <a:r>
              <a:rPr b="1" lang="en-US" sz="4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3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600200"/>
          <a:ext cx="8763120" cy="48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76312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Need for Training before Volunteering</a:t>
            </a:r>
            <a:br>
              <a:rPr sz="3600"/>
            </a:b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43000" y="1143000"/>
          <a:ext cx="7238880" cy="39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723888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533520" y="11430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zh-TW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4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]</a:t>
            </a:r>
            <a:r>
              <a:rPr b="1" lang="zh-TW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(Base = 348)</a:t>
            </a: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4876920"/>
            <a:ext cx="746748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*Opinion from focus groups: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Success of volunteer services greatly enhanced by adequate training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egular training programs for potential and existing volunteers urged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26668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urvey of General Public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Over 60% of HK people had ever participated in any form         of volunteer work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Two-fifth of respondents volunteered over the past 12 months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The majority of those who had volunteered  would continue       to volunteer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Half of those who had never volunteered would consider       volunteering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Most people positively assessed volunteers and thought that       volunteers were being respected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Helping others and serving the community were perceived as       the motivations for volunteering, while a waste of time as the       major hindrance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urvey of Service Recipi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2133720"/>
            <a:ext cx="7238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our-fifths of organization representatives had ever received volunteering service within one month ag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ervice recipients deployed 237 volunteers on average in the past year, each volunteer provided an average of 25 service hou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Volunteer services received and needed in future were      mainly recreational activities and visit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rangement of volunteering service provided by volunteer provider agencies and the performance of volunteers      positively evaluat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ocus Group Discussion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2133720"/>
            <a:ext cx="7239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ommunications and mutual understand between volunteer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nd organizations considered importan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Post-service follow-ups and training needed for volunte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evelopment of systematic database of volunteers called fo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chools as superlative bases for promoting volunteeris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upport from government (more resources) urg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More research on volunteerism to be initiat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828800" y="26668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Thank you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19320" y="152388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tage One: Quantitative telephone survey of the general public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tage Two: Quantitative telephone survey of the service recipients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tage Three: Qualitative focus group studi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ontact Information of Telephone Survey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62120" y="1600200"/>
          <a:ext cx="7619760" cy="4657680"/>
        </p:xfrm>
        <a:graphic>
          <a:graphicData uri="http://schemas.openxmlformats.org/drawingml/2006/table">
            <a:tbl>
              <a:tblPr/>
              <a:tblGrid>
                <a:gridCol w="2361960"/>
                <a:gridCol w="2895840"/>
                <a:gridCol w="2361960"/>
              </a:tblGrid>
              <a:tr h="60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ge On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ge Two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te of fieldwork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8/9 – 5/10/200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4/10 – 5/11/200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 555 successful cas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4 successful cas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sponse rat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4.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7.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&lt; 1.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&lt; 3.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arget populatio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Times New Roman"/>
                        </a:rPr>
                        <a:t>Cantonese-speakers aged 15 or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ation representativ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search metho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andom telephone survey with interview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elephone survey with interview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6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Weighting metho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djusted according to age-sex distribution reported in 2001 Censu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t applie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formation of Focus Group Studies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905120"/>
          <a:ext cx="7772400" cy="3848040"/>
        </p:xfrm>
        <a:graphic>
          <a:graphicData uri="http://schemas.openxmlformats.org/drawingml/2006/table">
            <a:tbl>
              <a:tblPr/>
              <a:tblGrid>
                <a:gridCol w="2716200"/>
                <a:gridCol w="2389320"/>
                <a:gridCol w="2666880"/>
              </a:tblGrid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Voluntee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te of fieldwork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/12/2001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1/01/200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ample siz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arget population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ff"/>
                          </a:solidFill>
                          <a:latin typeface="Times New Roman"/>
                        </a:rPr>
                        <a:t>Voluntee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ation representativ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search method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Focus group discussions with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d moderato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98560" y="15667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220968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Participation: Actua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nd Intend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-360" y="1066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xperience of Participating in </a:t>
            </a:r>
            <a:br>
              <a:rPr sz="3200"/>
            </a:b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Volunteering</a:t>
            </a:r>
            <a:br>
              <a:rPr sz="32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Base=1,555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2743200"/>
          <a:ext cx="7924680" cy="2895480"/>
        </p:xfrm>
        <a:graphic>
          <a:graphicData uri="http://schemas.openxmlformats.org/drawingml/2006/table">
            <a:tbl>
              <a:tblPr/>
              <a:tblGrid>
                <a:gridCol w="914040"/>
                <a:gridCol w="2667240"/>
                <a:gridCol w="1828800"/>
                <a:gridCol w="251460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in Organized Volunteering only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in Mutual Aid only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in EITHER Organized Volunteering or Mutual Aid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5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4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Last Participation in Volunteering</a:t>
            </a:r>
            <a:r>
              <a:rPr b="1" lang="en-US" sz="2800" spc="-1" strike="noStrike">
                <a:solidFill>
                  <a:srgbClr val="ccffff"/>
                </a:solidFill>
                <a:latin typeface="新細明體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01640" y="692280"/>
          <a:ext cx="7245360" cy="56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692280"/>
                    <a:ext cx="72453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57200" y="1847880"/>
          <a:ext cx="8686800" cy="5010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847880"/>
                    <a:ext cx="86868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981080"/>
            <a:ext cx="373356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rganized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Base = 348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4648320"/>
            <a:ext cx="373392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tual Ai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Base = 859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alvinchan</cp:lastModifiedBy>
  <cp:lastPrinted>2001-04-04T10:00:24Z</cp:lastPrinted>
  <dcterms:modified xsi:type="dcterms:W3CDTF">2003-04-09T02:13:04Z</dcterms:modified>
  <cp:revision>616</cp:revision>
  <dc:subject/>
  <dc:title>無投影片標題</dc:title>
</cp:coreProperties>
</file>